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1120" y="102672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E71F-5245-4DED-B125-57A7AB877DFA}" type="slidenum">
              <a:rPr b="0" lang="es-ES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1F48-D4BD-4962-AB40-BE688508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B467-AC1E-4324-9849-55C41732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09AC-34D8-4C65-8C86-D9AC79B6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1D44-5148-43A9-96A1-DAC46668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972-1FE5-46CD-8901-15FB5A72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F84-7DC2-4B12-81A3-175ABA37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8688-2747-49F7-AB2D-74247847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C86-D818-4A89-8245-30E9CA5F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6F8E-C230-4E49-B018-427FD75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72F-F3B0-4110-B615-E63189B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F125-3C40-4210-9CE8-155EC0DE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CDB6-5A1A-4B4A-8281-DA5E907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6B78-D53B-48FE-8C42-96A8933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FA5E-8B88-450F-955A-A589492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60C6-A6CA-42ED-A2AD-B70B2B32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A978-B70A-4711-82DE-58376ABD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F63B-E26E-4EE4-A47F-273D791C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AD25-0B59-4384-B68D-49FA3710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11F5-F5FD-4D93-99BF-A34D6CB2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7BEB-6773-4689-B08C-D6766EF7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5D0F-D658-41AF-8B6A-43C871E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11B4-CD88-428F-A9D4-A1688765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AEE5-320A-49B3-86B3-64B3C55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A791-7AD1-4C6F-BAC0-472FD31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96ED-3AB8-4123-B900-175EAB9BDCD5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2D3E-20FA-4B6A-BEA8-F1D55550AD1F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TRANSPORT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11280" y="1636560"/>
            <a:ext cx="9001080" cy="572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ailla.wmv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Scraper%20in%20camp"/>
          <p:cNvPicPr/>
          <p:nvPr/>
        </p:nvPicPr>
        <p:blipFill>
          <a:blip r:embed="rId1"/>
          <a:srcRect l="0" t="26770" r="757" b="22849"/>
          <a:stretch/>
        </p:blipFill>
        <p:spPr>
          <a:xfrm>
            <a:off x="1655640" y="1547640"/>
            <a:ext cx="6840720" cy="26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raper"/>
          <p:cNvPicPr/>
          <p:nvPr/>
        </p:nvPicPr>
        <p:blipFill>
          <a:blip r:embed="rId2"/>
          <a:stretch/>
        </p:blipFill>
        <p:spPr>
          <a:xfrm>
            <a:off x="5327640" y="4356000"/>
            <a:ext cx="439272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aper"/>
          <p:cNvPicPr/>
          <p:nvPr/>
        </p:nvPicPr>
        <p:blipFill>
          <a:blip r:embed="rId3"/>
          <a:srcRect l="11018" t="7468" r="11018" b="29515"/>
          <a:stretch/>
        </p:blipFill>
        <p:spPr>
          <a:xfrm>
            <a:off x="287280" y="4356000"/>
            <a:ext cx="4753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47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propulsados, empujad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e cargan, transportan y botan la carga solos, no dependen de otros equipos (si fallan no paralizan la obr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on menos eficientes que cada uno de los equipos específicos de carguío o transporte. Son eficientes en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situaciones especiales, transporte entre 150 y 1000m de transporte fuera de carreter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Capacidad de aprox. 10 a 60</a:t>
            </a: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 Ton, 8 a 40 m3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5740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ip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vencional (empujado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Simple (con tracto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 (</a:t>
            </a: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os motores o dos traíllas enganchadas</a:t>
            </a: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carg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levantes (sistema de carga propio = peso muerto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De taladro o tornillo (similar al elevant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iskin%20Elevator"/>
          <p:cNvPicPr/>
          <p:nvPr/>
        </p:nvPicPr>
        <p:blipFill>
          <a:blip r:embed="rId1"/>
          <a:stretch/>
        </p:blipFill>
        <p:spPr>
          <a:xfrm>
            <a:off x="6553080" y="5364000"/>
            <a:ext cx="31687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5-26T14:51:12Z</dcterms:modified>
  <cp:revision>15</cp:revision>
  <dc:subject/>
  <dc:title>CI 52A</dc:title>
</cp:coreProperties>
</file>