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311120" y="102672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4402080" y="9553680"/>
            <a:ext cx="3368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BCBE-125B-46A7-AC02-1CDE455324B8}" type="slidenum">
              <a:rPr b="0" lang="es-ES" sz="18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3E2FD-6CB1-421A-A055-A819FEE52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FE6FC-87BE-4EA3-A71E-DDDDA70A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4EC3F-8BB3-406A-8C45-D167D0713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6A01E-4DE2-4103-8847-9DEF8986D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5EA42-01A4-43AF-8681-161397017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2F6C-79C8-49A4-8B0D-4D7E9C66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ED1D-1A13-4F73-B34B-DE8FFD8B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61AA-7D33-4155-B966-1C9E2CA0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89D5-AA49-4178-A880-3AF5CC79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58B59-0D49-4CA6-BFCC-31014154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C29A-9627-48F1-B6AE-E8B25D22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295B6-038A-49BB-957B-3D1F5412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790C-7326-4E56-B172-B6174D21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CEF2-4507-4DD7-8F20-7CE54861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2F7B-F8F9-4643-896A-60B7EC07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A9D46-99FE-4184-898B-DE285E731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A784-62E2-4BB2-86D5-7A7CDD4F9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7CB69-B400-4FF6-8130-4B22D8C5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1936C-BDAA-4A3B-AF6B-B90C788F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69B10-9948-4CDA-A19C-C3E51A5D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E2923-50C7-4E63-934A-6336B204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6AC4C-894C-4197-8E78-79E916AE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CA6DC-3EDD-4A53-B305-367AC7A1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A71FF-E711-4039-A9E4-302CB15C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5116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480" y="688788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B31C-93B7-416C-85E1-310ED0D1135B}" type="slidenum">
              <a:rPr b="0" lang="es-E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3" name="Group 5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3024000" y="4626000"/>
                <a:ext cx="5047200" cy="29235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7297920" y="4673160"/>
                <a:ext cx="2211480" cy="14191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5074920" y="5854320"/>
                <a:ext cx="4985640" cy="169524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808880" y="3902040"/>
                <a:ext cx="5262480" cy="364752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876800" y="4053960"/>
                <a:ext cx="2183760" cy="94284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814000" y="2346120"/>
              <a:ext cx="3193920" cy="26892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10077120" cy="3107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840" y="688788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51" name="Group 3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3024000" y="4626000"/>
                <a:ext cx="5047200" cy="29235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7297920" y="4673160"/>
                <a:ext cx="2211480" cy="14191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5074920" y="5854320"/>
                <a:ext cx="4985640" cy="169524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808880" y="3902040"/>
                <a:ext cx="5262480" cy="364752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876800" y="4053960"/>
                <a:ext cx="2183760" cy="94284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814000" y="2346120"/>
              <a:ext cx="3193920" cy="26892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10077120" cy="3107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44840" y="6891120"/>
            <a:ext cx="319104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224480" y="6894360"/>
            <a:ext cx="23526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2E04-3597-455F-ADD2-857812B279D0}" type="slidenum">
              <a:rPr b="0" lang="es-E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6600" spc="-1" strike="noStrike">
                <a:solidFill>
                  <a:srgbClr val="e5e5ff"/>
                </a:solidFill>
                <a:latin typeface="Garamond"/>
              </a:rPr>
              <a:t>CI 52A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Times New Roman"/>
              </a:rPr>
              <a:t>Maquinarias para Movimento de Tierras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Times New Roman"/>
              </a:rPr>
              <a:t>Excavación y Transporte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TRANSPORTE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611280" y="1636560"/>
            <a:ext cx="9001080" cy="5720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railla.wmv" descr=""/>
          <p:cNvPicPr/>
          <p:nvPr/>
        </p:nvPicPr>
        <p:blipFill>
          <a:blip r:embed="rId1"/>
          <a:stretch/>
        </p:blipFill>
        <p:spPr>
          <a:xfrm>
            <a:off x="3516480" y="2637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TRAÍLL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9" name="Picture 3" descr="Scraper%20in%20camp"/>
          <p:cNvPicPr/>
          <p:nvPr/>
        </p:nvPicPr>
        <p:blipFill>
          <a:blip r:embed="rId1"/>
          <a:srcRect l="0" t="26770" r="757" b="22849"/>
          <a:stretch/>
        </p:blipFill>
        <p:spPr>
          <a:xfrm>
            <a:off x="1655640" y="1547640"/>
            <a:ext cx="6840720" cy="2605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scraper"/>
          <p:cNvPicPr/>
          <p:nvPr/>
        </p:nvPicPr>
        <p:blipFill>
          <a:blip r:embed="rId2"/>
          <a:stretch/>
        </p:blipFill>
        <p:spPr>
          <a:xfrm>
            <a:off x="5327640" y="4356000"/>
            <a:ext cx="4392720" cy="2857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scraper"/>
          <p:cNvPicPr/>
          <p:nvPr/>
        </p:nvPicPr>
        <p:blipFill>
          <a:blip r:embed="rId3"/>
          <a:srcRect l="11018" t="7468" r="11018" b="29515"/>
          <a:stretch/>
        </p:blipFill>
        <p:spPr>
          <a:xfrm>
            <a:off x="287280" y="4356000"/>
            <a:ext cx="4753080" cy="28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TRAÍLL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864720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51360" indent="-351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Garamond"/>
              </a:rPr>
              <a:t>Descripción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761400" indent="-29340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Autopropulsados, empujados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761400" indent="-29340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Se cargan, transportan y botan la carga solos, no dependen de otros equipos (si fallan no paralizan la obra)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761400" indent="-29340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Son menos eficientes que cada uno de los equipos específicos de carguío o transporte. Son eficientes en </a:t>
            </a:r>
            <a:r>
              <a:rPr b="0" lang="es-CL" sz="3100" spc="-1" strike="noStrike">
                <a:solidFill>
                  <a:srgbClr val="ffffff"/>
                </a:solidFill>
                <a:latin typeface="Garamond"/>
              </a:rPr>
              <a:t>situaciones especiales, transporte entre 150 y 1000m de transporte fuera de carretera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761400" indent="-29340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Garamond"/>
              </a:rPr>
              <a:t>Capacidad de aprox. 10 a 60</a:t>
            </a: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 Ton, 8 a 40 m3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TRAÍLL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574020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Garamond"/>
              </a:rPr>
              <a:t>Tipos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Convencional (empujado)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Garamond"/>
              </a:rPr>
              <a:t>Simple (con tractor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Garamond"/>
              </a:rPr>
              <a:t>En tándem (</a:t>
            </a: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dos motores o dos traíllas enganchadas</a:t>
            </a:r>
            <a:r>
              <a:rPr b="0" lang="en-GB" sz="26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Autocarga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Garamond"/>
              </a:rPr>
              <a:t>En tándem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Garamond"/>
              </a:rPr>
              <a:t>Elevantes (sistema de carga propio = peso muerto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Garamond"/>
              </a:rPr>
              <a:t>De taladro o tornillo (similar al elevante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4" descr="Miskin%20Elevator"/>
          <p:cNvPicPr/>
          <p:nvPr/>
        </p:nvPicPr>
        <p:blipFill>
          <a:blip r:embed="rId1"/>
          <a:stretch/>
        </p:blipFill>
        <p:spPr>
          <a:xfrm>
            <a:off x="6553080" y="5364000"/>
            <a:ext cx="3168720" cy="1592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lliam Wragg</cp:lastModifiedBy>
  <dcterms:modified xsi:type="dcterms:W3CDTF">2009-05-26T14:51:12Z</dcterms:modified>
  <cp:revision>15</cp:revision>
  <dc:subject/>
  <dc:title>CI 52A</dc:title>
</cp:coreProperties>
</file>