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11120" y="102672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402080" y="9553680"/>
            <a:ext cx="336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3143-1875-49E6-BE36-6E826FF8E92F}" type="slidenum">
              <a:rPr b="0" lang="es-ES" sz="18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5DF32-F1AA-4185-B847-AD0CD934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B08C5-92E1-4E23-9B47-FA2C8326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91E70-E782-4A2F-A54F-55C27260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40F9E-BAA5-4144-820F-3268E943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2582-089F-401D-A36D-F3C97F12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022C-923B-4A80-8161-A5AE7669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3252-D531-421A-BAA9-C54F435D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05B3-3E48-4463-B2DA-92669C5B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6266-D07F-4D68-B760-2B7A1673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3112-C644-4CF3-BECD-F4BDAFA6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F6E1-A272-4F63-AE3B-960DD490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A8C21-F17C-4E33-8993-E71352DE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1D52-C87B-48CE-9999-0715B130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2095-8507-4698-BCC8-4DA7B1F8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6E11-5B35-4503-BE0B-ADBFB453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B376-2E3A-4A6E-AD75-1D4BDB96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777A-302A-44AC-AAE6-1C706EF5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8C300-B2B1-4B91-9AB0-1E595026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C8ED5-24CB-45AF-8C19-505A6D8B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58E8B-0234-4FC9-AEAA-F2C36365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D15B5-3ED6-4B7A-86C2-8CB9BA39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6B3BD-44D0-478E-81D0-B01EA69D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E2FEA-E522-4ACE-9C8F-BEDB756D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F37B-02C2-49EF-B0CF-D36D4EDA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3F9D-EB2D-44E8-9411-22864BE79BAA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1148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1148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CCA3-654F-441B-944C-E1A57E5DDB9C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Maquinarias para Movim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Excavación y Transport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TRANSPORT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11280" y="1636560"/>
            <a:ext cx="9001080" cy="572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railla.wmv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3" descr="Scraper%20in%20camp"/>
          <p:cNvPicPr/>
          <p:nvPr/>
        </p:nvPicPr>
        <p:blipFill>
          <a:blip r:embed="rId1"/>
          <a:srcRect l="0" t="26770" r="757" b="22849"/>
          <a:stretch/>
        </p:blipFill>
        <p:spPr>
          <a:xfrm>
            <a:off x="1655640" y="1547640"/>
            <a:ext cx="6840720" cy="2605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scraper"/>
          <p:cNvPicPr/>
          <p:nvPr/>
        </p:nvPicPr>
        <p:blipFill>
          <a:blip r:embed="rId2"/>
          <a:stretch/>
        </p:blipFill>
        <p:spPr>
          <a:xfrm>
            <a:off x="5327640" y="4356000"/>
            <a:ext cx="4392720" cy="2857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scraper"/>
          <p:cNvPicPr/>
          <p:nvPr/>
        </p:nvPicPr>
        <p:blipFill>
          <a:blip r:embed="rId3"/>
          <a:srcRect l="11018" t="7468" r="11018" b="29515"/>
          <a:stretch/>
        </p:blipFill>
        <p:spPr>
          <a:xfrm>
            <a:off x="287280" y="4356000"/>
            <a:ext cx="47530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472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1360" indent="-351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Descrip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Autopropulsados, empujad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Se cargan, transportan y botan la carga solos, no dependen de otros equipos (si fallan no paralizan la obra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Son menos eficientes que cada uno de los equipos específicos de carguío o transporte. Son eficientes en </a:t>
            </a: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situaciones especiales, transporte entre 150 y 1000m de transporte fuera de carreter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Capacidad de aprox. 10 a 60</a:t>
            </a: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 Ton, 8 a 40 m3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57402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Tip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Convencional (empujado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Simple (con tractor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n tándem (</a:t>
            </a: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dos motores o dos traíllas enganchadas</a:t>
            </a: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Autocarga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n tánde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levantes (sistema de carga propio = peso muerto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De taladro o tornillo (similar al elevante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Miskin%20Elevator"/>
          <p:cNvPicPr/>
          <p:nvPr/>
        </p:nvPicPr>
        <p:blipFill>
          <a:blip r:embed="rId1"/>
          <a:stretch/>
        </p:blipFill>
        <p:spPr>
          <a:xfrm>
            <a:off x="6553080" y="5364000"/>
            <a:ext cx="3168720" cy="159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5-26T14:51:12Z</dcterms:modified>
  <cp:revision>15</cp:revision>
  <dc:subject/>
  <dc:title>CI 52A</dc:title>
</cp:coreProperties>
</file>