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1120" y="102672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973C-8407-427B-A1DF-40A41ECF9256}" type="slidenum">
              <a:rPr b="0" lang="es-ES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5DFD-50EE-45C9-93BD-C229EE54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B957-ECE9-4476-850D-71E80E3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9771-FA1B-4981-9313-503A0367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4E20-2C51-4111-85E1-F28D84BA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E758-CDBD-40AF-A731-BB719D10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CE23-0F90-4695-9EA1-E4FFF13C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3734-F079-4EF9-B25D-04B18FA5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780A-21FF-47A5-8E0A-EE8F7626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2F00-D7DB-45D6-B9AD-1518905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E266-2EE7-4FC5-BC3B-CE35E821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A55-01AD-4FFB-A5C6-5DC72438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4B73-D3FE-4FCC-8670-E762843C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33D6-F59B-4C09-9CB7-6D6A816E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0F1-911F-4B01-86FA-1C3F7A33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B7A-C0A1-4E41-A9EE-1E32978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17B2-A290-4E22-97EB-C0559E12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333D-2013-45D6-BA56-5ECCFAF6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DE2C-1508-4A7E-BA30-6083153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455E-AFC1-45E8-9E12-18D67C3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287D-97FF-4F70-A580-5BEB2F1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B431-CDDF-441E-979E-E1B64F61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E264-7E31-477D-9B87-6ABF842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4E86-B7A1-4BF5-B910-733CE16E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8581-BFD8-4B5D-9EA2-4E703E1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6393-2886-4598-B586-A53EB491B73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C913-EA00-4EE2-AD8A-C3EC387FE518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TRANSPORT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11280" y="1636560"/>
            <a:ext cx="9001080" cy="572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ailla.wmv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Scraper%20in%20camp"/>
          <p:cNvPicPr/>
          <p:nvPr/>
        </p:nvPicPr>
        <p:blipFill>
          <a:blip r:embed="rId1"/>
          <a:srcRect l="0" t="26770" r="757" b="22849"/>
          <a:stretch/>
        </p:blipFill>
        <p:spPr>
          <a:xfrm>
            <a:off x="1655640" y="1547640"/>
            <a:ext cx="6840720" cy="26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raper"/>
          <p:cNvPicPr/>
          <p:nvPr/>
        </p:nvPicPr>
        <p:blipFill>
          <a:blip r:embed="rId2"/>
          <a:stretch/>
        </p:blipFill>
        <p:spPr>
          <a:xfrm>
            <a:off x="5327640" y="4356000"/>
            <a:ext cx="439272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aper"/>
          <p:cNvPicPr/>
          <p:nvPr/>
        </p:nvPicPr>
        <p:blipFill>
          <a:blip r:embed="rId3"/>
          <a:srcRect l="11018" t="7468" r="11018" b="29515"/>
          <a:stretch/>
        </p:blipFill>
        <p:spPr>
          <a:xfrm>
            <a:off x="287280" y="4356000"/>
            <a:ext cx="4753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47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propulsados, empujad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e cargan, transportan y botan la carga solos, no dependen de otros equipos (si fallan no paralizan la obr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on menos eficientes que cada uno de los equipos específicos de carguío o transporte. Son eficientes en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situaciones especiales, transporte entre 150 y 1000m de transporte fuera de carreter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Capacidad de aprox. 10 a 60</a:t>
            </a: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 Ton, 8 a 40 m3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5740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ip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vencional (empujado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Simple (con tracto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 (</a:t>
            </a: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os motores o dos traíllas enganchadas</a:t>
            </a: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carg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levantes (sistema de carga propio = peso muerto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De taladro o tornillo (similar al elevant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iskin%20Elevator"/>
          <p:cNvPicPr/>
          <p:nvPr/>
        </p:nvPicPr>
        <p:blipFill>
          <a:blip r:embed="rId1"/>
          <a:stretch/>
        </p:blipFill>
        <p:spPr>
          <a:xfrm>
            <a:off x="6553080" y="5364000"/>
            <a:ext cx="31687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5-26T14:51:12Z</dcterms:modified>
  <cp:revision>15</cp:revision>
  <dc:subject/>
  <dc:title>CI 52A</dc:title>
</cp:coreProperties>
</file>