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12.jpeg" ContentType="image/jpe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CF8-A449-4D77-B09B-9F20710C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40B-E7CC-4EF8-83CD-7EA1256E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4D5-0401-4A1B-BEAD-100C090E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BE7-F57A-4496-B8CF-1D3D508A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C3A-DE3D-484F-9EA0-7FCA553D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021-6D28-4EA9-A808-1D759665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16C-A58A-439A-8C44-949EBD9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EBF-6DCC-4A06-AB0E-3BA00F85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575-5504-4D46-9CEC-89ED335C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136-6755-497B-9093-5A854B5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65E-D192-4687-BACC-76A86CC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F3E-D679-414D-9461-09BB8318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5F21-7300-48F9-A02B-553B97173EA7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e Nº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Fórmula Aproximada de la Potenc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68360" y="3068640"/>
                <a:ext cx="82818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ilindrad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Compresió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otenci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395280" y="465300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determinación exacta de la potencia de un motor se hace en un banco de pruebas y puede ser medida con o sin accesorios (SAE o D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95280" y="177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nidades de Potencia = F/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97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tor Diesel (2,7litr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tor Bencinero (2,0litr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4643280" y="2492280"/>
                <a:ext cx="3816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7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2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4610160" y="4221000"/>
                <a:ext cx="38829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0</m:t>
                        </m:r>
                        <m:r>
                          <m:t xml:space="preserve">·</m:t>
                        </m:r>
                        <m:r>
                          <m:t xml:space="preserve">9,5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urbocompres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4" descr="turbo-housing"/>
          <p:cNvPicPr/>
          <p:nvPr/>
        </p:nvPicPr>
        <p:blipFill>
          <a:blip r:embed="rId1"/>
          <a:stretch/>
        </p:blipFill>
        <p:spPr>
          <a:xfrm>
            <a:off x="0" y="1052640"/>
            <a:ext cx="318924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turbo-plumbing"/>
          <p:cNvPicPr/>
          <p:nvPr/>
        </p:nvPicPr>
        <p:blipFill>
          <a:blip r:embed="rId2"/>
          <a:stretch/>
        </p:blipFill>
        <p:spPr>
          <a:xfrm>
            <a:off x="250920" y="3716280"/>
            <a:ext cx="6705360" cy="2949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turbo-parts"/>
          <p:cNvPicPr/>
          <p:nvPr/>
        </p:nvPicPr>
        <p:blipFill>
          <a:blip r:embed="rId3"/>
          <a:stretch/>
        </p:blipFill>
        <p:spPr>
          <a:xfrm>
            <a:off x="4286160" y="1052640"/>
            <a:ext cx="4857840" cy="266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transmisión se encarga de aprovechar y llevar la potencia del motor hasta las unidades motrice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"/>
          <p:cNvSpPr/>
          <p:nvPr/>
        </p:nvSpPr>
        <p:spPr>
          <a:xfrm>
            <a:off x="4643280" y="4365720"/>
            <a:ext cx="208944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5"/>
          <p:cNvSpPr/>
          <p:nvPr/>
        </p:nvSpPr>
        <p:spPr>
          <a:xfrm>
            <a:off x="6732720" y="4797360"/>
            <a:ext cx="129672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539640" y="3645000"/>
            <a:ext cx="3240000" cy="2808000"/>
            <a:chOff x="539640" y="3645000"/>
            <a:chExt cx="3240000" cy="2808000"/>
          </a:xfrm>
        </p:grpSpPr>
        <p:sp>
          <p:nvSpPr>
            <p:cNvPr id="86" name="Gear"/>
            <p:cNvSpPr/>
            <p:nvPr/>
          </p:nvSpPr>
          <p:spPr>
            <a:xfrm>
              <a:off x="2336040" y="3645000"/>
              <a:ext cx="1443600" cy="1287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AutoShape 8"/>
            <p:cNvSpPr/>
            <p:nvPr/>
          </p:nvSpPr>
          <p:spPr>
            <a:xfrm>
              <a:off x="539640" y="4175640"/>
              <a:ext cx="1726200" cy="153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>
              <a:off x="1659240" y="4743360"/>
              <a:ext cx="1918440" cy="1709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ipos de Transmis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ás usuales en maquinarias de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cá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convertidor de tor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idráu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orque-cutaway"/>
          <p:cNvPicPr/>
          <p:nvPr/>
        </p:nvPicPr>
        <p:blipFill>
          <a:blip r:embed="rId1"/>
          <a:stretch/>
        </p:blipFill>
        <p:spPr>
          <a:xfrm>
            <a:off x="2362320" y="457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orque-pump"/>
          <p:cNvPicPr/>
          <p:nvPr/>
        </p:nvPicPr>
        <p:blipFill>
          <a:blip r:embed="rId2"/>
          <a:stretch/>
        </p:blipFill>
        <p:spPr>
          <a:xfrm>
            <a:off x="5867280" y="4343400"/>
            <a:ext cx="2819520" cy="24670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6"/>
          <p:cNvGrpSpPr/>
          <p:nvPr/>
        </p:nvGrpSpPr>
        <p:grpSpPr>
          <a:xfrm>
            <a:off x="2222640" y="1852560"/>
            <a:ext cx="3174840" cy="4068720"/>
            <a:chOff x="2222640" y="1852560"/>
            <a:chExt cx="3174840" cy="4068720"/>
          </a:xfrm>
        </p:grpSpPr>
        <p:sp>
          <p:nvSpPr>
            <p:cNvPr id="94" name="Rectangle 7"/>
            <p:cNvSpPr/>
            <p:nvPr/>
          </p:nvSpPr>
          <p:spPr>
            <a:xfrm>
              <a:off x="2222640" y="1852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2222640" y="1852560"/>
              <a:ext cx="3174840" cy="40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" sz="25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6" name="Picture 9" descr="torque-turbine"/>
          <p:cNvPicPr/>
          <p:nvPr/>
        </p:nvPicPr>
        <p:blipFill>
          <a:blip r:embed="rId3"/>
          <a:stretch/>
        </p:blipFill>
        <p:spPr>
          <a:xfrm>
            <a:off x="0" y="419112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torque-stator"/>
          <p:cNvPicPr/>
          <p:nvPr/>
        </p:nvPicPr>
        <p:blipFill>
          <a:blip r:embed="rId4"/>
          <a:stretch/>
        </p:blipFill>
        <p:spPr>
          <a:xfrm>
            <a:off x="3200400" y="4572000"/>
            <a:ext cx="2362320" cy="2066760"/>
          </a:xfrm>
          <a:prstGeom prst="rect">
            <a:avLst/>
          </a:prstGeom>
          <a:ln w="0">
            <a:noFill/>
          </a:ln>
        </p:spPr>
      </p:pic>
      <p:sp>
        <p:nvSpPr>
          <p:cNvPr id="98" name="Line 11"/>
          <p:cNvSpPr/>
          <p:nvPr/>
        </p:nvSpPr>
        <p:spPr>
          <a:xfrm>
            <a:off x="6019920" y="3581280"/>
            <a:ext cx="68580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495320" y="3809880"/>
            <a:ext cx="3049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3"/>
          <p:cNvSpPr/>
          <p:nvPr/>
        </p:nvSpPr>
        <p:spPr>
          <a:xfrm flipH="1">
            <a:off x="2209680" y="3276720"/>
            <a:ext cx="99072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Convertidor de Torque</a:t>
            </a:r>
            <a:br>
              <a:rPr sz="4000"/>
            </a:b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 v/s Transmisión Mecán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permite mantener el motor en el rango de funcionamiento ópti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evita que los impactos en los elementos motrices afecten el funcionamiento del mo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tiene mayores pérdidas, por lo tanto, tiene mayor consumo de combust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5" descr="motor"/>
          <p:cNvPicPr/>
          <p:nvPr/>
        </p:nvPicPr>
        <p:blipFill>
          <a:blip r:embed="rId1"/>
          <a:stretch/>
        </p:blipFill>
        <p:spPr>
          <a:xfrm>
            <a:off x="1187280" y="1557360"/>
            <a:ext cx="2751480" cy="206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pump"/>
          <p:cNvPicPr/>
          <p:nvPr/>
        </p:nvPicPr>
        <p:blipFill>
          <a:blip r:embed="rId2"/>
          <a:stretch/>
        </p:blipFill>
        <p:spPr>
          <a:xfrm>
            <a:off x="5796000" y="1557360"/>
            <a:ext cx="225756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Ultra150-pump"/>
          <p:cNvPicPr/>
          <p:nvPr/>
        </p:nvPicPr>
        <p:blipFill>
          <a:blip r:embed="rId3"/>
          <a:stretch/>
        </p:blipFill>
        <p:spPr>
          <a:xfrm>
            <a:off x="5867280" y="4780080"/>
            <a:ext cx="2449800" cy="1827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3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4"/>
          <p:cNvSpPr/>
          <p:nvPr/>
        </p:nvSpPr>
        <p:spPr>
          <a:xfrm rot="5400000">
            <a:off x="5723280" y="3788280"/>
            <a:ext cx="1224000" cy="647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4140360" y="2205000"/>
            <a:ext cx="1368360" cy="719280"/>
          </a:xfrm>
          <a:prstGeom prst="rightArrow">
            <a:avLst>
              <a:gd name="adj1" fmla="val 50000"/>
              <a:gd name="adj2" fmla="val 475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20"/>
          <p:cNvSpPr/>
          <p:nvPr/>
        </p:nvSpPr>
        <p:spPr>
          <a:xfrm rot="10800000">
            <a:off x="4211280" y="5300640"/>
            <a:ext cx="1368360" cy="719280"/>
          </a:xfrm>
          <a:prstGeom prst="rightArrow">
            <a:avLst>
              <a:gd name="adj1" fmla="val 50000"/>
              <a:gd name="adj2" fmla="val 475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1" descr="Oruga"/>
          <p:cNvPicPr/>
          <p:nvPr/>
        </p:nvPicPr>
        <p:blipFill>
          <a:blip r:embed="rId4"/>
          <a:stretch/>
        </p:blipFill>
        <p:spPr>
          <a:xfrm>
            <a:off x="1187280" y="4005360"/>
            <a:ext cx="2613240" cy="26366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2"/>
          <p:cNvSpPr/>
          <p:nvPr/>
        </p:nvSpPr>
        <p:spPr>
          <a:xfrm>
            <a:off x="7020000" y="3645000"/>
            <a:ext cx="1800000" cy="718920"/>
          </a:xfrm>
          <a:prstGeom prst="wedgeRectCallout">
            <a:avLst>
              <a:gd name="adj1" fmla="val -85888"/>
              <a:gd name="adj2" fmla="val 3123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Conexión Hidrául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23"/>
          <p:cNvSpPr/>
          <p:nvPr/>
        </p:nvSpPr>
        <p:spPr>
          <a:xfrm>
            <a:off x="4067280" y="3573360"/>
            <a:ext cx="1800000" cy="719280"/>
          </a:xfrm>
          <a:prstGeom prst="wedgeRectCallout">
            <a:avLst>
              <a:gd name="adj1" fmla="val -12523"/>
              <a:gd name="adj2" fmla="val -17538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ahoma"/>
              </a:rPr>
              <a:t>Conexión Mecán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milar a transmisión con convertidor de tor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ita impa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tiene régimen óptimo del mo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ontrol se ejerce a través de válvulas fáciles de manipular, por lo que se tiene mayor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máquinas han hecho posible construir obras cada vez más grandes y comple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otores proporcionan la potencia necesaria para que las máquinas ejecuten las funciones para las cuales han sido diseñ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bustibles o fuentes de energía más utilizadas en la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ectr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sol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tróleo 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or su movilidad los motores de combustión interna son los prefer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 de Combustión Inte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981080"/>
          <a:ext cx="8229600" cy="4102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BUSTIBL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C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ÓLE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º DE CICLO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 de Combustión Inte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gún número y disposición de los cilind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engine-inline-4"/>
          <p:cNvPicPr/>
          <p:nvPr/>
        </p:nvPicPr>
        <p:blipFill>
          <a:blip r:embed="rId1"/>
          <a:stretch/>
        </p:blipFill>
        <p:spPr>
          <a:xfrm>
            <a:off x="179280" y="342900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engine-v-6"/>
          <p:cNvPicPr/>
          <p:nvPr/>
        </p:nvPicPr>
        <p:blipFill>
          <a:blip r:embed="rId2"/>
          <a:stretch/>
        </p:blipFill>
        <p:spPr>
          <a:xfrm>
            <a:off x="3132000" y="3429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engine-flat-4"/>
          <p:cNvPicPr/>
          <p:nvPr/>
        </p:nvPicPr>
        <p:blipFill>
          <a:blip r:embed="rId3"/>
          <a:stretch/>
        </p:blipFill>
        <p:spPr>
          <a:xfrm>
            <a:off x="6084720" y="3429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928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ín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203640" y="566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“V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22764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lano o Box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259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onentes Básicos 1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l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lind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bu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ye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6" descr="diesel-jeep-engine"/>
          <p:cNvPicPr/>
          <p:nvPr/>
        </p:nvPicPr>
        <p:blipFill>
          <a:blip r:embed="rId1"/>
          <a:stretch/>
        </p:blipFill>
        <p:spPr>
          <a:xfrm>
            <a:off x="3348000" y="1573200"/>
            <a:ext cx="5470560" cy="492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25916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onentes Básicos 2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i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álv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güeñ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hemi-pent-roof"/>
          <p:cNvPicPr/>
          <p:nvPr/>
        </p:nvPicPr>
        <p:blipFill>
          <a:blip r:embed="rId1"/>
          <a:stretch/>
        </p:blipFill>
        <p:spPr>
          <a:xfrm>
            <a:off x="3564000" y="1773360"/>
            <a:ext cx="5186160" cy="451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98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4 Tie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t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c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 Tie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sión-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tencia-Esc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two-stroke-parts"/>
          <p:cNvPicPr/>
          <p:nvPr/>
        </p:nvPicPr>
        <p:blipFill>
          <a:blip r:embed="rId1"/>
          <a:stretch/>
        </p:blipFill>
        <p:spPr>
          <a:xfrm>
            <a:off x="5003640" y="1773360"/>
            <a:ext cx="3854520" cy="478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Dies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47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relación de 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yección directa de combus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tiene buj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nor velocidad de giro (R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Mayor du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Combustible más bar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diesel-atego"/>
          <p:cNvPicPr/>
          <p:nvPr/>
        </p:nvPicPr>
        <p:blipFill>
          <a:blip r:embed="rId1"/>
          <a:stretch/>
        </p:blipFill>
        <p:spPr>
          <a:xfrm>
            <a:off x="5094360" y="1916280"/>
            <a:ext cx="3843360" cy="41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8-09-23T13:53:30Z</dcterms:modified>
  <cp:revision>40</cp:revision>
  <dc:subject/>
  <dc:title>CI 52A Métodos Constructivos</dc:title>
</cp:coreProperties>
</file>