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wmf" ContentType="image/x-wmf"/>
  <Override PartName="/ppt/media/image14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0.wmf" ContentType="image/x-wmf"/>
  <Override PartName="/ppt/media/image4.jpeg" ContentType="image/jpeg"/>
  <Override PartName="/ppt/media/image16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E2F4C-D02D-4578-9E5F-FBEEF4591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6179F-0672-47EB-BB7F-74D09199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23AF5-3F76-4366-B629-2671BB086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B0359-36EF-444A-825C-61C1DE2DE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7A13-7410-425E-A0AB-175CF13B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4DE2-D897-417A-9E27-799E0C52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06BE-B849-47F1-914D-6CC974D8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8FB0-ABA4-48E9-98E2-66B73EB8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46EA-8A8D-4ADD-A1E2-2FC9A197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5C6C-8DC1-413A-9566-CA964632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82F5-2690-4C9E-9B3B-054C4B0D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AFA51-0CE6-486F-8A5E-6FEEC056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AF50-AEF6-4EFD-9576-85823AD9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2F17-4E4E-447F-B993-05327DC0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B30D-8C8F-49D9-BA03-DB8CE365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32B5-9D16-4A03-ADF6-11944B00C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7B5D-81A3-49AE-8903-A54A3F9D6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C726A-8851-4FA2-892C-2028883E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A3F98-A568-401C-8DA8-582971E2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42E73-2F39-47CF-906C-AD52F3AD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9F799-8B5A-4538-89E8-5B3D6D7B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C9E3F-4C02-483A-8B0B-48A36EB5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C39A8-8EC2-43CA-8D05-98B1F4D3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B04B0-1346-4D51-BC75-B0C50591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5116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480" y="688788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2DD3-74E4-436B-B298-E7057BE692B2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3" name="Group 5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3024000" y="4626000"/>
                <a:ext cx="50472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7297920" y="4673160"/>
                <a:ext cx="220860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840" y="688788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51" name="Group 3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3024000" y="4626000"/>
                <a:ext cx="50472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7297920" y="4673160"/>
                <a:ext cx="220860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44840" y="6891120"/>
            <a:ext cx="319104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224480" y="6894360"/>
            <a:ext cx="23526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F33C-3B93-4559-A17E-12E3AA9A67E1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6600" spc="-1" strike="noStrike">
                <a:solidFill>
                  <a:srgbClr val="e5e5ff"/>
                </a:solidFill>
                <a:latin typeface="Garamond"/>
              </a:rPr>
              <a:t>CI 52A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Times New Roman"/>
              </a:rPr>
              <a:t>Maquinarias para Movimento de Tierra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Times New Roman"/>
              </a:rPr>
              <a:t>Excavación y </a:t>
            </a:r>
            <a:r>
              <a:rPr b="0" lang="es-MX" sz="35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MX" sz="3500" spc="-1" strike="noStrike">
                <a:solidFill>
                  <a:srgbClr val="ffffff"/>
                </a:solidFill>
                <a:latin typeface="Times New Roman"/>
              </a:rPr>
              <a:t>Topadora</a:t>
            </a:r>
            <a:r>
              <a:rPr b="0" lang="en-GB" sz="3500" spc="-1" strike="noStrike">
                <a:solidFill>
                  <a:srgbClr val="ffffff"/>
                </a:solidFill>
                <a:latin typeface="Times New Roman"/>
              </a:rPr>
              <a:t> (Dozer)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DOZER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618920"/>
            <a:ext cx="66960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Tipos de Hojas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769680" indent="-296640"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aramond"/>
              </a:rPr>
              <a:t>Recta (S): corta y media distancia, relleno y esparcimiento de material, perpendicular al eje de la máquina. Tilt y pitch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1" marL="769680" indent="-296640"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aramond"/>
              </a:rPr>
              <a:t>Angulada (A): más ancha, angulo &lt;&gt;90º c/r eje de la máquina. Tilt. Rellenos y corte en cerros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1" marL="769680" indent="-296640"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aramond"/>
              </a:rPr>
              <a:t>Universal (U): más ancha que S, extremos curvos, mayor volumen de material, mayor distancia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1" marL="769680" indent="-296640"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aramond"/>
              </a:rPr>
              <a:t>Semi Universal: mezcla de S con U. Mayor volumen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1" marL="769680" indent="-296640"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aramond"/>
              </a:rPr>
              <a:t>Acolchada (C): para empujar traíllas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4" name="Picture 5" descr="semi_u_blades"/>
          <p:cNvPicPr/>
          <p:nvPr/>
        </p:nvPicPr>
        <p:blipFill>
          <a:blip r:embed="rId1"/>
          <a:stretch/>
        </p:blipFill>
        <p:spPr>
          <a:xfrm>
            <a:off x="8064360" y="4356000"/>
            <a:ext cx="1586160" cy="15861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semi_u_blades"/>
          <p:cNvPicPr/>
          <p:nvPr/>
        </p:nvPicPr>
        <p:blipFill>
          <a:blip r:embed="rId2"/>
          <a:stretch/>
        </p:blipFill>
        <p:spPr>
          <a:xfrm>
            <a:off x="6624720" y="5435640"/>
            <a:ext cx="1357200" cy="13572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Power Angle Tilt Blade"/>
          <p:cNvPicPr/>
          <p:nvPr/>
        </p:nvPicPr>
        <p:blipFill>
          <a:blip r:embed="rId3"/>
          <a:stretch/>
        </p:blipFill>
        <p:spPr>
          <a:xfrm>
            <a:off x="6840360" y="3375000"/>
            <a:ext cx="3024360" cy="922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push_plate_close"/>
          <p:cNvPicPr/>
          <p:nvPr/>
        </p:nvPicPr>
        <p:blipFill>
          <a:blip r:embed="rId4"/>
          <a:stretch/>
        </p:blipFill>
        <p:spPr>
          <a:xfrm>
            <a:off x="8064360" y="5940360"/>
            <a:ext cx="1800360" cy="14097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dozer7"/>
          <p:cNvPicPr/>
          <p:nvPr/>
        </p:nvPicPr>
        <p:blipFill>
          <a:blip r:embed="rId5"/>
          <a:stretch/>
        </p:blipFill>
        <p:spPr>
          <a:xfrm>
            <a:off x="7056360" y="395280"/>
            <a:ext cx="2495520" cy="973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4" descr="wdblade1"/>
          <p:cNvPicPr/>
          <p:nvPr/>
        </p:nvPicPr>
        <p:blipFill>
          <a:blip r:embed="rId6"/>
          <a:stretch/>
        </p:blipFill>
        <p:spPr>
          <a:xfrm>
            <a:off x="7345440" y="1763640"/>
            <a:ext cx="2214360" cy="15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DOZER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0" y="2700360"/>
            <a:ext cx="10080720" cy="39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32" name="3 Flecha abajo"/>
          <p:cNvSpPr/>
          <p:nvPr/>
        </p:nvSpPr>
        <p:spPr>
          <a:xfrm>
            <a:off x="7826400" y="2708280"/>
            <a:ext cx="642960" cy="114300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5" descr="http://www.unam.mx/terracerias/t3graf02.gif"/>
          <p:cNvPicPr/>
          <p:nvPr/>
        </p:nvPicPr>
        <p:blipFill>
          <a:blip r:embed="rId1"/>
          <a:stretch/>
        </p:blipFill>
        <p:spPr>
          <a:xfrm>
            <a:off x="85680" y="60480"/>
            <a:ext cx="5638680" cy="87296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5826240" y="2065320"/>
            <a:ext cx="4071960" cy="532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231840" y="231840"/>
            <a:ext cx="5052960" cy="72594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http://www.unam.mx/terracerias/t3graf01.gif"/>
          <p:cNvPicPr/>
          <p:nvPr/>
        </p:nvPicPr>
        <p:blipFill>
          <a:blip r:embed="rId2"/>
          <a:stretch/>
        </p:blipFill>
        <p:spPr>
          <a:xfrm>
            <a:off x="5370480" y="365040"/>
            <a:ext cx="455472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RIPPING (DESGARRO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3005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El ripper 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es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un elemento angosto que penetra el terreno y lo suelt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Para usos livianos se pueden montar en motoniveladora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Para Heavy Duty se montan en DOZER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El costo de desgarrar es aproximadamente la mitad c/r a tronadura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5326200" y="3637080"/>
            <a:ext cx="4539960" cy="3500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RIPPING (DESGARRO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Mientras menor sea la velocidad del sonido en la roca, más fácil será desgarrarl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1468440" y="2279520"/>
            <a:ext cx="6572160" cy="5078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s-CL" sz="4900" spc="-1" strike="noStrike">
                <a:solidFill>
                  <a:srgbClr val="e5e5ff"/>
                </a:solidFill>
                <a:latin typeface="Garamond"/>
              </a:rPr>
              <a:t>DOZER (HOJA TOPADORA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41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Descripción/Característica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De orugas o ruedas. Observación mandos finales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Bajo centro de gravedad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5" descr="cat"/>
          <p:cNvPicPr/>
          <p:nvPr/>
        </p:nvPicPr>
        <p:blipFill>
          <a:blip r:embed="rId1"/>
          <a:stretch/>
        </p:blipFill>
        <p:spPr>
          <a:xfrm>
            <a:off x="5400720" y="3635280"/>
            <a:ext cx="3673440" cy="3673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cat"/>
          <p:cNvPicPr/>
          <p:nvPr/>
        </p:nvPicPr>
        <p:blipFill>
          <a:blip r:embed="rId2"/>
          <a:stretch/>
        </p:blipFill>
        <p:spPr>
          <a:xfrm>
            <a:off x="1079640" y="3635280"/>
            <a:ext cx="367344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DOZER (HOJA TOPADORA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41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Importancia</a:t>
            </a:r>
            <a:r>
              <a:rPr b="0" lang="en-GB" sz="3500" spc="-1" strike="noStrike">
                <a:solidFill>
                  <a:srgbClr val="ffffff"/>
                </a:solidFill>
                <a:latin typeface="Garamond"/>
              </a:rPr>
              <a:t> de la tracción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28548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Coeficiente de tracción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28548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Peso sobre las ruedas motrices (“inflar” con agua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28548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Orugas normales (6 a 9 psi) o LGP (3 a 4 psi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5" descr="289420040810190137-3080534265"/>
          <p:cNvPicPr/>
          <p:nvPr/>
        </p:nvPicPr>
        <p:blipFill>
          <a:blip r:embed="rId1"/>
          <a:stretch/>
        </p:blipFill>
        <p:spPr>
          <a:xfrm>
            <a:off x="719280" y="4140360"/>
            <a:ext cx="4176720" cy="3133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Muddy Soil Excavator"/>
          <p:cNvPicPr/>
          <p:nvPr/>
        </p:nvPicPr>
        <p:blipFill>
          <a:blip r:embed="rId2"/>
          <a:stretch/>
        </p:blipFill>
        <p:spPr>
          <a:xfrm>
            <a:off x="5472000" y="4140360"/>
            <a:ext cx="3997440" cy="32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DOZER (HOJA TOPADORA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41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Garamond"/>
              </a:rPr>
              <a:t>Descripción/Característica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Los equipos con orugas pueden trabajar en pendientes de hasta 45º, limitados por el sistema de lubricación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Cabina ROPS (Roll Over Protection System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Motores tipicamente diesel. Bencineros en equipos </a:t>
            </a: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más pequeños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DOZER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41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Garamond"/>
              </a:rPr>
              <a:t>Transmisión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Mecánica directa (de orugas pequeños). Carga constante y distancias largas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Con convertidor de torque (de orugas grandes y de ruedas) Carga variable, absorción de impactos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Hidraulica (orugas pequeños) Mayor control y eficiencia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11240" y="1403280"/>
            <a:ext cx="5408640" cy="5867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5065560" y="179280"/>
            <a:ext cx="4799160" cy="229716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6"/>
          <p:cNvSpPr/>
          <p:nvPr/>
        </p:nvSpPr>
        <p:spPr>
          <a:xfrm>
            <a:off x="6264360" y="4859280"/>
            <a:ext cx="1800000" cy="647640"/>
          </a:xfrm>
          <a:prstGeom prst="borderCallout2">
            <a:avLst>
              <a:gd name="adj1" fmla="val 18750"/>
              <a:gd name="adj2" fmla="val -8333"/>
              <a:gd name="adj3" fmla="val 17648"/>
              <a:gd name="adj4" fmla="val -27601"/>
              <a:gd name="adj5" fmla="val 177449"/>
              <a:gd name="adj6" fmla="val -111638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Transmisión Mecánic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AutoShape 7"/>
          <p:cNvSpPr/>
          <p:nvPr/>
        </p:nvSpPr>
        <p:spPr>
          <a:xfrm>
            <a:off x="6335640" y="3708360"/>
            <a:ext cx="1800360" cy="647640"/>
          </a:xfrm>
          <a:prstGeom prst="borderCallout2">
            <a:avLst>
              <a:gd name="adj1" fmla="val 18750"/>
              <a:gd name="adj2" fmla="val -8333"/>
              <a:gd name="adj3" fmla="val 17648"/>
              <a:gd name="adj4" fmla="val -35625"/>
              <a:gd name="adj5" fmla="val 353430"/>
              <a:gd name="adj6" fmla="val -148675"/>
            </a:avLst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Transmisión Conv. Torqu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6048360" y="6084720"/>
            <a:ext cx="3095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Velocidad máxima: 23 kph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Empuje máximo: 75 000 kgf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216000" y="1258920"/>
            <a:ext cx="5108400" cy="6049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4176720" y="179280"/>
            <a:ext cx="5695920" cy="2857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6048360" y="6084720"/>
            <a:ext cx="3095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Velocidad máxima: 12 kph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Empuje máximo: 150 000 kgf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Object 1"/>
          <p:cNvGraphicFramePr/>
          <p:nvPr/>
        </p:nvGraphicFramePr>
        <p:xfrm>
          <a:off x="3537000" y="3882960"/>
          <a:ext cx="3251160" cy="7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7000" y="3882960"/>
                    <a:ext cx="325116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2"/>
          <p:cNvGraphicFramePr/>
          <p:nvPr/>
        </p:nvGraphicFramePr>
        <p:xfrm>
          <a:off x="3537000" y="3440160"/>
          <a:ext cx="3251160" cy="76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37000" y="3440160"/>
                    <a:ext cx="325116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5"/>
          <p:cNvGraphicFramePr/>
          <p:nvPr/>
        </p:nvGraphicFramePr>
        <p:xfrm>
          <a:off x="503280" y="539640"/>
          <a:ext cx="9290160" cy="6502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280" y="539640"/>
                    <a:ext cx="9290160" cy="650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DOZER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29" name="Group 4"/>
          <p:cNvGrpSpPr/>
          <p:nvPr/>
        </p:nvGrpSpPr>
        <p:grpSpPr>
          <a:xfrm>
            <a:off x="1152360" y="1547640"/>
            <a:ext cx="7694640" cy="3483000"/>
            <a:chOff x="1152360" y="1547640"/>
            <a:chExt cx="7694640" cy="3483000"/>
          </a:xfrm>
        </p:grpSpPr>
        <p:grpSp>
          <p:nvGrpSpPr>
            <p:cNvPr id="130" name="Group 5"/>
            <p:cNvGrpSpPr/>
            <p:nvPr/>
          </p:nvGrpSpPr>
          <p:grpSpPr>
            <a:xfrm>
              <a:off x="1157040" y="1552320"/>
              <a:ext cx="7684920" cy="3473280"/>
              <a:chOff x="1157040" y="1552320"/>
              <a:chExt cx="7684920" cy="3473280"/>
            </a:xfrm>
          </p:grpSpPr>
          <p:grpSp>
            <p:nvGrpSpPr>
              <p:cNvPr id="131" name="Group 6"/>
              <p:cNvGrpSpPr/>
              <p:nvPr/>
            </p:nvGrpSpPr>
            <p:grpSpPr>
              <a:xfrm>
                <a:off x="1157040" y="1552320"/>
                <a:ext cx="4232160" cy="1187280"/>
                <a:chOff x="1157040" y="1552320"/>
                <a:chExt cx="4232160" cy="1187280"/>
              </a:xfrm>
            </p:grpSpPr>
            <p:sp>
              <p:nvSpPr>
                <p:cNvPr id="132" name="Rectangle 7"/>
                <p:cNvSpPr/>
                <p:nvPr/>
              </p:nvSpPr>
              <p:spPr>
                <a:xfrm>
                  <a:off x="1157040" y="1552320"/>
                  <a:ext cx="423216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ARACTERÍSTICA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33" name="Rectangle 8"/>
                <p:cNvSpPr/>
                <p:nvPr/>
              </p:nvSpPr>
              <p:spPr>
                <a:xfrm>
                  <a:off x="1157040" y="1552320"/>
                  <a:ext cx="423216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34" name="Group 9"/>
              <p:cNvGrpSpPr/>
              <p:nvPr/>
            </p:nvGrpSpPr>
            <p:grpSpPr>
              <a:xfrm>
                <a:off x="5389200" y="1552320"/>
                <a:ext cx="862200" cy="1187280"/>
                <a:chOff x="5389200" y="1552320"/>
                <a:chExt cx="862200" cy="1187280"/>
              </a:xfrm>
            </p:grpSpPr>
            <p:sp>
              <p:nvSpPr>
                <p:cNvPr id="135" name="Rectangle 10"/>
                <p:cNvSpPr/>
                <p:nvPr/>
              </p:nvSpPr>
              <p:spPr>
                <a:xfrm>
                  <a:off x="5389200" y="1552320"/>
                  <a:ext cx="8622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UD.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36" name="Rectangle 11"/>
                <p:cNvSpPr/>
                <p:nvPr/>
              </p:nvSpPr>
              <p:spPr>
                <a:xfrm>
                  <a:off x="5389200" y="1552320"/>
                  <a:ext cx="86220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37" name="Group 12"/>
              <p:cNvGrpSpPr/>
              <p:nvPr/>
            </p:nvGrpSpPr>
            <p:grpSpPr>
              <a:xfrm>
                <a:off x="6251400" y="1552320"/>
                <a:ext cx="863640" cy="1187280"/>
                <a:chOff x="6251400" y="1552320"/>
                <a:chExt cx="863640" cy="1187280"/>
              </a:xfrm>
            </p:grpSpPr>
            <p:sp>
              <p:nvSpPr>
                <p:cNvPr id="138" name="Rectangle 13"/>
                <p:cNvSpPr/>
                <p:nvPr/>
              </p:nvSpPr>
              <p:spPr>
                <a:xfrm>
                  <a:off x="6251400" y="1552320"/>
                  <a:ext cx="86364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D8H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39" name="Rectangle 14"/>
                <p:cNvSpPr/>
                <p:nvPr/>
              </p:nvSpPr>
              <p:spPr>
                <a:xfrm>
                  <a:off x="6251400" y="1552320"/>
                  <a:ext cx="8636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40" name="Group 15"/>
              <p:cNvGrpSpPr/>
              <p:nvPr/>
            </p:nvGrpSpPr>
            <p:grpSpPr>
              <a:xfrm>
                <a:off x="7115040" y="1552320"/>
                <a:ext cx="863640" cy="1187280"/>
                <a:chOff x="7115040" y="1552320"/>
                <a:chExt cx="863640" cy="1187280"/>
              </a:xfrm>
            </p:grpSpPr>
            <p:sp>
              <p:nvSpPr>
                <p:cNvPr id="141" name="Rectangle 16"/>
                <p:cNvSpPr/>
                <p:nvPr/>
              </p:nvSpPr>
              <p:spPr>
                <a:xfrm>
                  <a:off x="7115040" y="1552320"/>
                  <a:ext cx="86364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D4D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42" name="Rectangle 17"/>
                <p:cNvSpPr/>
                <p:nvPr/>
              </p:nvSpPr>
              <p:spPr>
                <a:xfrm>
                  <a:off x="7115040" y="1552320"/>
                  <a:ext cx="8636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43" name="Group 18"/>
              <p:cNvGrpSpPr/>
              <p:nvPr/>
            </p:nvGrpSpPr>
            <p:grpSpPr>
              <a:xfrm>
                <a:off x="7978680" y="1552320"/>
                <a:ext cx="863280" cy="1187280"/>
                <a:chOff x="7978680" y="1552320"/>
                <a:chExt cx="863280" cy="1187280"/>
              </a:xfrm>
            </p:grpSpPr>
            <p:sp>
              <p:nvSpPr>
                <p:cNvPr id="144" name="Rectangle 19"/>
                <p:cNvSpPr/>
                <p:nvPr/>
              </p:nvSpPr>
              <p:spPr>
                <a:xfrm>
                  <a:off x="7978680" y="1552320"/>
                  <a:ext cx="8632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Auto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45" name="Rectangle 20"/>
                <p:cNvSpPr/>
                <p:nvPr/>
              </p:nvSpPr>
              <p:spPr>
                <a:xfrm>
                  <a:off x="7978680" y="1552320"/>
                  <a:ext cx="86328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46" name="Group 21"/>
              <p:cNvGrpSpPr/>
              <p:nvPr/>
            </p:nvGrpSpPr>
            <p:grpSpPr>
              <a:xfrm>
                <a:off x="1157040" y="2739600"/>
                <a:ext cx="4232160" cy="457200"/>
                <a:chOff x="1157040" y="2739600"/>
                <a:chExt cx="4232160" cy="457200"/>
              </a:xfrm>
            </p:grpSpPr>
            <p:sp>
              <p:nvSpPr>
                <p:cNvPr id="147" name="Rectangle 22"/>
                <p:cNvSpPr/>
                <p:nvPr/>
              </p:nvSpPr>
              <p:spPr>
                <a:xfrm>
                  <a:off x="1157040" y="2739600"/>
                  <a:ext cx="42321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ILINDRADA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48" name="Rectangle 23"/>
                <p:cNvSpPr/>
                <p:nvPr/>
              </p:nvSpPr>
              <p:spPr>
                <a:xfrm>
                  <a:off x="1157040" y="2739600"/>
                  <a:ext cx="42321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49" name="Group 24"/>
              <p:cNvGrpSpPr/>
              <p:nvPr/>
            </p:nvGrpSpPr>
            <p:grpSpPr>
              <a:xfrm>
                <a:off x="5389200" y="2739600"/>
                <a:ext cx="862200" cy="457200"/>
                <a:chOff x="5389200" y="2739600"/>
                <a:chExt cx="862200" cy="457200"/>
              </a:xfrm>
            </p:grpSpPr>
            <p:sp>
              <p:nvSpPr>
                <p:cNvPr id="150" name="Rectangle 25"/>
                <p:cNvSpPr/>
                <p:nvPr/>
              </p:nvSpPr>
              <p:spPr>
                <a:xfrm>
                  <a:off x="5389200" y="2739600"/>
                  <a:ext cx="8622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lt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51" name="Rectangle 26"/>
                <p:cNvSpPr/>
                <p:nvPr/>
              </p:nvSpPr>
              <p:spPr>
                <a:xfrm>
                  <a:off x="5389200" y="2739600"/>
                  <a:ext cx="86220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52" name="Group 27"/>
              <p:cNvGrpSpPr/>
              <p:nvPr/>
            </p:nvGrpSpPr>
            <p:grpSpPr>
              <a:xfrm>
                <a:off x="6251400" y="2739600"/>
                <a:ext cx="863640" cy="457200"/>
                <a:chOff x="6251400" y="2739600"/>
                <a:chExt cx="863640" cy="457200"/>
              </a:xfrm>
            </p:grpSpPr>
            <p:sp>
              <p:nvSpPr>
                <p:cNvPr id="153" name="Rectangle 28"/>
                <p:cNvSpPr/>
                <p:nvPr/>
              </p:nvSpPr>
              <p:spPr>
                <a:xfrm>
                  <a:off x="6251400" y="2739600"/>
                  <a:ext cx="8636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0,4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54" name="Rectangle 29"/>
                <p:cNvSpPr/>
                <p:nvPr/>
              </p:nvSpPr>
              <p:spPr>
                <a:xfrm>
                  <a:off x="6251400" y="2739600"/>
                  <a:ext cx="863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55" name="Group 30"/>
              <p:cNvGrpSpPr/>
              <p:nvPr/>
            </p:nvGrpSpPr>
            <p:grpSpPr>
              <a:xfrm>
                <a:off x="7115040" y="2739600"/>
                <a:ext cx="863640" cy="457200"/>
                <a:chOff x="7115040" y="2739600"/>
                <a:chExt cx="863640" cy="457200"/>
              </a:xfrm>
            </p:grpSpPr>
            <p:sp>
              <p:nvSpPr>
                <p:cNvPr id="156" name="Rectangle 31"/>
                <p:cNvSpPr/>
                <p:nvPr/>
              </p:nvSpPr>
              <p:spPr>
                <a:xfrm>
                  <a:off x="7115040" y="2739600"/>
                  <a:ext cx="8636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7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57" name="Rectangle 32"/>
                <p:cNvSpPr/>
                <p:nvPr/>
              </p:nvSpPr>
              <p:spPr>
                <a:xfrm>
                  <a:off x="7115040" y="2739600"/>
                  <a:ext cx="863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58" name="Group 33"/>
              <p:cNvGrpSpPr/>
              <p:nvPr/>
            </p:nvGrpSpPr>
            <p:grpSpPr>
              <a:xfrm>
                <a:off x="7978680" y="2739600"/>
                <a:ext cx="863280" cy="457200"/>
                <a:chOff x="7978680" y="2739600"/>
                <a:chExt cx="863280" cy="457200"/>
              </a:xfrm>
            </p:grpSpPr>
            <p:sp>
              <p:nvSpPr>
                <p:cNvPr id="159" name="Rectangle 34"/>
                <p:cNvSpPr/>
                <p:nvPr/>
              </p:nvSpPr>
              <p:spPr>
                <a:xfrm>
                  <a:off x="7978680" y="2739600"/>
                  <a:ext cx="86328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,6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60" name="Rectangle 35"/>
                <p:cNvSpPr/>
                <p:nvPr/>
              </p:nvSpPr>
              <p:spPr>
                <a:xfrm>
                  <a:off x="7978680" y="2739600"/>
                  <a:ext cx="86328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61" name="Group 36"/>
              <p:cNvGrpSpPr/>
              <p:nvPr/>
            </p:nvGrpSpPr>
            <p:grpSpPr>
              <a:xfrm>
                <a:off x="1157040" y="3196800"/>
                <a:ext cx="4232160" cy="457200"/>
                <a:chOff x="1157040" y="3196800"/>
                <a:chExt cx="4232160" cy="457200"/>
              </a:xfrm>
            </p:grpSpPr>
            <p:sp>
              <p:nvSpPr>
                <p:cNvPr id="162" name="Rectangle 37"/>
                <p:cNvSpPr/>
                <p:nvPr/>
              </p:nvSpPr>
              <p:spPr>
                <a:xfrm>
                  <a:off x="1157040" y="3196800"/>
                  <a:ext cx="42321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POTENCIA EN EL VOLANTE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63" name="Rectangle 38"/>
                <p:cNvSpPr/>
                <p:nvPr/>
              </p:nvSpPr>
              <p:spPr>
                <a:xfrm>
                  <a:off x="1157040" y="3196800"/>
                  <a:ext cx="42321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64" name="Group 39"/>
              <p:cNvGrpSpPr/>
              <p:nvPr/>
            </p:nvGrpSpPr>
            <p:grpSpPr>
              <a:xfrm>
                <a:off x="5389200" y="3196800"/>
                <a:ext cx="862200" cy="457200"/>
                <a:chOff x="5389200" y="3196800"/>
                <a:chExt cx="862200" cy="457200"/>
              </a:xfrm>
            </p:grpSpPr>
            <p:sp>
              <p:nvSpPr>
                <p:cNvPr id="165" name="Rectangle 40"/>
                <p:cNvSpPr/>
                <p:nvPr/>
              </p:nvSpPr>
              <p:spPr>
                <a:xfrm>
                  <a:off x="5389200" y="3196800"/>
                  <a:ext cx="8622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HP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66" name="Rectangle 41"/>
                <p:cNvSpPr/>
                <p:nvPr/>
              </p:nvSpPr>
              <p:spPr>
                <a:xfrm>
                  <a:off x="5389200" y="3196800"/>
                  <a:ext cx="86220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67" name="Group 42"/>
              <p:cNvGrpSpPr/>
              <p:nvPr/>
            </p:nvGrpSpPr>
            <p:grpSpPr>
              <a:xfrm>
                <a:off x="6251400" y="3196800"/>
                <a:ext cx="863640" cy="457200"/>
                <a:chOff x="6251400" y="3196800"/>
                <a:chExt cx="863640" cy="457200"/>
              </a:xfrm>
            </p:grpSpPr>
            <p:sp>
              <p:nvSpPr>
                <p:cNvPr id="168" name="Rectangle 43"/>
                <p:cNvSpPr/>
                <p:nvPr/>
              </p:nvSpPr>
              <p:spPr>
                <a:xfrm>
                  <a:off x="6251400" y="3196800"/>
                  <a:ext cx="8636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70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69" name="Rectangle 44"/>
                <p:cNvSpPr/>
                <p:nvPr/>
              </p:nvSpPr>
              <p:spPr>
                <a:xfrm>
                  <a:off x="6251400" y="3196800"/>
                  <a:ext cx="863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70" name="Group 45"/>
              <p:cNvGrpSpPr/>
              <p:nvPr/>
            </p:nvGrpSpPr>
            <p:grpSpPr>
              <a:xfrm>
                <a:off x="7115040" y="3196800"/>
                <a:ext cx="863640" cy="457200"/>
                <a:chOff x="7115040" y="3196800"/>
                <a:chExt cx="863640" cy="457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7115040" y="3196800"/>
                  <a:ext cx="8636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65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72" name="Rectangle 47"/>
                <p:cNvSpPr/>
                <p:nvPr/>
              </p:nvSpPr>
              <p:spPr>
                <a:xfrm>
                  <a:off x="7115040" y="3196800"/>
                  <a:ext cx="863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73" name="Group 48"/>
              <p:cNvGrpSpPr/>
              <p:nvPr/>
            </p:nvGrpSpPr>
            <p:grpSpPr>
              <a:xfrm>
                <a:off x="7978680" y="3196800"/>
                <a:ext cx="863280" cy="457200"/>
                <a:chOff x="7978680" y="3196800"/>
                <a:chExt cx="863280" cy="457200"/>
              </a:xfrm>
            </p:grpSpPr>
            <p:sp>
              <p:nvSpPr>
                <p:cNvPr id="174" name="Rectangle 49"/>
                <p:cNvSpPr/>
                <p:nvPr/>
              </p:nvSpPr>
              <p:spPr>
                <a:xfrm>
                  <a:off x="7978680" y="3196800"/>
                  <a:ext cx="86328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92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75" name="Rectangle 50"/>
                <p:cNvSpPr/>
                <p:nvPr/>
              </p:nvSpPr>
              <p:spPr>
                <a:xfrm>
                  <a:off x="7978680" y="3196800"/>
                  <a:ext cx="86328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76" name="Group 51"/>
              <p:cNvGrpSpPr/>
              <p:nvPr/>
            </p:nvGrpSpPr>
            <p:grpSpPr>
              <a:xfrm>
                <a:off x="1157040" y="3654000"/>
                <a:ext cx="4232160" cy="457200"/>
                <a:chOff x="1157040" y="3654000"/>
                <a:chExt cx="4232160" cy="457200"/>
              </a:xfrm>
            </p:grpSpPr>
            <p:sp>
              <p:nvSpPr>
                <p:cNvPr id="177" name="Rectangle 52"/>
                <p:cNvSpPr/>
                <p:nvPr/>
              </p:nvSpPr>
              <p:spPr>
                <a:xfrm>
                  <a:off x="1157040" y="3654000"/>
                  <a:ext cx="42321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REGIMEN MÁXIMO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78" name="Rectangle 53"/>
                <p:cNvSpPr/>
                <p:nvPr/>
              </p:nvSpPr>
              <p:spPr>
                <a:xfrm>
                  <a:off x="1157040" y="3654000"/>
                  <a:ext cx="42321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79" name="Group 54"/>
              <p:cNvGrpSpPr/>
              <p:nvPr/>
            </p:nvGrpSpPr>
            <p:grpSpPr>
              <a:xfrm>
                <a:off x="5389200" y="3654000"/>
                <a:ext cx="862200" cy="457200"/>
                <a:chOff x="5389200" y="3654000"/>
                <a:chExt cx="862200" cy="457200"/>
              </a:xfrm>
            </p:grpSpPr>
            <p:sp>
              <p:nvSpPr>
                <p:cNvPr id="180" name="Rectangle 55"/>
                <p:cNvSpPr/>
                <p:nvPr/>
              </p:nvSpPr>
              <p:spPr>
                <a:xfrm>
                  <a:off x="5389200" y="3654000"/>
                  <a:ext cx="8622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RPM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81" name="Rectangle 56"/>
                <p:cNvSpPr/>
                <p:nvPr/>
              </p:nvSpPr>
              <p:spPr>
                <a:xfrm>
                  <a:off x="5389200" y="3654000"/>
                  <a:ext cx="86220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82" name="Group 57"/>
              <p:cNvGrpSpPr/>
              <p:nvPr/>
            </p:nvGrpSpPr>
            <p:grpSpPr>
              <a:xfrm>
                <a:off x="6251400" y="3654000"/>
                <a:ext cx="863640" cy="457200"/>
                <a:chOff x="6251400" y="3654000"/>
                <a:chExt cx="863640" cy="457200"/>
              </a:xfrm>
            </p:grpSpPr>
            <p:sp>
              <p:nvSpPr>
                <p:cNvPr id="183" name="Rectangle 58"/>
                <p:cNvSpPr/>
                <p:nvPr/>
              </p:nvSpPr>
              <p:spPr>
                <a:xfrm>
                  <a:off x="6251400" y="3654000"/>
                  <a:ext cx="8636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280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84" name="Rectangle 59"/>
                <p:cNvSpPr/>
                <p:nvPr/>
              </p:nvSpPr>
              <p:spPr>
                <a:xfrm>
                  <a:off x="6251400" y="3654000"/>
                  <a:ext cx="863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85" name="Group 60"/>
              <p:cNvGrpSpPr/>
              <p:nvPr/>
            </p:nvGrpSpPr>
            <p:grpSpPr>
              <a:xfrm>
                <a:off x="7115040" y="3654000"/>
                <a:ext cx="863640" cy="457200"/>
                <a:chOff x="7115040" y="3654000"/>
                <a:chExt cx="863640" cy="457200"/>
              </a:xfrm>
            </p:grpSpPr>
            <p:sp>
              <p:nvSpPr>
                <p:cNvPr id="186" name="Rectangle 61"/>
                <p:cNvSpPr/>
                <p:nvPr/>
              </p:nvSpPr>
              <p:spPr>
                <a:xfrm>
                  <a:off x="7115040" y="3654000"/>
                  <a:ext cx="8636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680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87" name="Rectangle 62"/>
                <p:cNvSpPr/>
                <p:nvPr/>
              </p:nvSpPr>
              <p:spPr>
                <a:xfrm>
                  <a:off x="7115040" y="3654000"/>
                  <a:ext cx="863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88" name="Group 63"/>
              <p:cNvGrpSpPr/>
              <p:nvPr/>
            </p:nvGrpSpPr>
            <p:grpSpPr>
              <a:xfrm>
                <a:off x="7978680" y="3654000"/>
                <a:ext cx="863280" cy="457200"/>
                <a:chOff x="7978680" y="3654000"/>
                <a:chExt cx="863280" cy="457200"/>
              </a:xfrm>
            </p:grpSpPr>
            <p:sp>
              <p:nvSpPr>
                <p:cNvPr id="189" name="Rectangle 64"/>
                <p:cNvSpPr/>
                <p:nvPr/>
              </p:nvSpPr>
              <p:spPr>
                <a:xfrm>
                  <a:off x="7978680" y="3654000"/>
                  <a:ext cx="86328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60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90" name="Rectangle 65"/>
                <p:cNvSpPr/>
                <p:nvPr/>
              </p:nvSpPr>
              <p:spPr>
                <a:xfrm>
                  <a:off x="7978680" y="3654000"/>
                  <a:ext cx="86328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91" name="Group 66"/>
              <p:cNvGrpSpPr/>
              <p:nvPr/>
            </p:nvGrpSpPr>
            <p:grpSpPr>
              <a:xfrm>
                <a:off x="1157040" y="4111200"/>
                <a:ext cx="4232160" cy="457200"/>
                <a:chOff x="1157040" y="4111200"/>
                <a:chExt cx="4232160" cy="457200"/>
              </a:xfrm>
            </p:grpSpPr>
            <p:sp>
              <p:nvSpPr>
                <p:cNvPr id="192" name="Rectangle 67"/>
                <p:cNvSpPr/>
                <p:nvPr/>
              </p:nvSpPr>
              <p:spPr>
                <a:xfrm>
                  <a:off x="1157040" y="4111200"/>
                  <a:ext cx="42321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PESO SIN HOJA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93" name="Rectangle 68"/>
                <p:cNvSpPr/>
                <p:nvPr/>
              </p:nvSpPr>
              <p:spPr>
                <a:xfrm>
                  <a:off x="1157040" y="4111200"/>
                  <a:ext cx="42321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94" name="Group 69"/>
              <p:cNvGrpSpPr/>
              <p:nvPr/>
            </p:nvGrpSpPr>
            <p:grpSpPr>
              <a:xfrm>
                <a:off x="5389200" y="4111200"/>
                <a:ext cx="862200" cy="457200"/>
                <a:chOff x="5389200" y="4111200"/>
                <a:chExt cx="862200" cy="457200"/>
              </a:xfrm>
            </p:grpSpPr>
            <p:sp>
              <p:nvSpPr>
                <p:cNvPr id="195" name="Rectangle 70"/>
                <p:cNvSpPr/>
                <p:nvPr/>
              </p:nvSpPr>
              <p:spPr>
                <a:xfrm>
                  <a:off x="5389200" y="4111200"/>
                  <a:ext cx="8622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Ton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96" name="Rectangle 71"/>
                <p:cNvSpPr/>
                <p:nvPr/>
              </p:nvSpPr>
              <p:spPr>
                <a:xfrm>
                  <a:off x="5389200" y="4111200"/>
                  <a:ext cx="86220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97" name="Group 72"/>
              <p:cNvGrpSpPr/>
              <p:nvPr/>
            </p:nvGrpSpPr>
            <p:grpSpPr>
              <a:xfrm>
                <a:off x="6251400" y="4111200"/>
                <a:ext cx="863640" cy="457200"/>
                <a:chOff x="6251400" y="4111200"/>
                <a:chExt cx="863640" cy="457200"/>
              </a:xfrm>
            </p:grpSpPr>
            <p:sp>
              <p:nvSpPr>
                <p:cNvPr id="198" name="Rectangle 73"/>
                <p:cNvSpPr/>
                <p:nvPr/>
              </p:nvSpPr>
              <p:spPr>
                <a:xfrm>
                  <a:off x="6251400" y="4111200"/>
                  <a:ext cx="8636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2,7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99" name="Rectangle 74"/>
                <p:cNvSpPr/>
                <p:nvPr/>
              </p:nvSpPr>
              <p:spPr>
                <a:xfrm>
                  <a:off x="6251400" y="4111200"/>
                  <a:ext cx="863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200" name="Group 75"/>
              <p:cNvGrpSpPr/>
              <p:nvPr/>
            </p:nvGrpSpPr>
            <p:grpSpPr>
              <a:xfrm>
                <a:off x="7115040" y="4111200"/>
                <a:ext cx="863640" cy="457200"/>
                <a:chOff x="7115040" y="4111200"/>
                <a:chExt cx="863640" cy="457200"/>
              </a:xfrm>
            </p:grpSpPr>
            <p:sp>
              <p:nvSpPr>
                <p:cNvPr id="201" name="Rectangle 76"/>
                <p:cNvSpPr/>
                <p:nvPr/>
              </p:nvSpPr>
              <p:spPr>
                <a:xfrm>
                  <a:off x="7115040" y="4111200"/>
                  <a:ext cx="8636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6,2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202" name="Rectangle 77"/>
                <p:cNvSpPr/>
                <p:nvPr/>
              </p:nvSpPr>
              <p:spPr>
                <a:xfrm>
                  <a:off x="7115040" y="4111200"/>
                  <a:ext cx="863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203" name="Group 78"/>
              <p:cNvGrpSpPr/>
              <p:nvPr/>
            </p:nvGrpSpPr>
            <p:grpSpPr>
              <a:xfrm>
                <a:off x="7978680" y="4111200"/>
                <a:ext cx="863280" cy="457200"/>
                <a:chOff x="7978680" y="4111200"/>
                <a:chExt cx="863280" cy="457200"/>
              </a:xfrm>
            </p:grpSpPr>
            <p:sp>
              <p:nvSpPr>
                <p:cNvPr id="204" name="Rectangle 79"/>
                <p:cNvSpPr/>
                <p:nvPr/>
              </p:nvSpPr>
              <p:spPr>
                <a:xfrm>
                  <a:off x="7978680" y="4111200"/>
                  <a:ext cx="86328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0,75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205" name="Rectangle 80"/>
                <p:cNvSpPr/>
                <p:nvPr/>
              </p:nvSpPr>
              <p:spPr>
                <a:xfrm>
                  <a:off x="7978680" y="4111200"/>
                  <a:ext cx="86328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206" name="Group 81"/>
              <p:cNvGrpSpPr/>
              <p:nvPr/>
            </p:nvGrpSpPr>
            <p:grpSpPr>
              <a:xfrm>
                <a:off x="1157040" y="4568400"/>
                <a:ext cx="4232160" cy="457200"/>
                <a:chOff x="1157040" y="4568400"/>
                <a:chExt cx="4232160" cy="457200"/>
              </a:xfrm>
            </p:grpSpPr>
            <p:sp>
              <p:nvSpPr>
                <p:cNvPr id="207" name="Rectangle 82"/>
                <p:cNvSpPr/>
                <p:nvPr/>
              </p:nvSpPr>
              <p:spPr>
                <a:xfrm>
                  <a:off x="1157040" y="4568400"/>
                  <a:ext cx="42321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APACIDAD COMBUSTIBLE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208" name="Rectangle 83"/>
                <p:cNvSpPr/>
                <p:nvPr/>
              </p:nvSpPr>
              <p:spPr>
                <a:xfrm>
                  <a:off x="1157040" y="4568400"/>
                  <a:ext cx="42321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209" name="Group 84"/>
              <p:cNvGrpSpPr/>
              <p:nvPr/>
            </p:nvGrpSpPr>
            <p:grpSpPr>
              <a:xfrm>
                <a:off x="5389200" y="4568400"/>
                <a:ext cx="862200" cy="457200"/>
                <a:chOff x="5389200" y="4568400"/>
                <a:chExt cx="862200" cy="457200"/>
              </a:xfrm>
            </p:grpSpPr>
            <p:sp>
              <p:nvSpPr>
                <p:cNvPr id="210" name="Rectangle 85"/>
                <p:cNvSpPr/>
                <p:nvPr/>
              </p:nvSpPr>
              <p:spPr>
                <a:xfrm>
                  <a:off x="5389200" y="4568400"/>
                  <a:ext cx="8622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lt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211" name="Rectangle 86"/>
                <p:cNvSpPr/>
                <p:nvPr/>
              </p:nvSpPr>
              <p:spPr>
                <a:xfrm>
                  <a:off x="5389200" y="4568400"/>
                  <a:ext cx="86220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212" name="Group 87"/>
              <p:cNvGrpSpPr/>
              <p:nvPr/>
            </p:nvGrpSpPr>
            <p:grpSpPr>
              <a:xfrm>
                <a:off x="6251400" y="4568400"/>
                <a:ext cx="863640" cy="457200"/>
                <a:chOff x="6251400" y="4568400"/>
                <a:chExt cx="863640" cy="457200"/>
              </a:xfrm>
            </p:grpSpPr>
            <p:sp>
              <p:nvSpPr>
                <p:cNvPr id="213" name="Rectangle 88"/>
                <p:cNvSpPr/>
                <p:nvPr/>
              </p:nvSpPr>
              <p:spPr>
                <a:xfrm>
                  <a:off x="6251400" y="4568400"/>
                  <a:ext cx="8636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510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214" name="Rectangle 89"/>
                <p:cNvSpPr/>
                <p:nvPr/>
              </p:nvSpPr>
              <p:spPr>
                <a:xfrm>
                  <a:off x="6251400" y="4568400"/>
                  <a:ext cx="863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215" name="Group 90"/>
              <p:cNvGrpSpPr/>
              <p:nvPr/>
            </p:nvGrpSpPr>
            <p:grpSpPr>
              <a:xfrm>
                <a:off x="7115040" y="4568400"/>
                <a:ext cx="863640" cy="457200"/>
                <a:chOff x="7115040" y="4568400"/>
                <a:chExt cx="863640" cy="457200"/>
              </a:xfrm>
            </p:grpSpPr>
            <p:sp>
              <p:nvSpPr>
                <p:cNvPr id="216" name="Rectangle 91"/>
                <p:cNvSpPr/>
                <p:nvPr/>
              </p:nvSpPr>
              <p:spPr>
                <a:xfrm>
                  <a:off x="7115040" y="4568400"/>
                  <a:ext cx="8636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59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217" name="Rectangle 92"/>
                <p:cNvSpPr/>
                <p:nvPr/>
              </p:nvSpPr>
              <p:spPr>
                <a:xfrm>
                  <a:off x="7115040" y="4568400"/>
                  <a:ext cx="863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218" name="Group 93"/>
              <p:cNvGrpSpPr/>
              <p:nvPr/>
            </p:nvGrpSpPr>
            <p:grpSpPr>
              <a:xfrm>
                <a:off x="7978680" y="4568400"/>
                <a:ext cx="863280" cy="457200"/>
                <a:chOff x="7978680" y="4568400"/>
                <a:chExt cx="863280" cy="457200"/>
              </a:xfrm>
            </p:grpSpPr>
            <p:sp>
              <p:nvSpPr>
                <p:cNvPr id="219" name="Rectangle 94"/>
                <p:cNvSpPr/>
                <p:nvPr/>
              </p:nvSpPr>
              <p:spPr>
                <a:xfrm>
                  <a:off x="7978680" y="4568400"/>
                  <a:ext cx="86328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42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220" name="Rectangle 95"/>
                <p:cNvSpPr/>
                <p:nvPr/>
              </p:nvSpPr>
              <p:spPr>
                <a:xfrm>
                  <a:off x="7978680" y="4568400"/>
                  <a:ext cx="86328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</p:grpSp>
        <p:sp>
          <p:nvSpPr>
            <p:cNvPr id="221" name="Rectangle 96"/>
            <p:cNvSpPr/>
            <p:nvPr/>
          </p:nvSpPr>
          <p:spPr>
            <a:xfrm>
              <a:off x="1152360" y="1547640"/>
              <a:ext cx="7694640" cy="3483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lliam Wragg</cp:lastModifiedBy>
  <dcterms:modified xsi:type="dcterms:W3CDTF">2008-09-23T12:26:59Z</dcterms:modified>
  <cp:revision>22</cp:revision>
  <dc:subject/>
  <dc:title>CI 52A</dc:title>
</cp:coreProperties>
</file>