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14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0.wmf" ContentType="image/x-wmf"/>
  <Override PartName="/ppt/media/image4.jpeg" ContentType="image/jpeg"/>
  <Override PartName="/ppt/media/image16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71D12-0A78-4AAB-B170-7F5F179E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7B410-5226-4BB1-A7CA-B77293BE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55FC-A427-47B0-927B-515D34C8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879C4-25A0-4DE7-AE06-0E0D0153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2ACE-5458-4C2C-AF63-1E529EA7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B538-D027-434C-B190-A7C9CF8C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229D-84DA-4ADD-9C23-A02B94D8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CF4F-3F0F-4FCA-B01C-F7C312B5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45CC-B875-42F4-862A-9F52B552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3335-DA6B-4F5E-90F4-F52B7420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DBA6-53BF-4573-9354-BC9AF1B3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33374-4D47-4EE1-8218-97DBD24B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B3AD-908E-4D9D-90C9-5C2F8046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3719-5DED-4CF5-8983-45F94966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60C3-E235-4001-A3E7-CFA90235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2FE4-7396-43E8-B9E7-A0A3C084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FED2-251F-44D0-BF9C-FA06A243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8B4E4-A760-4F79-8B29-DEC8CC76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98200-E6C9-4435-8BD3-7148C065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F09E9-A6DC-483D-9549-623E8FC1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D958-4ABF-477D-A886-B26ACABE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FE335-2D14-440C-980E-1D6C0708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7A862-76AF-4E9D-B9CB-7628478F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92B3D-1E1F-4F30-BF4A-ECB20992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AA23-90C4-4379-AEA7-4F96587B4B5B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86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86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B73E-E087-4DFF-AE9F-C24D6E8739FB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Maquinarias para Movim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Excavación y </a:t>
            </a:r>
            <a:r>
              <a:rPr b="0" lang="es-MX" sz="35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MX" sz="3500" spc="-1" strike="noStrike">
                <a:solidFill>
                  <a:srgbClr val="ffffff"/>
                </a:solidFill>
                <a:latin typeface="Times New Roman"/>
              </a:rPr>
              <a:t>Topadora</a:t>
            </a: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 (Dozer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618920"/>
            <a:ext cx="66960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Tipos de Hoja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Recta (S): corta y media distancia, relleno y esparcimiento de material, perpendicular al eje de la máquina. Tilt y pitch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Angulada (A): más ancha, angulo &lt;&gt;90º c/r eje de la máquina. Tilt. Rellenos y corte en cerros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Universal (U): más ancha que S, extremos curvos, mayor volumen de material, mayor distancia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Semi Universal: mezcla de S con U. Mayor volumen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Acolchada (C): para empujar traíllas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Picture 5" descr="semi_u_blades"/>
          <p:cNvPicPr/>
          <p:nvPr/>
        </p:nvPicPr>
        <p:blipFill>
          <a:blip r:embed="rId1"/>
          <a:stretch/>
        </p:blipFill>
        <p:spPr>
          <a:xfrm>
            <a:off x="8064360" y="4356000"/>
            <a:ext cx="1586160" cy="1586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semi_u_blades"/>
          <p:cNvPicPr/>
          <p:nvPr/>
        </p:nvPicPr>
        <p:blipFill>
          <a:blip r:embed="rId2"/>
          <a:stretch/>
        </p:blipFill>
        <p:spPr>
          <a:xfrm>
            <a:off x="6624720" y="543564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Power Angle Tilt Blade"/>
          <p:cNvPicPr/>
          <p:nvPr/>
        </p:nvPicPr>
        <p:blipFill>
          <a:blip r:embed="rId3"/>
          <a:stretch/>
        </p:blipFill>
        <p:spPr>
          <a:xfrm>
            <a:off x="6840360" y="3375000"/>
            <a:ext cx="3024360" cy="922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push_plate_close"/>
          <p:cNvPicPr/>
          <p:nvPr/>
        </p:nvPicPr>
        <p:blipFill>
          <a:blip r:embed="rId4"/>
          <a:stretch/>
        </p:blipFill>
        <p:spPr>
          <a:xfrm>
            <a:off x="8064360" y="5940360"/>
            <a:ext cx="1800360" cy="1409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dozer7"/>
          <p:cNvPicPr/>
          <p:nvPr/>
        </p:nvPicPr>
        <p:blipFill>
          <a:blip r:embed="rId5"/>
          <a:stretch/>
        </p:blipFill>
        <p:spPr>
          <a:xfrm>
            <a:off x="7056360" y="395280"/>
            <a:ext cx="2495520" cy="973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wdblade1"/>
          <p:cNvPicPr/>
          <p:nvPr/>
        </p:nvPicPr>
        <p:blipFill>
          <a:blip r:embed="rId6"/>
          <a:stretch/>
        </p:blipFill>
        <p:spPr>
          <a:xfrm>
            <a:off x="7345440" y="1763640"/>
            <a:ext cx="2214360" cy="15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0" y="2700360"/>
            <a:ext cx="10080720" cy="39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2" name="3 Flecha abajo"/>
          <p:cNvSpPr/>
          <p:nvPr/>
        </p:nvSpPr>
        <p:spPr>
          <a:xfrm>
            <a:off x="7826400" y="2708280"/>
            <a:ext cx="642960" cy="11430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http://www.unam.mx/terracerias/t3graf02.gif"/>
          <p:cNvPicPr/>
          <p:nvPr/>
        </p:nvPicPr>
        <p:blipFill>
          <a:blip r:embed="rId1"/>
          <a:stretch/>
        </p:blipFill>
        <p:spPr>
          <a:xfrm>
            <a:off x="85680" y="60480"/>
            <a:ext cx="5638680" cy="8729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5826240" y="2065320"/>
            <a:ext cx="4071960" cy="532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5052960" cy="7259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http://www.unam.mx/terracerias/t3graf01.gif"/>
          <p:cNvPicPr/>
          <p:nvPr/>
        </p:nvPicPr>
        <p:blipFill>
          <a:blip r:embed="rId2"/>
          <a:stretch/>
        </p:blipFill>
        <p:spPr>
          <a:xfrm>
            <a:off x="5370480" y="365040"/>
            <a:ext cx="455472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RIPPING (DESGARRO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300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l ripper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es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un elemento angosto que penetra el terreno y lo suelt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ara usos livianos se pueden montar en motonivelador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ara Heavy Duty se montan en DOZE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l costo de desgarrar es aproximadamente la mitad c/r a tronadur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5326200" y="3637080"/>
            <a:ext cx="4539960" cy="35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RIPPING (DESGARRO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Mientras menor sea la velocidad del sonido en la roca, más fácil será desgarrarl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468440" y="2279520"/>
            <a:ext cx="6572160" cy="507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DOZER (HOJA TOPADORA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41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Descripción/Característic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De orugas o ruedas. Observación mandos finale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Bajo centro de gravedad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5" descr="cat"/>
          <p:cNvPicPr/>
          <p:nvPr/>
        </p:nvPicPr>
        <p:blipFill>
          <a:blip r:embed="rId1"/>
          <a:stretch/>
        </p:blipFill>
        <p:spPr>
          <a:xfrm>
            <a:off x="5400720" y="3635280"/>
            <a:ext cx="3673440" cy="3673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at"/>
          <p:cNvPicPr/>
          <p:nvPr/>
        </p:nvPicPr>
        <p:blipFill>
          <a:blip r:embed="rId2"/>
          <a:stretch/>
        </p:blipFill>
        <p:spPr>
          <a:xfrm>
            <a:off x="1079640" y="3635280"/>
            <a:ext cx="367344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 (HOJA TOPADORA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41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Importancia</a:t>
            </a: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 de la trac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Coeficiente de tra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Peso sobre las ruedas motrices (“inflar” con agua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Orugas normales (6 a 9 psi) o LGP (3 a 4 psi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5" descr="289420040810190137-3080534265"/>
          <p:cNvPicPr/>
          <p:nvPr/>
        </p:nvPicPr>
        <p:blipFill>
          <a:blip r:embed="rId1"/>
          <a:stretch/>
        </p:blipFill>
        <p:spPr>
          <a:xfrm>
            <a:off x="719280" y="4140360"/>
            <a:ext cx="4176720" cy="3133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Muddy Soil Excavator"/>
          <p:cNvPicPr/>
          <p:nvPr/>
        </p:nvPicPr>
        <p:blipFill>
          <a:blip r:embed="rId2"/>
          <a:stretch/>
        </p:blipFill>
        <p:spPr>
          <a:xfrm>
            <a:off x="5472000" y="4140360"/>
            <a:ext cx="399744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 (HOJA TOPADORA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41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Descripción/Característic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Los equipos con orugas pueden trabajar en pendientes de hasta 45º, limitados por el sistema de lubrica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Cabina ROPS (Roll Over Protection System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Motores tipicamente diesel. Bencineros en equipos </a:t>
            </a: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más pequeños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41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Transmis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Mecánica directa (de orugas pequeños). Carga constante y distancias larga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Con convertidor de torque (de orugas grandes y de ruedas) Carga variable, absorción de impact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Hidraulica (orugas pequeños) Mayor control y eficienci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11240" y="1403280"/>
            <a:ext cx="5408640" cy="586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5065560" y="179280"/>
            <a:ext cx="4799160" cy="22971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6"/>
          <p:cNvSpPr/>
          <p:nvPr/>
        </p:nvSpPr>
        <p:spPr>
          <a:xfrm>
            <a:off x="6264360" y="4859280"/>
            <a:ext cx="180000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27601"/>
              <a:gd name="adj5" fmla="val 177449"/>
              <a:gd name="adj6" fmla="val -11163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Transmisión Mecánic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6335640" y="3708360"/>
            <a:ext cx="180036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35625"/>
              <a:gd name="adj5" fmla="val 353430"/>
              <a:gd name="adj6" fmla="val -148675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Transmisión Conv. Torqu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048360" y="6084720"/>
            <a:ext cx="309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Velocidad máxima: 23 kp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Empuje máximo: 75 000 kg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216000" y="1258920"/>
            <a:ext cx="5108400" cy="6049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4176720" y="179280"/>
            <a:ext cx="5695920" cy="285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048360" y="6084720"/>
            <a:ext cx="309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Velocidad máxima: 12 kp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Empuje máximo: 150 000 kg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1"/>
          <p:cNvGraphicFramePr/>
          <p:nvPr/>
        </p:nvGraphicFramePr>
        <p:xfrm>
          <a:off x="3537000" y="3882960"/>
          <a:ext cx="325116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7000" y="3882960"/>
                    <a:ext cx="325116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"/>
          <p:cNvGraphicFramePr/>
          <p:nvPr/>
        </p:nvGraphicFramePr>
        <p:xfrm>
          <a:off x="3537000" y="3440160"/>
          <a:ext cx="3251160" cy="76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37000" y="3440160"/>
                    <a:ext cx="32511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5"/>
          <p:cNvGraphicFramePr/>
          <p:nvPr/>
        </p:nvGraphicFramePr>
        <p:xfrm>
          <a:off x="503280" y="539640"/>
          <a:ext cx="9290160" cy="650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280" y="539640"/>
                    <a:ext cx="9290160" cy="650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1152360" y="1547640"/>
            <a:ext cx="7694640" cy="3483000"/>
            <a:chOff x="1152360" y="1547640"/>
            <a:chExt cx="7694640" cy="3483000"/>
          </a:xfrm>
        </p:grpSpPr>
        <p:grpSp>
          <p:nvGrpSpPr>
            <p:cNvPr id="130" name="Group 5"/>
            <p:cNvGrpSpPr/>
            <p:nvPr/>
          </p:nvGrpSpPr>
          <p:grpSpPr>
            <a:xfrm>
              <a:off x="1157040" y="1552320"/>
              <a:ext cx="7684920" cy="3473280"/>
              <a:chOff x="1157040" y="1552320"/>
              <a:chExt cx="7684920" cy="3473280"/>
            </a:xfrm>
          </p:grpSpPr>
          <p:grpSp>
            <p:nvGrpSpPr>
              <p:cNvPr id="131" name="Group 6"/>
              <p:cNvGrpSpPr/>
              <p:nvPr/>
            </p:nvGrpSpPr>
            <p:grpSpPr>
              <a:xfrm>
                <a:off x="1157040" y="1552320"/>
                <a:ext cx="4232160" cy="1187280"/>
                <a:chOff x="1157040" y="1552320"/>
                <a:chExt cx="4232160" cy="1187280"/>
              </a:xfrm>
            </p:grpSpPr>
            <p:sp>
              <p:nvSpPr>
                <p:cNvPr id="132" name="Rectangle 7"/>
                <p:cNvSpPr/>
                <p:nvPr/>
              </p:nvSpPr>
              <p:spPr>
                <a:xfrm>
                  <a:off x="1157040" y="1552320"/>
                  <a:ext cx="4232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ARACTERÍSTICA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3" name="Rectangle 8"/>
                <p:cNvSpPr/>
                <p:nvPr/>
              </p:nvSpPr>
              <p:spPr>
                <a:xfrm>
                  <a:off x="1157040" y="1552320"/>
                  <a:ext cx="423216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4" name="Group 9"/>
              <p:cNvGrpSpPr/>
              <p:nvPr/>
            </p:nvGrpSpPr>
            <p:grpSpPr>
              <a:xfrm>
                <a:off x="5389200" y="1552320"/>
                <a:ext cx="862200" cy="1187280"/>
                <a:chOff x="5389200" y="1552320"/>
                <a:chExt cx="862200" cy="1187280"/>
              </a:xfrm>
            </p:grpSpPr>
            <p:sp>
              <p:nvSpPr>
                <p:cNvPr id="135" name="Rectangle 10"/>
                <p:cNvSpPr/>
                <p:nvPr/>
              </p:nvSpPr>
              <p:spPr>
                <a:xfrm>
                  <a:off x="5389200" y="1552320"/>
                  <a:ext cx="8622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UD.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6" name="Rectangle 11"/>
                <p:cNvSpPr/>
                <p:nvPr/>
              </p:nvSpPr>
              <p:spPr>
                <a:xfrm>
                  <a:off x="5389200" y="1552320"/>
                  <a:ext cx="862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7" name="Group 12"/>
              <p:cNvGrpSpPr/>
              <p:nvPr/>
            </p:nvGrpSpPr>
            <p:grpSpPr>
              <a:xfrm>
                <a:off x="6251400" y="1552320"/>
                <a:ext cx="863640" cy="1187280"/>
                <a:chOff x="6251400" y="1552320"/>
                <a:chExt cx="863640" cy="1187280"/>
              </a:xfrm>
            </p:grpSpPr>
            <p:sp>
              <p:nvSpPr>
                <p:cNvPr id="138" name="Rectangle 13"/>
                <p:cNvSpPr/>
                <p:nvPr/>
              </p:nvSpPr>
              <p:spPr>
                <a:xfrm>
                  <a:off x="6251400" y="1552320"/>
                  <a:ext cx="863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D8H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9" name="Rectangle 14"/>
                <p:cNvSpPr/>
                <p:nvPr/>
              </p:nvSpPr>
              <p:spPr>
                <a:xfrm>
                  <a:off x="6251400" y="1552320"/>
                  <a:ext cx="8636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0" name="Group 15"/>
              <p:cNvGrpSpPr/>
              <p:nvPr/>
            </p:nvGrpSpPr>
            <p:grpSpPr>
              <a:xfrm>
                <a:off x="7115040" y="1552320"/>
                <a:ext cx="863640" cy="1187280"/>
                <a:chOff x="7115040" y="1552320"/>
                <a:chExt cx="863640" cy="1187280"/>
              </a:xfrm>
            </p:grpSpPr>
            <p:sp>
              <p:nvSpPr>
                <p:cNvPr id="141" name="Rectangle 16"/>
                <p:cNvSpPr/>
                <p:nvPr/>
              </p:nvSpPr>
              <p:spPr>
                <a:xfrm>
                  <a:off x="7115040" y="1552320"/>
                  <a:ext cx="863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D4D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2" name="Rectangle 17"/>
                <p:cNvSpPr/>
                <p:nvPr/>
              </p:nvSpPr>
              <p:spPr>
                <a:xfrm>
                  <a:off x="7115040" y="1552320"/>
                  <a:ext cx="8636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3" name="Group 18"/>
              <p:cNvGrpSpPr/>
              <p:nvPr/>
            </p:nvGrpSpPr>
            <p:grpSpPr>
              <a:xfrm>
                <a:off x="7978680" y="1552320"/>
                <a:ext cx="863280" cy="1187280"/>
                <a:chOff x="7978680" y="1552320"/>
                <a:chExt cx="863280" cy="1187280"/>
              </a:xfrm>
            </p:grpSpPr>
            <p:sp>
              <p:nvSpPr>
                <p:cNvPr id="144" name="Rectangle 19"/>
                <p:cNvSpPr/>
                <p:nvPr/>
              </p:nvSpPr>
              <p:spPr>
                <a:xfrm>
                  <a:off x="7978680" y="1552320"/>
                  <a:ext cx="863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uto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5" name="Rectangle 20"/>
                <p:cNvSpPr/>
                <p:nvPr/>
              </p:nvSpPr>
              <p:spPr>
                <a:xfrm>
                  <a:off x="7978680" y="1552320"/>
                  <a:ext cx="863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6" name="Group 21"/>
              <p:cNvGrpSpPr/>
              <p:nvPr/>
            </p:nvGrpSpPr>
            <p:grpSpPr>
              <a:xfrm>
                <a:off x="1157040" y="2739600"/>
                <a:ext cx="4232160" cy="457200"/>
                <a:chOff x="1157040" y="2739600"/>
                <a:chExt cx="4232160" cy="457200"/>
              </a:xfrm>
            </p:grpSpPr>
            <p:sp>
              <p:nvSpPr>
                <p:cNvPr id="147" name="Rectangle 22"/>
                <p:cNvSpPr/>
                <p:nvPr/>
              </p:nvSpPr>
              <p:spPr>
                <a:xfrm>
                  <a:off x="1157040" y="27396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ILINDRADA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8" name="Rectangle 23"/>
                <p:cNvSpPr/>
                <p:nvPr/>
              </p:nvSpPr>
              <p:spPr>
                <a:xfrm>
                  <a:off x="1157040" y="27396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9" name="Group 24"/>
              <p:cNvGrpSpPr/>
              <p:nvPr/>
            </p:nvGrpSpPr>
            <p:grpSpPr>
              <a:xfrm>
                <a:off x="5389200" y="2739600"/>
                <a:ext cx="862200" cy="457200"/>
                <a:chOff x="5389200" y="2739600"/>
                <a:chExt cx="862200" cy="457200"/>
              </a:xfrm>
            </p:grpSpPr>
            <p:sp>
              <p:nvSpPr>
                <p:cNvPr id="150" name="Rectangle 25"/>
                <p:cNvSpPr/>
                <p:nvPr/>
              </p:nvSpPr>
              <p:spPr>
                <a:xfrm>
                  <a:off x="5389200" y="27396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lt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1" name="Rectangle 26"/>
                <p:cNvSpPr/>
                <p:nvPr/>
              </p:nvSpPr>
              <p:spPr>
                <a:xfrm>
                  <a:off x="5389200" y="27396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2" name="Group 27"/>
              <p:cNvGrpSpPr/>
              <p:nvPr/>
            </p:nvGrpSpPr>
            <p:grpSpPr>
              <a:xfrm>
                <a:off x="6251400" y="2739600"/>
                <a:ext cx="863640" cy="457200"/>
                <a:chOff x="6251400" y="2739600"/>
                <a:chExt cx="863640" cy="457200"/>
              </a:xfrm>
            </p:grpSpPr>
            <p:sp>
              <p:nvSpPr>
                <p:cNvPr id="153" name="Rectangle 28"/>
                <p:cNvSpPr/>
                <p:nvPr/>
              </p:nvSpPr>
              <p:spPr>
                <a:xfrm>
                  <a:off x="6251400" y="27396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0,4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4" name="Rectangle 29"/>
                <p:cNvSpPr/>
                <p:nvPr/>
              </p:nvSpPr>
              <p:spPr>
                <a:xfrm>
                  <a:off x="6251400" y="27396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5" name="Group 30"/>
              <p:cNvGrpSpPr/>
              <p:nvPr/>
            </p:nvGrpSpPr>
            <p:grpSpPr>
              <a:xfrm>
                <a:off x="7115040" y="2739600"/>
                <a:ext cx="863640" cy="457200"/>
                <a:chOff x="7115040" y="2739600"/>
                <a:chExt cx="863640" cy="457200"/>
              </a:xfrm>
            </p:grpSpPr>
            <p:sp>
              <p:nvSpPr>
                <p:cNvPr id="156" name="Rectangle 31"/>
                <p:cNvSpPr/>
                <p:nvPr/>
              </p:nvSpPr>
              <p:spPr>
                <a:xfrm>
                  <a:off x="7115040" y="27396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7" name="Rectangle 32"/>
                <p:cNvSpPr/>
                <p:nvPr/>
              </p:nvSpPr>
              <p:spPr>
                <a:xfrm>
                  <a:off x="7115040" y="27396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8" name="Group 33"/>
              <p:cNvGrpSpPr/>
              <p:nvPr/>
            </p:nvGrpSpPr>
            <p:grpSpPr>
              <a:xfrm>
                <a:off x="7978680" y="2739600"/>
                <a:ext cx="863280" cy="457200"/>
                <a:chOff x="7978680" y="2739600"/>
                <a:chExt cx="863280" cy="457200"/>
              </a:xfrm>
            </p:grpSpPr>
            <p:sp>
              <p:nvSpPr>
                <p:cNvPr id="159" name="Rectangle 34"/>
                <p:cNvSpPr/>
                <p:nvPr/>
              </p:nvSpPr>
              <p:spPr>
                <a:xfrm>
                  <a:off x="7978680" y="27396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,6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0" name="Rectangle 35"/>
                <p:cNvSpPr/>
                <p:nvPr/>
              </p:nvSpPr>
              <p:spPr>
                <a:xfrm>
                  <a:off x="7978680" y="27396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1" name="Group 36"/>
              <p:cNvGrpSpPr/>
              <p:nvPr/>
            </p:nvGrpSpPr>
            <p:grpSpPr>
              <a:xfrm>
                <a:off x="1157040" y="3196800"/>
                <a:ext cx="4232160" cy="457200"/>
                <a:chOff x="1157040" y="3196800"/>
                <a:chExt cx="4232160" cy="457200"/>
              </a:xfrm>
            </p:grpSpPr>
            <p:sp>
              <p:nvSpPr>
                <p:cNvPr id="162" name="Rectangle 37"/>
                <p:cNvSpPr/>
                <p:nvPr/>
              </p:nvSpPr>
              <p:spPr>
                <a:xfrm>
                  <a:off x="1157040" y="31968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POTENCIA EN EL VOLANTE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3" name="Rectangle 38"/>
                <p:cNvSpPr/>
                <p:nvPr/>
              </p:nvSpPr>
              <p:spPr>
                <a:xfrm>
                  <a:off x="1157040" y="31968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4" name="Group 39"/>
              <p:cNvGrpSpPr/>
              <p:nvPr/>
            </p:nvGrpSpPr>
            <p:grpSpPr>
              <a:xfrm>
                <a:off x="5389200" y="3196800"/>
                <a:ext cx="862200" cy="457200"/>
                <a:chOff x="5389200" y="3196800"/>
                <a:chExt cx="862200" cy="457200"/>
              </a:xfrm>
            </p:grpSpPr>
            <p:sp>
              <p:nvSpPr>
                <p:cNvPr id="165" name="Rectangle 40"/>
                <p:cNvSpPr/>
                <p:nvPr/>
              </p:nvSpPr>
              <p:spPr>
                <a:xfrm>
                  <a:off x="5389200" y="31968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HP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6" name="Rectangle 41"/>
                <p:cNvSpPr/>
                <p:nvPr/>
              </p:nvSpPr>
              <p:spPr>
                <a:xfrm>
                  <a:off x="5389200" y="31968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7" name="Group 42"/>
              <p:cNvGrpSpPr/>
              <p:nvPr/>
            </p:nvGrpSpPr>
            <p:grpSpPr>
              <a:xfrm>
                <a:off x="6251400" y="3196800"/>
                <a:ext cx="863640" cy="457200"/>
                <a:chOff x="6251400" y="3196800"/>
                <a:chExt cx="863640" cy="457200"/>
              </a:xfrm>
            </p:grpSpPr>
            <p:sp>
              <p:nvSpPr>
                <p:cNvPr id="168" name="Rectangle 43"/>
                <p:cNvSpPr/>
                <p:nvPr/>
              </p:nvSpPr>
              <p:spPr>
                <a:xfrm>
                  <a:off x="6251400" y="31968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7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9" name="Rectangle 44"/>
                <p:cNvSpPr/>
                <p:nvPr/>
              </p:nvSpPr>
              <p:spPr>
                <a:xfrm>
                  <a:off x="6251400" y="31968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0" name="Group 45"/>
              <p:cNvGrpSpPr/>
              <p:nvPr/>
            </p:nvGrpSpPr>
            <p:grpSpPr>
              <a:xfrm>
                <a:off x="7115040" y="3196800"/>
                <a:ext cx="863640" cy="457200"/>
                <a:chOff x="7115040" y="3196800"/>
                <a:chExt cx="863640" cy="457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7115040" y="31968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5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2" name="Rectangle 47"/>
                <p:cNvSpPr/>
                <p:nvPr/>
              </p:nvSpPr>
              <p:spPr>
                <a:xfrm>
                  <a:off x="7115040" y="31968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3" name="Group 48"/>
              <p:cNvGrpSpPr/>
              <p:nvPr/>
            </p:nvGrpSpPr>
            <p:grpSpPr>
              <a:xfrm>
                <a:off x="7978680" y="3196800"/>
                <a:ext cx="863280" cy="457200"/>
                <a:chOff x="7978680" y="3196800"/>
                <a:chExt cx="863280" cy="457200"/>
              </a:xfrm>
            </p:grpSpPr>
            <p:sp>
              <p:nvSpPr>
                <p:cNvPr id="174" name="Rectangle 49"/>
                <p:cNvSpPr/>
                <p:nvPr/>
              </p:nvSpPr>
              <p:spPr>
                <a:xfrm>
                  <a:off x="7978680" y="31968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92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5" name="Rectangle 50"/>
                <p:cNvSpPr/>
                <p:nvPr/>
              </p:nvSpPr>
              <p:spPr>
                <a:xfrm>
                  <a:off x="7978680" y="31968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6" name="Group 51"/>
              <p:cNvGrpSpPr/>
              <p:nvPr/>
            </p:nvGrpSpPr>
            <p:grpSpPr>
              <a:xfrm>
                <a:off x="1157040" y="3654000"/>
                <a:ext cx="4232160" cy="457200"/>
                <a:chOff x="1157040" y="3654000"/>
                <a:chExt cx="4232160" cy="457200"/>
              </a:xfrm>
            </p:grpSpPr>
            <p:sp>
              <p:nvSpPr>
                <p:cNvPr id="177" name="Rectangle 52"/>
                <p:cNvSpPr/>
                <p:nvPr/>
              </p:nvSpPr>
              <p:spPr>
                <a:xfrm>
                  <a:off x="1157040" y="36540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REGIMEN MÁXIMO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8" name="Rectangle 53"/>
                <p:cNvSpPr/>
                <p:nvPr/>
              </p:nvSpPr>
              <p:spPr>
                <a:xfrm>
                  <a:off x="1157040" y="36540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9" name="Group 54"/>
              <p:cNvGrpSpPr/>
              <p:nvPr/>
            </p:nvGrpSpPr>
            <p:grpSpPr>
              <a:xfrm>
                <a:off x="5389200" y="3654000"/>
                <a:ext cx="862200" cy="457200"/>
                <a:chOff x="5389200" y="3654000"/>
                <a:chExt cx="862200" cy="457200"/>
              </a:xfrm>
            </p:grpSpPr>
            <p:sp>
              <p:nvSpPr>
                <p:cNvPr id="180" name="Rectangle 55"/>
                <p:cNvSpPr/>
                <p:nvPr/>
              </p:nvSpPr>
              <p:spPr>
                <a:xfrm>
                  <a:off x="5389200" y="36540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RPM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1" name="Rectangle 56"/>
                <p:cNvSpPr/>
                <p:nvPr/>
              </p:nvSpPr>
              <p:spPr>
                <a:xfrm>
                  <a:off x="5389200" y="36540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2" name="Group 57"/>
              <p:cNvGrpSpPr/>
              <p:nvPr/>
            </p:nvGrpSpPr>
            <p:grpSpPr>
              <a:xfrm>
                <a:off x="6251400" y="3654000"/>
                <a:ext cx="863640" cy="457200"/>
                <a:chOff x="6251400" y="3654000"/>
                <a:chExt cx="863640" cy="457200"/>
              </a:xfrm>
            </p:grpSpPr>
            <p:sp>
              <p:nvSpPr>
                <p:cNvPr id="183" name="Rectangle 58"/>
                <p:cNvSpPr/>
                <p:nvPr/>
              </p:nvSpPr>
              <p:spPr>
                <a:xfrm>
                  <a:off x="6251400" y="36540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28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4" name="Rectangle 59"/>
                <p:cNvSpPr/>
                <p:nvPr/>
              </p:nvSpPr>
              <p:spPr>
                <a:xfrm>
                  <a:off x="6251400" y="36540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5" name="Group 60"/>
              <p:cNvGrpSpPr/>
              <p:nvPr/>
            </p:nvGrpSpPr>
            <p:grpSpPr>
              <a:xfrm>
                <a:off x="7115040" y="3654000"/>
                <a:ext cx="863640" cy="457200"/>
                <a:chOff x="7115040" y="3654000"/>
                <a:chExt cx="863640" cy="457200"/>
              </a:xfrm>
            </p:grpSpPr>
            <p:sp>
              <p:nvSpPr>
                <p:cNvPr id="186" name="Rectangle 61"/>
                <p:cNvSpPr/>
                <p:nvPr/>
              </p:nvSpPr>
              <p:spPr>
                <a:xfrm>
                  <a:off x="7115040" y="36540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68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7" name="Rectangle 62"/>
                <p:cNvSpPr/>
                <p:nvPr/>
              </p:nvSpPr>
              <p:spPr>
                <a:xfrm>
                  <a:off x="7115040" y="36540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8" name="Group 63"/>
              <p:cNvGrpSpPr/>
              <p:nvPr/>
            </p:nvGrpSpPr>
            <p:grpSpPr>
              <a:xfrm>
                <a:off x="7978680" y="3654000"/>
                <a:ext cx="863280" cy="457200"/>
                <a:chOff x="7978680" y="3654000"/>
                <a:chExt cx="863280" cy="457200"/>
              </a:xfrm>
            </p:grpSpPr>
            <p:sp>
              <p:nvSpPr>
                <p:cNvPr id="189" name="Rectangle 64"/>
                <p:cNvSpPr/>
                <p:nvPr/>
              </p:nvSpPr>
              <p:spPr>
                <a:xfrm>
                  <a:off x="7978680" y="36540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90" name="Rectangle 65"/>
                <p:cNvSpPr/>
                <p:nvPr/>
              </p:nvSpPr>
              <p:spPr>
                <a:xfrm>
                  <a:off x="7978680" y="36540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91" name="Group 66"/>
              <p:cNvGrpSpPr/>
              <p:nvPr/>
            </p:nvGrpSpPr>
            <p:grpSpPr>
              <a:xfrm>
                <a:off x="1157040" y="4111200"/>
                <a:ext cx="4232160" cy="457200"/>
                <a:chOff x="1157040" y="4111200"/>
                <a:chExt cx="4232160" cy="457200"/>
              </a:xfrm>
            </p:grpSpPr>
            <p:sp>
              <p:nvSpPr>
                <p:cNvPr id="192" name="Rectangle 67"/>
                <p:cNvSpPr/>
                <p:nvPr/>
              </p:nvSpPr>
              <p:spPr>
                <a:xfrm>
                  <a:off x="1157040" y="41112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PESO SIN HOJA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93" name="Rectangle 68"/>
                <p:cNvSpPr/>
                <p:nvPr/>
              </p:nvSpPr>
              <p:spPr>
                <a:xfrm>
                  <a:off x="1157040" y="41112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94" name="Group 69"/>
              <p:cNvGrpSpPr/>
              <p:nvPr/>
            </p:nvGrpSpPr>
            <p:grpSpPr>
              <a:xfrm>
                <a:off x="5389200" y="4111200"/>
                <a:ext cx="862200" cy="457200"/>
                <a:chOff x="5389200" y="4111200"/>
                <a:chExt cx="862200" cy="457200"/>
              </a:xfrm>
            </p:grpSpPr>
            <p:sp>
              <p:nvSpPr>
                <p:cNvPr id="195" name="Rectangle 70"/>
                <p:cNvSpPr/>
                <p:nvPr/>
              </p:nvSpPr>
              <p:spPr>
                <a:xfrm>
                  <a:off x="5389200" y="41112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on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96" name="Rectangle 71"/>
                <p:cNvSpPr/>
                <p:nvPr/>
              </p:nvSpPr>
              <p:spPr>
                <a:xfrm>
                  <a:off x="5389200" y="41112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97" name="Group 72"/>
              <p:cNvGrpSpPr/>
              <p:nvPr/>
            </p:nvGrpSpPr>
            <p:grpSpPr>
              <a:xfrm>
                <a:off x="6251400" y="4111200"/>
                <a:ext cx="863640" cy="457200"/>
                <a:chOff x="6251400" y="4111200"/>
                <a:chExt cx="863640" cy="457200"/>
              </a:xfrm>
            </p:grpSpPr>
            <p:sp>
              <p:nvSpPr>
                <p:cNvPr id="198" name="Rectangle 73"/>
                <p:cNvSpPr/>
                <p:nvPr/>
              </p:nvSpPr>
              <p:spPr>
                <a:xfrm>
                  <a:off x="6251400" y="41112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2,7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99" name="Rectangle 74"/>
                <p:cNvSpPr/>
                <p:nvPr/>
              </p:nvSpPr>
              <p:spPr>
                <a:xfrm>
                  <a:off x="6251400" y="41112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00" name="Group 75"/>
              <p:cNvGrpSpPr/>
              <p:nvPr/>
            </p:nvGrpSpPr>
            <p:grpSpPr>
              <a:xfrm>
                <a:off x="7115040" y="4111200"/>
                <a:ext cx="863640" cy="457200"/>
                <a:chOff x="7115040" y="4111200"/>
                <a:chExt cx="863640" cy="457200"/>
              </a:xfrm>
            </p:grpSpPr>
            <p:sp>
              <p:nvSpPr>
                <p:cNvPr id="201" name="Rectangle 76"/>
                <p:cNvSpPr/>
                <p:nvPr/>
              </p:nvSpPr>
              <p:spPr>
                <a:xfrm>
                  <a:off x="7115040" y="41112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,2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02" name="Rectangle 77"/>
                <p:cNvSpPr/>
                <p:nvPr/>
              </p:nvSpPr>
              <p:spPr>
                <a:xfrm>
                  <a:off x="7115040" y="41112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03" name="Group 78"/>
              <p:cNvGrpSpPr/>
              <p:nvPr/>
            </p:nvGrpSpPr>
            <p:grpSpPr>
              <a:xfrm>
                <a:off x="7978680" y="4111200"/>
                <a:ext cx="863280" cy="457200"/>
                <a:chOff x="7978680" y="4111200"/>
                <a:chExt cx="863280" cy="457200"/>
              </a:xfrm>
            </p:grpSpPr>
            <p:sp>
              <p:nvSpPr>
                <p:cNvPr id="204" name="Rectangle 79"/>
                <p:cNvSpPr/>
                <p:nvPr/>
              </p:nvSpPr>
              <p:spPr>
                <a:xfrm>
                  <a:off x="7978680" y="41112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0,75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05" name="Rectangle 80"/>
                <p:cNvSpPr/>
                <p:nvPr/>
              </p:nvSpPr>
              <p:spPr>
                <a:xfrm>
                  <a:off x="7978680" y="41112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06" name="Group 81"/>
              <p:cNvGrpSpPr/>
              <p:nvPr/>
            </p:nvGrpSpPr>
            <p:grpSpPr>
              <a:xfrm>
                <a:off x="1157040" y="4568400"/>
                <a:ext cx="4232160" cy="457200"/>
                <a:chOff x="1157040" y="4568400"/>
                <a:chExt cx="4232160" cy="457200"/>
              </a:xfrm>
            </p:grpSpPr>
            <p:sp>
              <p:nvSpPr>
                <p:cNvPr id="207" name="Rectangle 82"/>
                <p:cNvSpPr/>
                <p:nvPr/>
              </p:nvSpPr>
              <p:spPr>
                <a:xfrm>
                  <a:off x="1157040" y="45684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APACIDAD COMBUSTIBLE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08" name="Rectangle 83"/>
                <p:cNvSpPr/>
                <p:nvPr/>
              </p:nvSpPr>
              <p:spPr>
                <a:xfrm>
                  <a:off x="1157040" y="45684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09" name="Group 84"/>
              <p:cNvGrpSpPr/>
              <p:nvPr/>
            </p:nvGrpSpPr>
            <p:grpSpPr>
              <a:xfrm>
                <a:off x="5389200" y="4568400"/>
                <a:ext cx="862200" cy="457200"/>
                <a:chOff x="5389200" y="4568400"/>
                <a:chExt cx="862200" cy="457200"/>
              </a:xfrm>
            </p:grpSpPr>
            <p:sp>
              <p:nvSpPr>
                <p:cNvPr id="210" name="Rectangle 85"/>
                <p:cNvSpPr/>
                <p:nvPr/>
              </p:nvSpPr>
              <p:spPr>
                <a:xfrm>
                  <a:off x="5389200" y="45684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lt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11" name="Rectangle 86"/>
                <p:cNvSpPr/>
                <p:nvPr/>
              </p:nvSpPr>
              <p:spPr>
                <a:xfrm>
                  <a:off x="5389200" y="45684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12" name="Group 87"/>
              <p:cNvGrpSpPr/>
              <p:nvPr/>
            </p:nvGrpSpPr>
            <p:grpSpPr>
              <a:xfrm>
                <a:off x="6251400" y="4568400"/>
                <a:ext cx="863640" cy="457200"/>
                <a:chOff x="6251400" y="4568400"/>
                <a:chExt cx="863640" cy="457200"/>
              </a:xfrm>
            </p:grpSpPr>
            <p:sp>
              <p:nvSpPr>
                <p:cNvPr id="213" name="Rectangle 88"/>
                <p:cNvSpPr/>
                <p:nvPr/>
              </p:nvSpPr>
              <p:spPr>
                <a:xfrm>
                  <a:off x="6251400" y="45684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1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14" name="Rectangle 89"/>
                <p:cNvSpPr/>
                <p:nvPr/>
              </p:nvSpPr>
              <p:spPr>
                <a:xfrm>
                  <a:off x="6251400" y="45684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15" name="Group 90"/>
              <p:cNvGrpSpPr/>
              <p:nvPr/>
            </p:nvGrpSpPr>
            <p:grpSpPr>
              <a:xfrm>
                <a:off x="7115040" y="4568400"/>
                <a:ext cx="863640" cy="457200"/>
                <a:chOff x="7115040" y="4568400"/>
                <a:chExt cx="863640" cy="457200"/>
              </a:xfrm>
            </p:grpSpPr>
            <p:sp>
              <p:nvSpPr>
                <p:cNvPr id="216" name="Rectangle 91"/>
                <p:cNvSpPr/>
                <p:nvPr/>
              </p:nvSpPr>
              <p:spPr>
                <a:xfrm>
                  <a:off x="7115040" y="45684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59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17" name="Rectangle 92"/>
                <p:cNvSpPr/>
                <p:nvPr/>
              </p:nvSpPr>
              <p:spPr>
                <a:xfrm>
                  <a:off x="7115040" y="45684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18" name="Group 93"/>
              <p:cNvGrpSpPr/>
              <p:nvPr/>
            </p:nvGrpSpPr>
            <p:grpSpPr>
              <a:xfrm>
                <a:off x="7978680" y="4568400"/>
                <a:ext cx="863280" cy="457200"/>
                <a:chOff x="7978680" y="4568400"/>
                <a:chExt cx="863280" cy="457200"/>
              </a:xfrm>
            </p:grpSpPr>
            <p:sp>
              <p:nvSpPr>
                <p:cNvPr id="219" name="Rectangle 94"/>
                <p:cNvSpPr/>
                <p:nvPr/>
              </p:nvSpPr>
              <p:spPr>
                <a:xfrm>
                  <a:off x="7978680" y="45684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2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20" name="Rectangle 95"/>
                <p:cNvSpPr/>
                <p:nvPr/>
              </p:nvSpPr>
              <p:spPr>
                <a:xfrm>
                  <a:off x="7978680" y="45684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  <p:sp>
          <p:nvSpPr>
            <p:cNvPr id="221" name="Rectangle 96"/>
            <p:cNvSpPr/>
            <p:nvPr/>
          </p:nvSpPr>
          <p:spPr>
            <a:xfrm>
              <a:off x="1152360" y="1547640"/>
              <a:ext cx="7694640" cy="3483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8-09-23T12:26:59Z</dcterms:modified>
  <cp:revision>22</cp:revision>
  <dc:subject/>
  <dc:title>CI 52A</dc:title>
</cp:coreProperties>
</file>