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A256-B956-4BA7-AE6C-519898A0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BA42-D89B-4030-A66A-4895B99E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386B-6D45-4DB9-8AF7-C675D7A6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C672-E850-4F69-9669-A1C656D5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6143-EFFA-4BE9-8667-F4E5134B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6827-2B37-4B59-A9F8-F72A7188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FE23-F027-419E-8B6F-BFD75C4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B4BB-9BC3-4EEF-AA36-674BC6A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3EEB-05BB-4BE9-83EA-B9E6F7C8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E8B8-988D-4587-92F8-43DCAB4A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A14C-C244-4B39-86D8-44F50909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E3CF-718C-4AE9-86BA-0AC9510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BEA2-509F-4CC4-8D6F-F7DBCB4A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F438-D241-4EEF-9F3D-B2EDD22B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F27-F1C9-4242-B6A2-6B4FE1A0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DD56-2BDB-499E-8BC6-558E7B1E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8DAA-E905-4799-8D3A-0FE189D9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996B-CC87-49D5-BFBF-711CDFE7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B12E-5139-4BB5-9DD7-7EB2E013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2E47-1234-4FEA-8716-B4DD8616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D8D9-DABE-4C3C-B493-C7BDBC0D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A2C4-3EFC-4ED7-A72A-E8C83F58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C44A-41BB-4FA8-B996-E8F8BCE6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CB52-60D1-4951-A6C4-03F9DC95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6AAB-4ABA-465C-93A1-E83C1766B38B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BB0A-5245-4D21-A2C8-28256D7A3A73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</a:t>
            </a:r>
            <a:r>
              <a:rPr b="0" lang="es-MX" sz="35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MX" sz="3500" spc="-1" strike="noStrike">
                <a:solidFill>
                  <a:srgbClr val="ffffff"/>
                </a:solidFill>
                <a:latin typeface="Times New Roman"/>
              </a:rPr>
              <a:t>Topadora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 (Dozer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618920"/>
            <a:ext cx="66960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Tipos de Hoja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Recta (S): corta y media distancia, relleno y esparcimiento de material, perpendicular al eje de la máquina. Tilt y pitch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Angulada (A): más ancha, angulo &lt;&gt;90º c/r eje de la máquina. Tilt. Rellenos y corte en cerro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Universal (U): más ancha que S, extremos curvos, mayor volumen de material, mayor distancia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Semi Universal: mezcla de S con U. Mayor volumen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69680" indent="-296640"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aramond"/>
              </a:rPr>
              <a:t>Acolchada (C): para empujar traílla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5" descr="semi_u_blades"/>
          <p:cNvPicPr/>
          <p:nvPr/>
        </p:nvPicPr>
        <p:blipFill>
          <a:blip r:embed="rId1"/>
          <a:stretch/>
        </p:blipFill>
        <p:spPr>
          <a:xfrm>
            <a:off x="8064360" y="4356000"/>
            <a:ext cx="1586160" cy="1586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semi_u_blades"/>
          <p:cNvPicPr/>
          <p:nvPr/>
        </p:nvPicPr>
        <p:blipFill>
          <a:blip r:embed="rId2"/>
          <a:stretch/>
        </p:blipFill>
        <p:spPr>
          <a:xfrm>
            <a:off x="6624720" y="543564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Power Angle Tilt Blade"/>
          <p:cNvPicPr/>
          <p:nvPr/>
        </p:nvPicPr>
        <p:blipFill>
          <a:blip r:embed="rId3"/>
          <a:stretch/>
        </p:blipFill>
        <p:spPr>
          <a:xfrm>
            <a:off x="6840360" y="3375000"/>
            <a:ext cx="3024360" cy="922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push_plate_close"/>
          <p:cNvPicPr/>
          <p:nvPr/>
        </p:nvPicPr>
        <p:blipFill>
          <a:blip r:embed="rId4"/>
          <a:stretch/>
        </p:blipFill>
        <p:spPr>
          <a:xfrm>
            <a:off x="8064360" y="5940360"/>
            <a:ext cx="1800360" cy="1409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dozer7"/>
          <p:cNvPicPr/>
          <p:nvPr/>
        </p:nvPicPr>
        <p:blipFill>
          <a:blip r:embed="rId5"/>
          <a:stretch/>
        </p:blipFill>
        <p:spPr>
          <a:xfrm>
            <a:off x="7056360" y="395280"/>
            <a:ext cx="2495520" cy="97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wdblade1"/>
          <p:cNvPicPr/>
          <p:nvPr/>
        </p:nvPicPr>
        <p:blipFill>
          <a:blip r:embed="rId6"/>
          <a:stretch/>
        </p:blipFill>
        <p:spPr>
          <a:xfrm>
            <a:off x="7345440" y="1763640"/>
            <a:ext cx="2214360" cy="15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2700360"/>
            <a:ext cx="10080720" cy="39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2" name="3 Flecha abajo"/>
          <p:cNvSpPr/>
          <p:nvPr/>
        </p:nvSpPr>
        <p:spPr>
          <a:xfrm>
            <a:off x="7826400" y="2708280"/>
            <a:ext cx="642960" cy="1143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http://www.unam.mx/terracerias/t3graf02.gif"/>
          <p:cNvPicPr/>
          <p:nvPr/>
        </p:nvPicPr>
        <p:blipFill>
          <a:blip r:embed="rId1"/>
          <a:stretch/>
        </p:blipFill>
        <p:spPr>
          <a:xfrm>
            <a:off x="85680" y="60480"/>
            <a:ext cx="5638680" cy="8729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826240" y="2065320"/>
            <a:ext cx="4071960" cy="532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5052960" cy="7259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http://www.unam.mx/terracerias/t3graf01.gif"/>
          <p:cNvPicPr/>
          <p:nvPr/>
        </p:nvPicPr>
        <p:blipFill>
          <a:blip r:embed="rId2"/>
          <a:stretch/>
        </p:blipFill>
        <p:spPr>
          <a:xfrm>
            <a:off x="5370480" y="365040"/>
            <a:ext cx="455472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RIPPING (DESGARRO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300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 ripper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un elemento angosto que penetra el terreno y lo suel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ara usos livianos se pueden montar en motonivelador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ara Heavy Duty se montan en DOZ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 costo de desgarrar es aproximadamente la mitad c/r a tronadur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26200" y="3637080"/>
            <a:ext cx="453996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RIPPING (DESGARRO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Mientras menor sea la velocidad del sonido en la roca, más fácil será desgarrar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468440" y="2279520"/>
            <a:ext cx="6572160" cy="507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escripción/Característic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De orugas o ruedas. Observación mandos final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Bajo centro de gravedad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cat"/>
          <p:cNvPicPr/>
          <p:nvPr/>
        </p:nvPicPr>
        <p:blipFill>
          <a:blip r:embed="rId1"/>
          <a:stretch/>
        </p:blipFill>
        <p:spPr>
          <a:xfrm>
            <a:off x="5400720" y="3635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at"/>
          <p:cNvPicPr/>
          <p:nvPr/>
        </p:nvPicPr>
        <p:blipFill>
          <a:blip r:embed="rId2"/>
          <a:stretch/>
        </p:blipFill>
        <p:spPr>
          <a:xfrm>
            <a:off x="1079640" y="363528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Importancia</a:t>
            </a: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 de la trac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eficiente de tra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Peso sobre las ruedas motrices (“inflar” con agu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Orugas normales (6 a 9 psi) o LGP (3 a 4 psi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289420040810190137-3080534265"/>
          <p:cNvPicPr/>
          <p:nvPr/>
        </p:nvPicPr>
        <p:blipFill>
          <a:blip r:embed="rId1"/>
          <a:stretch/>
        </p:blipFill>
        <p:spPr>
          <a:xfrm>
            <a:off x="719280" y="4140360"/>
            <a:ext cx="4176720" cy="31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uddy Soil Excavator"/>
          <p:cNvPicPr/>
          <p:nvPr/>
        </p:nvPicPr>
        <p:blipFill>
          <a:blip r:embed="rId2"/>
          <a:stretch/>
        </p:blipFill>
        <p:spPr>
          <a:xfrm>
            <a:off x="5472000" y="4140360"/>
            <a:ext cx="399744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 (HOJA TOPADORA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/Característic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Los equipos con orugas pueden trabajar en pendientes de hasta 45º, limitados por el sistema de lubric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abina ROPS (Roll Over Protection System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Motores tipicamente diesel. Bencineros en equipos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más pequeño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41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ransmis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Mecánica directa (de orugas pequeños). Carga constante y distancias larga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 convertidor de torque (de orugas grandes y de ruedas) Carga variable, absorción de impact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Hidraulica (orugas pequeños) Mayor control y eficienci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11240" y="1403280"/>
            <a:ext cx="5408640" cy="586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065560" y="179280"/>
            <a:ext cx="4799160" cy="22971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"/>
          <p:cNvSpPr/>
          <p:nvPr/>
        </p:nvSpPr>
        <p:spPr>
          <a:xfrm>
            <a:off x="6264360" y="4859280"/>
            <a:ext cx="1800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601"/>
              <a:gd name="adj5" fmla="val 177449"/>
              <a:gd name="adj6" fmla="val -1116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Transmisión Mecánic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35640" y="3708360"/>
            <a:ext cx="180036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5625"/>
              <a:gd name="adj5" fmla="val 353430"/>
              <a:gd name="adj6" fmla="val -148675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Transmisión Conv. Torqu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048360" y="6084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Velocidad máxima: 23 k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Empuje máximo: 75 000 kg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216000" y="1258920"/>
            <a:ext cx="5108400" cy="604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4176720" y="179280"/>
            <a:ext cx="5695920" cy="285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48360" y="6084720"/>
            <a:ext cx="309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Velocidad máxima: 12 k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Empuje máximo: 150 000 kg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"/>
          <p:cNvGraphicFramePr/>
          <p:nvPr/>
        </p:nvGraphicFramePr>
        <p:xfrm>
          <a:off x="3537000" y="3882960"/>
          <a:ext cx="325116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3882960"/>
                    <a:ext cx="32511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"/>
          <p:cNvGraphicFramePr/>
          <p:nvPr/>
        </p:nvGraphicFramePr>
        <p:xfrm>
          <a:off x="3537000" y="3440160"/>
          <a:ext cx="325116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7000" y="3440160"/>
                    <a:ext cx="3251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"/>
          <p:cNvGraphicFramePr/>
          <p:nvPr/>
        </p:nvGraphicFramePr>
        <p:xfrm>
          <a:off x="503280" y="539640"/>
          <a:ext cx="9290160" cy="650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539640"/>
                    <a:ext cx="9290160" cy="650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DOZER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152360" y="1547640"/>
            <a:ext cx="7694640" cy="3483000"/>
            <a:chOff x="1152360" y="1547640"/>
            <a:chExt cx="7694640" cy="3483000"/>
          </a:xfrm>
        </p:grpSpPr>
        <p:grpSp>
          <p:nvGrpSpPr>
            <p:cNvPr id="130" name="Group 5"/>
            <p:cNvGrpSpPr/>
            <p:nvPr/>
          </p:nvGrpSpPr>
          <p:grpSpPr>
            <a:xfrm>
              <a:off x="1157040" y="1552320"/>
              <a:ext cx="7684920" cy="3473280"/>
              <a:chOff x="1157040" y="1552320"/>
              <a:chExt cx="7684920" cy="3473280"/>
            </a:xfrm>
          </p:grpSpPr>
          <p:grpSp>
            <p:nvGrpSpPr>
              <p:cNvPr id="131" name="Group 6"/>
              <p:cNvGrpSpPr/>
              <p:nvPr/>
            </p:nvGrpSpPr>
            <p:grpSpPr>
              <a:xfrm>
                <a:off x="1157040" y="1552320"/>
                <a:ext cx="4232160" cy="1187280"/>
                <a:chOff x="1157040" y="1552320"/>
                <a:chExt cx="4232160" cy="1187280"/>
              </a:xfrm>
            </p:grpSpPr>
            <p:sp>
              <p:nvSpPr>
                <p:cNvPr id="132" name="Rectangle 7"/>
                <p:cNvSpPr/>
                <p:nvPr/>
              </p:nvSpPr>
              <p:spPr>
                <a:xfrm>
                  <a:off x="1157040" y="1552320"/>
                  <a:ext cx="42321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ACTERÍSTIC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3" name="Rectangle 8"/>
                <p:cNvSpPr/>
                <p:nvPr/>
              </p:nvSpPr>
              <p:spPr>
                <a:xfrm>
                  <a:off x="1157040" y="1552320"/>
                  <a:ext cx="423216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5389200" y="1552320"/>
                <a:ext cx="862200" cy="1187280"/>
                <a:chOff x="5389200" y="1552320"/>
                <a:chExt cx="862200" cy="1187280"/>
              </a:xfrm>
            </p:grpSpPr>
            <p:sp>
              <p:nvSpPr>
                <p:cNvPr id="135" name="Rectangle 10"/>
                <p:cNvSpPr/>
                <p:nvPr/>
              </p:nvSpPr>
              <p:spPr>
                <a:xfrm>
                  <a:off x="5389200" y="1552320"/>
                  <a:ext cx="8622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D.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6" name="Rectangle 11"/>
                <p:cNvSpPr/>
                <p:nvPr/>
              </p:nvSpPr>
              <p:spPr>
                <a:xfrm>
                  <a:off x="5389200" y="1552320"/>
                  <a:ext cx="862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7" name="Group 12"/>
              <p:cNvGrpSpPr/>
              <p:nvPr/>
            </p:nvGrpSpPr>
            <p:grpSpPr>
              <a:xfrm>
                <a:off x="6251400" y="1552320"/>
                <a:ext cx="863640" cy="1187280"/>
                <a:chOff x="6251400" y="1552320"/>
                <a:chExt cx="863640" cy="1187280"/>
              </a:xfrm>
            </p:grpSpPr>
            <p:sp>
              <p:nvSpPr>
                <p:cNvPr id="138" name="Rectangle 13"/>
                <p:cNvSpPr/>
                <p:nvPr/>
              </p:nvSpPr>
              <p:spPr>
                <a:xfrm>
                  <a:off x="6251400" y="1552320"/>
                  <a:ext cx="863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8H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9" name="Rectangle 14"/>
                <p:cNvSpPr/>
                <p:nvPr/>
              </p:nvSpPr>
              <p:spPr>
                <a:xfrm>
                  <a:off x="6251400" y="1552320"/>
                  <a:ext cx="8636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0" name="Group 15"/>
              <p:cNvGrpSpPr/>
              <p:nvPr/>
            </p:nvGrpSpPr>
            <p:grpSpPr>
              <a:xfrm>
                <a:off x="7115040" y="1552320"/>
                <a:ext cx="863640" cy="1187280"/>
                <a:chOff x="7115040" y="1552320"/>
                <a:chExt cx="863640" cy="1187280"/>
              </a:xfrm>
            </p:grpSpPr>
            <p:sp>
              <p:nvSpPr>
                <p:cNvPr id="141" name="Rectangle 16"/>
                <p:cNvSpPr/>
                <p:nvPr/>
              </p:nvSpPr>
              <p:spPr>
                <a:xfrm>
                  <a:off x="7115040" y="1552320"/>
                  <a:ext cx="863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4D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2" name="Rectangle 17"/>
                <p:cNvSpPr/>
                <p:nvPr/>
              </p:nvSpPr>
              <p:spPr>
                <a:xfrm>
                  <a:off x="7115040" y="1552320"/>
                  <a:ext cx="8636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3" name="Group 18"/>
              <p:cNvGrpSpPr/>
              <p:nvPr/>
            </p:nvGrpSpPr>
            <p:grpSpPr>
              <a:xfrm>
                <a:off x="7978680" y="1552320"/>
                <a:ext cx="863280" cy="1187280"/>
                <a:chOff x="7978680" y="1552320"/>
                <a:chExt cx="863280" cy="1187280"/>
              </a:xfrm>
            </p:grpSpPr>
            <p:sp>
              <p:nvSpPr>
                <p:cNvPr id="144" name="Rectangle 19"/>
                <p:cNvSpPr/>
                <p:nvPr/>
              </p:nvSpPr>
              <p:spPr>
                <a:xfrm>
                  <a:off x="7978680" y="1552320"/>
                  <a:ext cx="863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uto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5" name="Rectangle 20"/>
                <p:cNvSpPr/>
                <p:nvPr/>
              </p:nvSpPr>
              <p:spPr>
                <a:xfrm>
                  <a:off x="7978680" y="1552320"/>
                  <a:ext cx="863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6" name="Group 21"/>
              <p:cNvGrpSpPr/>
              <p:nvPr/>
            </p:nvGrpSpPr>
            <p:grpSpPr>
              <a:xfrm>
                <a:off x="1157040" y="2739600"/>
                <a:ext cx="4232160" cy="457200"/>
                <a:chOff x="1157040" y="2739600"/>
                <a:chExt cx="4232160" cy="457200"/>
              </a:xfrm>
            </p:grpSpPr>
            <p:sp>
              <p:nvSpPr>
                <p:cNvPr id="147" name="Rectangle 22"/>
                <p:cNvSpPr/>
                <p:nvPr/>
              </p:nvSpPr>
              <p:spPr>
                <a:xfrm>
                  <a:off x="1157040" y="27396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ILINDRAD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8" name="Rectangle 23"/>
                <p:cNvSpPr/>
                <p:nvPr/>
              </p:nvSpPr>
              <p:spPr>
                <a:xfrm>
                  <a:off x="1157040" y="27396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9" name="Group 24"/>
              <p:cNvGrpSpPr/>
              <p:nvPr/>
            </p:nvGrpSpPr>
            <p:grpSpPr>
              <a:xfrm>
                <a:off x="5389200" y="2739600"/>
                <a:ext cx="862200" cy="457200"/>
                <a:chOff x="5389200" y="2739600"/>
                <a:chExt cx="862200" cy="457200"/>
              </a:xfrm>
            </p:grpSpPr>
            <p:sp>
              <p:nvSpPr>
                <p:cNvPr id="150" name="Rectangle 25"/>
                <p:cNvSpPr/>
                <p:nvPr/>
              </p:nvSpPr>
              <p:spPr>
                <a:xfrm>
                  <a:off x="5389200" y="27396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lt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1" name="Rectangle 26"/>
                <p:cNvSpPr/>
                <p:nvPr/>
              </p:nvSpPr>
              <p:spPr>
                <a:xfrm>
                  <a:off x="5389200" y="27396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2" name="Group 27"/>
              <p:cNvGrpSpPr/>
              <p:nvPr/>
            </p:nvGrpSpPr>
            <p:grpSpPr>
              <a:xfrm>
                <a:off x="6251400" y="2739600"/>
                <a:ext cx="863640" cy="457200"/>
                <a:chOff x="6251400" y="2739600"/>
                <a:chExt cx="863640" cy="457200"/>
              </a:xfrm>
            </p:grpSpPr>
            <p:sp>
              <p:nvSpPr>
                <p:cNvPr id="153" name="Rectangle 28"/>
                <p:cNvSpPr/>
                <p:nvPr/>
              </p:nvSpPr>
              <p:spPr>
                <a:xfrm>
                  <a:off x="6251400" y="27396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,4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4" name="Rectangle 29"/>
                <p:cNvSpPr/>
                <p:nvPr/>
              </p:nvSpPr>
              <p:spPr>
                <a:xfrm>
                  <a:off x="6251400" y="27396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5" name="Group 30"/>
              <p:cNvGrpSpPr/>
              <p:nvPr/>
            </p:nvGrpSpPr>
            <p:grpSpPr>
              <a:xfrm>
                <a:off x="7115040" y="2739600"/>
                <a:ext cx="863640" cy="457200"/>
                <a:chOff x="7115040" y="2739600"/>
                <a:chExt cx="863640" cy="457200"/>
              </a:xfrm>
            </p:grpSpPr>
            <p:sp>
              <p:nvSpPr>
                <p:cNvPr id="156" name="Rectangle 31"/>
                <p:cNvSpPr/>
                <p:nvPr/>
              </p:nvSpPr>
              <p:spPr>
                <a:xfrm>
                  <a:off x="7115040" y="27396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7" name="Rectangle 32"/>
                <p:cNvSpPr/>
                <p:nvPr/>
              </p:nvSpPr>
              <p:spPr>
                <a:xfrm>
                  <a:off x="7115040" y="27396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7978680" y="2739600"/>
                <a:ext cx="863280" cy="457200"/>
                <a:chOff x="7978680" y="2739600"/>
                <a:chExt cx="863280" cy="457200"/>
              </a:xfrm>
            </p:grpSpPr>
            <p:sp>
              <p:nvSpPr>
                <p:cNvPr id="159" name="Rectangle 34"/>
                <p:cNvSpPr/>
                <p:nvPr/>
              </p:nvSpPr>
              <p:spPr>
                <a:xfrm>
                  <a:off x="7978680" y="27396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,6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0" name="Rectangle 35"/>
                <p:cNvSpPr/>
                <p:nvPr/>
              </p:nvSpPr>
              <p:spPr>
                <a:xfrm>
                  <a:off x="7978680" y="27396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1157040" y="3196800"/>
                <a:ext cx="4232160" cy="457200"/>
                <a:chOff x="1157040" y="3196800"/>
                <a:chExt cx="4232160" cy="457200"/>
              </a:xfrm>
            </p:grpSpPr>
            <p:sp>
              <p:nvSpPr>
                <p:cNvPr id="162" name="Rectangle 37"/>
                <p:cNvSpPr/>
                <p:nvPr/>
              </p:nvSpPr>
              <p:spPr>
                <a:xfrm>
                  <a:off x="1157040" y="31968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OTENCIA EN EL VOLANTE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3" name="Rectangle 38"/>
                <p:cNvSpPr/>
                <p:nvPr/>
              </p:nvSpPr>
              <p:spPr>
                <a:xfrm>
                  <a:off x="1157040" y="31968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5389200" y="3196800"/>
                <a:ext cx="862200" cy="457200"/>
                <a:chOff x="5389200" y="3196800"/>
                <a:chExt cx="862200" cy="457200"/>
              </a:xfrm>
            </p:grpSpPr>
            <p:sp>
              <p:nvSpPr>
                <p:cNvPr id="165" name="Rectangle 40"/>
                <p:cNvSpPr/>
                <p:nvPr/>
              </p:nvSpPr>
              <p:spPr>
                <a:xfrm>
                  <a:off x="5389200" y="31968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P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6" name="Rectangle 41"/>
                <p:cNvSpPr/>
                <p:nvPr/>
              </p:nvSpPr>
              <p:spPr>
                <a:xfrm>
                  <a:off x="5389200" y="31968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7" name="Group 42"/>
              <p:cNvGrpSpPr/>
              <p:nvPr/>
            </p:nvGrpSpPr>
            <p:grpSpPr>
              <a:xfrm>
                <a:off x="6251400" y="3196800"/>
                <a:ext cx="863640" cy="457200"/>
                <a:chOff x="6251400" y="3196800"/>
                <a:chExt cx="863640" cy="457200"/>
              </a:xfrm>
            </p:grpSpPr>
            <p:sp>
              <p:nvSpPr>
                <p:cNvPr id="168" name="Rectangle 43"/>
                <p:cNvSpPr/>
                <p:nvPr/>
              </p:nvSpPr>
              <p:spPr>
                <a:xfrm>
                  <a:off x="6251400" y="31968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7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9" name="Rectangle 44"/>
                <p:cNvSpPr/>
                <p:nvPr/>
              </p:nvSpPr>
              <p:spPr>
                <a:xfrm>
                  <a:off x="6251400" y="31968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0" name="Group 45"/>
              <p:cNvGrpSpPr/>
              <p:nvPr/>
            </p:nvGrpSpPr>
            <p:grpSpPr>
              <a:xfrm>
                <a:off x="7115040" y="3196800"/>
                <a:ext cx="863640" cy="457200"/>
                <a:chOff x="7115040" y="3196800"/>
                <a:chExt cx="863640" cy="457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7115040" y="31968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5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2" name="Rectangle 47"/>
                <p:cNvSpPr/>
                <p:nvPr/>
              </p:nvSpPr>
              <p:spPr>
                <a:xfrm>
                  <a:off x="7115040" y="31968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3" name="Group 48"/>
              <p:cNvGrpSpPr/>
              <p:nvPr/>
            </p:nvGrpSpPr>
            <p:grpSpPr>
              <a:xfrm>
                <a:off x="7978680" y="3196800"/>
                <a:ext cx="863280" cy="457200"/>
                <a:chOff x="7978680" y="3196800"/>
                <a:chExt cx="863280" cy="457200"/>
              </a:xfrm>
            </p:grpSpPr>
            <p:sp>
              <p:nvSpPr>
                <p:cNvPr id="174" name="Rectangle 49"/>
                <p:cNvSpPr/>
                <p:nvPr/>
              </p:nvSpPr>
              <p:spPr>
                <a:xfrm>
                  <a:off x="7978680" y="31968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9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5" name="Rectangle 50"/>
                <p:cNvSpPr/>
                <p:nvPr/>
              </p:nvSpPr>
              <p:spPr>
                <a:xfrm>
                  <a:off x="7978680" y="31968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6" name="Group 51"/>
              <p:cNvGrpSpPr/>
              <p:nvPr/>
            </p:nvGrpSpPr>
            <p:grpSpPr>
              <a:xfrm>
                <a:off x="1157040" y="3654000"/>
                <a:ext cx="4232160" cy="457200"/>
                <a:chOff x="1157040" y="3654000"/>
                <a:chExt cx="4232160" cy="457200"/>
              </a:xfrm>
            </p:grpSpPr>
            <p:sp>
              <p:nvSpPr>
                <p:cNvPr id="177" name="Rectangle 52"/>
                <p:cNvSpPr/>
                <p:nvPr/>
              </p:nvSpPr>
              <p:spPr>
                <a:xfrm>
                  <a:off x="1157040" y="36540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EGIMEN MÁXIMO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8" name="Rectangle 53"/>
                <p:cNvSpPr/>
                <p:nvPr/>
              </p:nvSpPr>
              <p:spPr>
                <a:xfrm>
                  <a:off x="1157040" y="36540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9" name="Group 54"/>
              <p:cNvGrpSpPr/>
              <p:nvPr/>
            </p:nvGrpSpPr>
            <p:grpSpPr>
              <a:xfrm>
                <a:off x="5389200" y="3654000"/>
                <a:ext cx="862200" cy="457200"/>
                <a:chOff x="5389200" y="3654000"/>
                <a:chExt cx="862200" cy="457200"/>
              </a:xfrm>
            </p:grpSpPr>
            <p:sp>
              <p:nvSpPr>
                <p:cNvPr id="180" name="Rectangle 55"/>
                <p:cNvSpPr/>
                <p:nvPr/>
              </p:nvSpPr>
              <p:spPr>
                <a:xfrm>
                  <a:off x="5389200" y="36540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PM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1" name="Rectangle 56"/>
                <p:cNvSpPr/>
                <p:nvPr/>
              </p:nvSpPr>
              <p:spPr>
                <a:xfrm>
                  <a:off x="5389200" y="36540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2" name="Group 57"/>
              <p:cNvGrpSpPr/>
              <p:nvPr/>
            </p:nvGrpSpPr>
            <p:grpSpPr>
              <a:xfrm>
                <a:off x="6251400" y="3654000"/>
                <a:ext cx="863640" cy="457200"/>
                <a:chOff x="6251400" y="3654000"/>
                <a:chExt cx="863640" cy="457200"/>
              </a:xfrm>
            </p:grpSpPr>
            <p:sp>
              <p:nvSpPr>
                <p:cNvPr id="183" name="Rectangle 58"/>
                <p:cNvSpPr/>
                <p:nvPr/>
              </p:nvSpPr>
              <p:spPr>
                <a:xfrm>
                  <a:off x="6251400" y="36540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28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4" name="Rectangle 59"/>
                <p:cNvSpPr/>
                <p:nvPr/>
              </p:nvSpPr>
              <p:spPr>
                <a:xfrm>
                  <a:off x="6251400" y="36540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5" name="Group 60"/>
              <p:cNvGrpSpPr/>
              <p:nvPr/>
            </p:nvGrpSpPr>
            <p:grpSpPr>
              <a:xfrm>
                <a:off x="7115040" y="3654000"/>
                <a:ext cx="863640" cy="457200"/>
                <a:chOff x="7115040" y="3654000"/>
                <a:chExt cx="863640" cy="457200"/>
              </a:xfrm>
            </p:grpSpPr>
            <p:sp>
              <p:nvSpPr>
                <p:cNvPr id="186" name="Rectangle 61"/>
                <p:cNvSpPr/>
                <p:nvPr/>
              </p:nvSpPr>
              <p:spPr>
                <a:xfrm>
                  <a:off x="7115040" y="36540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68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7" name="Rectangle 62"/>
                <p:cNvSpPr/>
                <p:nvPr/>
              </p:nvSpPr>
              <p:spPr>
                <a:xfrm>
                  <a:off x="7115040" y="36540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8" name="Group 63"/>
              <p:cNvGrpSpPr/>
              <p:nvPr/>
            </p:nvGrpSpPr>
            <p:grpSpPr>
              <a:xfrm>
                <a:off x="7978680" y="3654000"/>
                <a:ext cx="863280" cy="457200"/>
                <a:chOff x="7978680" y="3654000"/>
                <a:chExt cx="863280" cy="457200"/>
              </a:xfrm>
            </p:grpSpPr>
            <p:sp>
              <p:nvSpPr>
                <p:cNvPr id="189" name="Rectangle 64"/>
                <p:cNvSpPr/>
                <p:nvPr/>
              </p:nvSpPr>
              <p:spPr>
                <a:xfrm>
                  <a:off x="7978680" y="36540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0" name="Rectangle 65"/>
                <p:cNvSpPr/>
                <p:nvPr/>
              </p:nvSpPr>
              <p:spPr>
                <a:xfrm>
                  <a:off x="7978680" y="36540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1" name="Group 66"/>
              <p:cNvGrpSpPr/>
              <p:nvPr/>
            </p:nvGrpSpPr>
            <p:grpSpPr>
              <a:xfrm>
                <a:off x="1157040" y="4111200"/>
                <a:ext cx="4232160" cy="457200"/>
                <a:chOff x="1157040" y="4111200"/>
                <a:chExt cx="4232160" cy="457200"/>
              </a:xfrm>
            </p:grpSpPr>
            <p:sp>
              <p:nvSpPr>
                <p:cNvPr id="192" name="Rectangle 67"/>
                <p:cNvSpPr/>
                <p:nvPr/>
              </p:nvSpPr>
              <p:spPr>
                <a:xfrm>
                  <a:off x="1157040" y="41112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ESO SIN HOJA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3" name="Rectangle 68"/>
                <p:cNvSpPr/>
                <p:nvPr/>
              </p:nvSpPr>
              <p:spPr>
                <a:xfrm>
                  <a:off x="1157040" y="41112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4" name="Group 69"/>
              <p:cNvGrpSpPr/>
              <p:nvPr/>
            </p:nvGrpSpPr>
            <p:grpSpPr>
              <a:xfrm>
                <a:off x="5389200" y="4111200"/>
                <a:ext cx="862200" cy="457200"/>
                <a:chOff x="5389200" y="4111200"/>
                <a:chExt cx="862200" cy="457200"/>
              </a:xfrm>
            </p:grpSpPr>
            <p:sp>
              <p:nvSpPr>
                <p:cNvPr id="195" name="Rectangle 70"/>
                <p:cNvSpPr/>
                <p:nvPr/>
              </p:nvSpPr>
              <p:spPr>
                <a:xfrm>
                  <a:off x="5389200" y="41112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on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6" name="Rectangle 71"/>
                <p:cNvSpPr/>
                <p:nvPr/>
              </p:nvSpPr>
              <p:spPr>
                <a:xfrm>
                  <a:off x="5389200" y="41112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97" name="Group 72"/>
              <p:cNvGrpSpPr/>
              <p:nvPr/>
            </p:nvGrpSpPr>
            <p:grpSpPr>
              <a:xfrm>
                <a:off x="6251400" y="4111200"/>
                <a:ext cx="863640" cy="457200"/>
                <a:chOff x="6251400" y="4111200"/>
                <a:chExt cx="863640" cy="457200"/>
              </a:xfrm>
            </p:grpSpPr>
            <p:sp>
              <p:nvSpPr>
                <p:cNvPr id="198" name="Rectangle 73"/>
                <p:cNvSpPr/>
                <p:nvPr/>
              </p:nvSpPr>
              <p:spPr>
                <a:xfrm>
                  <a:off x="6251400" y="41112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2,7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9" name="Rectangle 74"/>
                <p:cNvSpPr/>
                <p:nvPr/>
              </p:nvSpPr>
              <p:spPr>
                <a:xfrm>
                  <a:off x="6251400" y="41112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0" name="Group 75"/>
              <p:cNvGrpSpPr/>
              <p:nvPr/>
            </p:nvGrpSpPr>
            <p:grpSpPr>
              <a:xfrm>
                <a:off x="7115040" y="4111200"/>
                <a:ext cx="863640" cy="457200"/>
                <a:chOff x="7115040" y="4111200"/>
                <a:chExt cx="863640" cy="457200"/>
              </a:xfrm>
            </p:grpSpPr>
            <p:sp>
              <p:nvSpPr>
                <p:cNvPr id="201" name="Rectangle 76"/>
                <p:cNvSpPr/>
                <p:nvPr/>
              </p:nvSpPr>
              <p:spPr>
                <a:xfrm>
                  <a:off x="7115040" y="41112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,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2" name="Rectangle 77"/>
                <p:cNvSpPr/>
                <p:nvPr/>
              </p:nvSpPr>
              <p:spPr>
                <a:xfrm>
                  <a:off x="7115040" y="41112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3" name="Group 78"/>
              <p:cNvGrpSpPr/>
              <p:nvPr/>
            </p:nvGrpSpPr>
            <p:grpSpPr>
              <a:xfrm>
                <a:off x="7978680" y="4111200"/>
                <a:ext cx="863280" cy="457200"/>
                <a:chOff x="7978680" y="4111200"/>
                <a:chExt cx="863280" cy="457200"/>
              </a:xfrm>
            </p:grpSpPr>
            <p:sp>
              <p:nvSpPr>
                <p:cNvPr id="204" name="Rectangle 79"/>
                <p:cNvSpPr/>
                <p:nvPr/>
              </p:nvSpPr>
              <p:spPr>
                <a:xfrm>
                  <a:off x="7978680" y="41112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,75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5" name="Rectangle 80"/>
                <p:cNvSpPr/>
                <p:nvPr/>
              </p:nvSpPr>
              <p:spPr>
                <a:xfrm>
                  <a:off x="7978680" y="41112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6" name="Group 81"/>
              <p:cNvGrpSpPr/>
              <p:nvPr/>
            </p:nvGrpSpPr>
            <p:grpSpPr>
              <a:xfrm>
                <a:off x="1157040" y="4568400"/>
                <a:ext cx="4232160" cy="457200"/>
                <a:chOff x="1157040" y="4568400"/>
                <a:chExt cx="4232160" cy="457200"/>
              </a:xfrm>
            </p:grpSpPr>
            <p:sp>
              <p:nvSpPr>
                <p:cNvPr id="207" name="Rectangle 82"/>
                <p:cNvSpPr/>
                <p:nvPr/>
              </p:nvSpPr>
              <p:spPr>
                <a:xfrm>
                  <a:off x="1157040" y="4568400"/>
                  <a:ext cx="42321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PACIDAD COMBUSTIBLE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08" name="Rectangle 83"/>
                <p:cNvSpPr/>
                <p:nvPr/>
              </p:nvSpPr>
              <p:spPr>
                <a:xfrm>
                  <a:off x="1157040" y="4568400"/>
                  <a:ext cx="42321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09" name="Group 84"/>
              <p:cNvGrpSpPr/>
              <p:nvPr/>
            </p:nvGrpSpPr>
            <p:grpSpPr>
              <a:xfrm>
                <a:off x="5389200" y="4568400"/>
                <a:ext cx="862200" cy="457200"/>
                <a:chOff x="5389200" y="4568400"/>
                <a:chExt cx="862200" cy="457200"/>
              </a:xfrm>
            </p:grpSpPr>
            <p:sp>
              <p:nvSpPr>
                <p:cNvPr id="210" name="Rectangle 85"/>
                <p:cNvSpPr/>
                <p:nvPr/>
              </p:nvSpPr>
              <p:spPr>
                <a:xfrm>
                  <a:off x="5389200" y="4568400"/>
                  <a:ext cx="862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lt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1" name="Rectangle 86"/>
                <p:cNvSpPr/>
                <p:nvPr/>
              </p:nvSpPr>
              <p:spPr>
                <a:xfrm>
                  <a:off x="5389200" y="4568400"/>
                  <a:ext cx="86220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2" name="Group 87"/>
              <p:cNvGrpSpPr/>
              <p:nvPr/>
            </p:nvGrpSpPr>
            <p:grpSpPr>
              <a:xfrm>
                <a:off x="6251400" y="4568400"/>
                <a:ext cx="863640" cy="457200"/>
                <a:chOff x="6251400" y="4568400"/>
                <a:chExt cx="863640" cy="457200"/>
              </a:xfrm>
            </p:grpSpPr>
            <p:sp>
              <p:nvSpPr>
                <p:cNvPr id="213" name="Rectangle 88"/>
                <p:cNvSpPr/>
                <p:nvPr/>
              </p:nvSpPr>
              <p:spPr>
                <a:xfrm>
                  <a:off x="6251400" y="45684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10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4" name="Rectangle 89"/>
                <p:cNvSpPr/>
                <p:nvPr/>
              </p:nvSpPr>
              <p:spPr>
                <a:xfrm>
                  <a:off x="6251400" y="45684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5" name="Group 90"/>
              <p:cNvGrpSpPr/>
              <p:nvPr/>
            </p:nvGrpSpPr>
            <p:grpSpPr>
              <a:xfrm>
                <a:off x="7115040" y="4568400"/>
                <a:ext cx="863640" cy="457200"/>
                <a:chOff x="7115040" y="4568400"/>
                <a:chExt cx="863640" cy="457200"/>
              </a:xfrm>
            </p:grpSpPr>
            <p:sp>
              <p:nvSpPr>
                <p:cNvPr id="216" name="Rectangle 91"/>
                <p:cNvSpPr/>
                <p:nvPr/>
              </p:nvSpPr>
              <p:spPr>
                <a:xfrm>
                  <a:off x="7115040" y="4568400"/>
                  <a:ext cx="863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59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17" name="Rectangle 92"/>
                <p:cNvSpPr/>
                <p:nvPr/>
              </p:nvSpPr>
              <p:spPr>
                <a:xfrm>
                  <a:off x="7115040" y="4568400"/>
                  <a:ext cx="86364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18" name="Group 93"/>
              <p:cNvGrpSpPr/>
              <p:nvPr/>
            </p:nvGrpSpPr>
            <p:grpSpPr>
              <a:xfrm>
                <a:off x="7978680" y="4568400"/>
                <a:ext cx="863280" cy="457200"/>
                <a:chOff x="7978680" y="4568400"/>
                <a:chExt cx="863280" cy="457200"/>
              </a:xfrm>
            </p:grpSpPr>
            <p:sp>
              <p:nvSpPr>
                <p:cNvPr id="219" name="Rectangle 94"/>
                <p:cNvSpPr/>
                <p:nvPr/>
              </p:nvSpPr>
              <p:spPr>
                <a:xfrm>
                  <a:off x="7978680" y="4568400"/>
                  <a:ext cx="863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24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20" name="Rectangle 95"/>
                <p:cNvSpPr/>
                <p:nvPr/>
              </p:nvSpPr>
              <p:spPr>
                <a:xfrm>
                  <a:off x="7978680" y="4568400"/>
                  <a:ext cx="86328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221" name="Rectangle 96"/>
            <p:cNvSpPr/>
            <p:nvPr/>
          </p:nvSpPr>
          <p:spPr>
            <a:xfrm>
              <a:off x="1152360" y="1547640"/>
              <a:ext cx="7694640" cy="3483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8-09-23T12:26:59Z</dcterms:modified>
  <cp:revision>22</cp:revision>
  <dc:subject/>
  <dc:title>CI 52A</dc:title>
</cp:coreProperties>
</file>