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4A14F-28C3-4E69-9475-17F91C71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FC6B2-9FE1-4595-94DF-A92DFD88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06556-2AD7-4B95-BA83-270F26F4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AFC25-621E-4A52-94BB-5DE9AD0C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B3CE-1CED-4B39-8944-5E524416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44FA-662B-4B4D-BC9C-28A1FDBD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6E2E-BCB4-4077-A9D9-7F1B99A6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DD6F-F913-4E8F-A689-19382295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7AED-983F-46C6-9EA2-CA7D0419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C3D2-C3AB-4EDD-A1DF-0C531B2A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35A9-360D-4DA7-B156-71BAEDB0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BFFB3-165C-4108-ACE6-604A1091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246A-FEE0-442A-804F-AEBD515D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32F9-A49D-4B4D-A225-B9FEBA30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C476-B5D2-4E15-B8EC-F741923B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63A6-2E7D-41C2-8A01-D228A878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8CE0-BD1A-4F10-A68E-21B63175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06214-2BF5-4E5B-9486-5F78ECC0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F070D-B8CE-4416-8CDB-FECA5E2A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10FEA-5EA3-4579-982D-0EA2B33E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B5785-76C9-4DCE-A420-921D1FB9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AF91-CE3B-4C59-A11E-2E274946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EC291-7995-48A9-8E5C-65303BD9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1F6E0-185A-4BF1-A461-2DE68E63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1A22-3716-4F50-B459-A93EA3BC5327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54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50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54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50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0598-A4D0-45D8-A4CF-CA9579B7990F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7240" cy="35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Maquinarias para Movim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Times New Roman"/>
              </a:rPr>
              <a:t>Cargador</a:t>
            </a: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 Fronta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7" descr="j0336323"/>
          <p:cNvPicPr/>
          <p:nvPr/>
        </p:nvPicPr>
        <p:blipFill>
          <a:blip r:embed="rId1"/>
          <a:stretch/>
        </p:blipFill>
        <p:spPr>
          <a:xfrm>
            <a:off x="1438200" y="5429160"/>
            <a:ext cx="2158920" cy="1408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8" descr="j0336317"/>
          <p:cNvPicPr/>
          <p:nvPr/>
        </p:nvPicPr>
        <p:blipFill>
          <a:blip r:embed="rId2"/>
          <a:stretch/>
        </p:blipFill>
        <p:spPr>
          <a:xfrm>
            <a:off x="3886200" y="5429160"/>
            <a:ext cx="2303640" cy="1416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9" descr="j0336930"/>
          <p:cNvPicPr/>
          <p:nvPr/>
        </p:nvPicPr>
        <p:blipFill>
          <a:blip r:embed="rId3"/>
          <a:stretch/>
        </p:blipFill>
        <p:spPr>
          <a:xfrm>
            <a:off x="6540480" y="5423040"/>
            <a:ext cx="2286000" cy="14173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Picture 11" descr=""/>
          <p:cNvPicPr/>
          <p:nvPr/>
        </p:nvPicPr>
        <p:blipFill>
          <a:blip r:embed="rId1"/>
          <a:stretch/>
        </p:blipFill>
        <p:spPr>
          <a:xfrm>
            <a:off x="647640" y="1658880"/>
            <a:ext cx="907272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01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Excava desde la superficie donde está la máquina hacia arriba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Montados sobre ruedas u orugas.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loader"/>
          <p:cNvPicPr/>
          <p:nvPr/>
        </p:nvPicPr>
        <p:blipFill>
          <a:blip r:embed="rId1"/>
          <a:stretch/>
        </p:blipFill>
        <p:spPr>
          <a:xfrm>
            <a:off x="360360" y="3995640"/>
            <a:ext cx="5256360" cy="323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at"/>
          <p:cNvPicPr/>
          <p:nvPr/>
        </p:nvPicPr>
        <p:blipFill>
          <a:blip r:embed="rId2"/>
          <a:stretch/>
        </p:blipFill>
        <p:spPr>
          <a:xfrm>
            <a:off x="5832360" y="3492360"/>
            <a:ext cx="375768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Transportan material distancias cortas hasta camión o acopi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Articulación central (las huellas de las ruedas traseras pasan por sobre las de las delanteras)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Tipos de baldes: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0276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100" spc="-1" strike="noStrike">
                <a:solidFill>
                  <a:srgbClr val="ffffff"/>
                </a:solidFill>
                <a:latin typeface="Garamond"/>
              </a:rPr>
              <a:t>General purpose</a:t>
            </a: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: hecho de una pieza de acero soldado, con dientes reemplazables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0276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100" spc="-1" strike="noStrike">
                <a:solidFill>
                  <a:srgbClr val="ffffff"/>
                </a:solidFill>
                <a:latin typeface="Garamond"/>
              </a:rPr>
              <a:t>Multipurpose:</a:t>
            </a: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 de dos piezas con bisagra, con bordes reemplazables. Permiten el uso como </a:t>
            </a:r>
            <a:r>
              <a:rPr b="0" i="1" lang="es-ES_tradnl" sz="3100" spc="-1" strike="noStrike">
                <a:solidFill>
                  <a:srgbClr val="ffffff"/>
                </a:solidFill>
                <a:latin typeface="Garamond"/>
              </a:rPr>
              <a:t>dozer</a:t>
            </a: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 y sirven para “agarrar” material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0276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100" spc="-1" strike="noStrike">
                <a:solidFill>
                  <a:srgbClr val="ffffff"/>
                </a:solidFill>
                <a:latin typeface="Garamond"/>
              </a:rPr>
              <a:t>Rock</a:t>
            </a: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: borde de corte en forma de “V” sirve para soltar la roca dinamitad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0276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Otros: forklift, barrenieves, escobillones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936720" y="0"/>
            <a:ext cx="8340480" cy="75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argador Frontal.wmv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6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6818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de trabajo: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Tiempo fijo: Carga del balde, maniobras (4 cambios de dirección) y descarg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Tiempo variable: ida y regreso desde el lugar de descarg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216000" y="4716360"/>
          <a:ext cx="9645480" cy="24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716360"/>
                    <a:ext cx="964548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8-06T13:59:31Z</dcterms:modified>
  <cp:revision>18</cp:revision>
  <dc:subject/>
  <dc:title>CI 52A</dc:title>
</cp:coreProperties>
</file>