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09BD-CF34-4098-AF87-444EDA3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D0B-7B38-42F1-97BD-B096D41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492F-2AA0-4024-A22A-9E72B525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C9B4-682D-4708-B83F-11C68903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B519-086E-44A2-B1FB-7E6FA5DD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157-7494-44DC-8AE9-0381A45E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A30-113D-4A54-802B-028A419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0ED-5B22-4003-9C90-69F5C6B3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E9B-CE46-4F0F-B4AC-FD3A4CD8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1B0D-0211-4199-A45F-91B0632B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64B-A904-4C42-AF00-D1604F7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A272-0ADF-4068-98B5-53CBEB34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71F-2E1B-4E71-8CC5-FB40753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288-9948-4DC4-A9A2-D4A3501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9C5-9885-4838-A2F0-BC83C7B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E58-CBEC-41FE-82DA-CA5AC508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1DBA-F67B-408E-A6C7-4AF12796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50C8-E6F5-4A55-86FA-7C83BBE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3E64-9A65-4374-AB2F-FE4253E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E444-4754-4ACB-AA5C-E2083D0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3696-8E3B-4CD7-B073-BE64408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D821-8627-4676-9F3A-996AEDF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D58F-D2E9-4BFD-8895-BDDD73D8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D346-7E22-4117-880C-FAB1D17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73F-D09C-4DC4-A7C7-E96D9B6896FA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4FF-8F0B-43CC-9635-2590D4574F66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35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Times New Roman"/>
              </a:rPr>
              <a:t>Cargador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Fronta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7" descr="j0336323"/>
          <p:cNvPicPr/>
          <p:nvPr/>
        </p:nvPicPr>
        <p:blipFill>
          <a:blip r:embed="rId1"/>
          <a:stretch/>
        </p:blipFill>
        <p:spPr>
          <a:xfrm>
            <a:off x="1438200" y="5429160"/>
            <a:ext cx="2158920" cy="140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j0336317"/>
          <p:cNvPicPr/>
          <p:nvPr/>
        </p:nvPicPr>
        <p:blipFill>
          <a:blip r:embed="rId2"/>
          <a:stretch/>
        </p:blipFill>
        <p:spPr>
          <a:xfrm>
            <a:off x="3886200" y="54291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j0336930"/>
          <p:cNvPicPr/>
          <p:nvPr/>
        </p:nvPicPr>
        <p:blipFill>
          <a:blip r:embed="rId3"/>
          <a:stretch/>
        </p:blipFill>
        <p:spPr>
          <a:xfrm>
            <a:off x="6540480" y="5423040"/>
            <a:ext cx="2286000" cy="1417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647640" y="1658880"/>
            <a:ext cx="9072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Excava desde la superficie donde está la máquina hacia arrib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Montados sobre ruedas u orugas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loader"/>
          <p:cNvPicPr/>
          <p:nvPr/>
        </p:nvPicPr>
        <p:blipFill>
          <a:blip r:embed="rId1"/>
          <a:stretch/>
        </p:blipFill>
        <p:spPr>
          <a:xfrm>
            <a:off x="360360" y="3995640"/>
            <a:ext cx="5256360" cy="323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at"/>
          <p:cNvPicPr/>
          <p:nvPr/>
        </p:nvPicPr>
        <p:blipFill>
          <a:blip r:embed="rId2"/>
          <a:stretch/>
        </p:blipFill>
        <p:spPr>
          <a:xfrm>
            <a:off x="5832360" y="3492360"/>
            <a:ext cx="37576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ransportan material distancias cortas hasta camión o acopi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rticulación central (las huellas de las ruedas traseras pasan por sobre las de las delanteras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ipos de bald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General purpose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hecho de una pieza de acero soldado, con dientes reemplazabl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Multipurpose: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de dos piezas con bisagra, con bordes reemplazables. Permiten el uso como </a:t>
            </a: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dozer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y sirven para “agarrar” material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Rock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borde de corte en forma de “V” sirve para soltar la roca dinamitad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Otros: forklift, barrenieves, escobillon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36720" y="0"/>
            <a:ext cx="83404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argador Frontal.wmv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1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de trabajo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fijo: Carga del balde, maniobras (4 cambios de dirección) y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variable: ida y regreso desde el lugar de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16000" y="4716360"/>
          <a:ext cx="964548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716360"/>
                    <a:ext cx="96454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6T13:59:31Z</dcterms:modified>
  <cp:revision>18</cp:revision>
  <dc:subject/>
  <dc:title>CI 52A</dc:title>
</cp:coreProperties>
</file>