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BA38-370F-4206-8F8D-3FE7F39E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72254-9B73-4D91-B6E0-3C878558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43028-0814-494C-826C-70ABEEC6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FFB3-048D-402F-A59B-6C9AC1D1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47B5-0371-40BF-B16F-E5B2C43C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71F8-E0D7-4F28-913A-57F4ADF6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772F-A912-442B-A7FF-B95A138D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50F6-9C17-4D79-9FC3-0288D31E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3DF4-27F4-49A3-A7A1-51C6F1EF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08C6-6375-4DA9-89AA-F11F46BA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BDC6-2DA2-4DE1-AC52-7FF503EA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69AF-CDD3-47CE-B6F1-2B969F0A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97C6-8A59-49F7-855D-A82DA71D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E4D2-EE11-4BA2-BCE0-45435890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A32D-EB4B-4132-BDA5-BEE48494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3C49-82C7-4673-B61B-F91AD0A4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45C0-A650-4429-9F3E-E9251D50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A6EA1-BA11-471B-BF89-CF3F7778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B771-816B-444A-B4E3-93FB2C28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7544-8BC8-4626-8895-7749BD57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B377-15D3-46C2-98A1-F8CC5019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FF08-0631-4196-8EF8-04A25A87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D4325-C521-4340-9795-2FCB9BA7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F64B-3FDF-4D96-A3F5-D677D911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7E2A-1247-4F1C-8804-0130DCAE6124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AC70-B180-4EC4-B76A-13B297D0C001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7240" cy="35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Times New Roman"/>
              </a:rPr>
              <a:t>Cargador</a:t>
            </a: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 Fronta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7" descr="j0336323"/>
          <p:cNvPicPr/>
          <p:nvPr/>
        </p:nvPicPr>
        <p:blipFill>
          <a:blip r:embed="rId1"/>
          <a:stretch/>
        </p:blipFill>
        <p:spPr>
          <a:xfrm>
            <a:off x="1438200" y="5429160"/>
            <a:ext cx="2158920" cy="1408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8" descr="j0336317"/>
          <p:cNvPicPr/>
          <p:nvPr/>
        </p:nvPicPr>
        <p:blipFill>
          <a:blip r:embed="rId2"/>
          <a:stretch/>
        </p:blipFill>
        <p:spPr>
          <a:xfrm>
            <a:off x="3886200" y="54291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j0336930"/>
          <p:cNvPicPr/>
          <p:nvPr/>
        </p:nvPicPr>
        <p:blipFill>
          <a:blip r:embed="rId3"/>
          <a:stretch/>
        </p:blipFill>
        <p:spPr>
          <a:xfrm>
            <a:off x="6540480" y="5423040"/>
            <a:ext cx="2286000" cy="1417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1"/>
          <a:stretch/>
        </p:blipFill>
        <p:spPr>
          <a:xfrm>
            <a:off x="647640" y="1658880"/>
            <a:ext cx="9072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01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Excava desde la superficie donde está la máquina hacia arriba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Montados sobre ruedas u orugas.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loader"/>
          <p:cNvPicPr/>
          <p:nvPr/>
        </p:nvPicPr>
        <p:blipFill>
          <a:blip r:embed="rId1"/>
          <a:stretch/>
        </p:blipFill>
        <p:spPr>
          <a:xfrm>
            <a:off x="360360" y="3995640"/>
            <a:ext cx="5256360" cy="323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at"/>
          <p:cNvPicPr/>
          <p:nvPr/>
        </p:nvPicPr>
        <p:blipFill>
          <a:blip r:embed="rId2"/>
          <a:stretch/>
        </p:blipFill>
        <p:spPr>
          <a:xfrm>
            <a:off x="5832360" y="3492360"/>
            <a:ext cx="375768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Transportan material distancias cortas hasta camión o acopi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Articulación central (las huellas de las ruedas traseras pasan por sobre las de las delanteras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Tipos de baldes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General purpose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: hecho de una pieza de acero soldado, con dientes reemplazables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Multipurpose: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 de dos piezas con bisagra, con bordes reemplazables. Permiten el uso como </a:t>
            </a: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dozer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 y sirven para “agarrar” material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Rock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: borde de corte en forma de “V” sirve para soltar la roca dinamitad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Otros: forklift, barrenieves, escobillones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36720" y="0"/>
            <a:ext cx="8340480" cy="75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argador Frontal.wmv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818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de trabajo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iempo fijo: Carga del balde, maniobras (4 cambios de dirección) y descarg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iempo variable: ida y regreso desde el lugar de descarg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216000" y="4716360"/>
          <a:ext cx="9645480" cy="24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716360"/>
                    <a:ext cx="964548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8-06T13:59:31Z</dcterms:modified>
  <cp:revision>18</cp:revision>
  <dc:subject/>
  <dc:title>CI 52A</dc:title>
</cp:coreProperties>
</file>