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F9C0-3B67-4D5C-B947-E4B87A76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27E5-06E0-493C-A6FF-3A346E7F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91FB-9C4A-47C2-B14C-33DC833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FE85-A90B-4119-BF41-22F5E569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2E7B-3932-455D-8574-9EAD32A8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59C1-6B8A-4F69-B452-3A35309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A1FD-2633-4EAA-BE51-637EA363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67C1-22E5-4A95-A949-92F272E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1BC-8055-4128-B6A0-F6413B4C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13BD-07C8-4E28-B3A1-102B82F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6B4-8BBA-43E0-B388-DDE8292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D383-7BEE-44E9-89FF-1A52F7E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C40A-3186-44B3-A5A2-26DE292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A88-A1F3-45EA-99FB-148C845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47A-CFEA-41FF-BBBA-4680235A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A319-81EF-49B5-A7A1-85BA6CF7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F71F-976F-4172-8C74-39273AF1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C941-ED91-4F07-AC3C-688A7AA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4D32-AE15-4A32-AB68-A2F41C83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4292-EA6B-4E00-BF59-5C22ADF5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5C1B-AC15-4CA7-B635-01C6B60A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9828-CCD0-48CB-9F7C-C1BA545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1051-2E2F-472D-9618-CDBDBF8E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74C0-6D16-4574-9994-5B1F861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0BA-448F-4281-B023-244CD20C34D8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086-8385-49B6-AE38-412B15D82BC6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35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Times New Roman"/>
              </a:rPr>
              <a:t>Cargador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Fronta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7" descr="j0336323"/>
          <p:cNvPicPr/>
          <p:nvPr/>
        </p:nvPicPr>
        <p:blipFill>
          <a:blip r:embed="rId1"/>
          <a:stretch/>
        </p:blipFill>
        <p:spPr>
          <a:xfrm>
            <a:off x="1438200" y="5429160"/>
            <a:ext cx="2158920" cy="140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j0336317"/>
          <p:cNvPicPr/>
          <p:nvPr/>
        </p:nvPicPr>
        <p:blipFill>
          <a:blip r:embed="rId2"/>
          <a:stretch/>
        </p:blipFill>
        <p:spPr>
          <a:xfrm>
            <a:off x="3886200" y="54291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j0336930"/>
          <p:cNvPicPr/>
          <p:nvPr/>
        </p:nvPicPr>
        <p:blipFill>
          <a:blip r:embed="rId3"/>
          <a:stretch/>
        </p:blipFill>
        <p:spPr>
          <a:xfrm>
            <a:off x="6540480" y="5423040"/>
            <a:ext cx="2286000" cy="1417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647640" y="1658880"/>
            <a:ext cx="9072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Excava desde la superficie donde está la máquina hacia arrib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Montados sobre ruedas u orugas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loader"/>
          <p:cNvPicPr/>
          <p:nvPr/>
        </p:nvPicPr>
        <p:blipFill>
          <a:blip r:embed="rId1"/>
          <a:stretch/>
        </p:blipFill>
        <p:spPr>
          <a:xfrm>
            <a:off x="360360" y="3995640"/>
            <a:ext cx="5256360" cy="323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at"/>
          <p:cNvPicPr/>
          <p:nvPr/>
        </p:nvPicPr>
        <p:blipFill>
          <a:blip r:embed="rId2"/>
          <a:stretch/>
        </p:blipFill>
        <p:spPr>
          <a:xfrm>
            <a:off x="5832360" y="3492360"/>
            <a:ext cx="37576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ransportan material distancias cortas hasta camión o acopi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rticulación central (las huellas de las ruedas traseras pasan por sobre las de las delanteras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ipos de bald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General purpose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hecho de una pieza de acero soldado, con dientes reemplazabl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Multipurpose: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de dos piezas con bisagra, con bordes reemplazables. Permiten el uso como </a:t>
            </a: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dozer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y sirven para “agarrar” material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Rock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borde de corte en forma de “V” sirve para soltar la roca dinamitad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Otros: forklift, barrenieves, escobillon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36720" y="0"/>
            <a:ext cx="83404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argador Frontal.wmv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1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de trabajo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fijo: Carga del balde, maniobras (4 cambios de dirección) y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variable: ida y regreso desde el lugar de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16000" y="4716360"/>
          <a:ext cx="964548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716360"/>
                    <a:ext cx="96454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6T13:59:31Z</dcterms:modified>
  <cp:revision>18</cp:revision>
  <dc:subject/>
  <dc:title>CI 52A</dc:title>
</cp:coreProperties>
</file>