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FF0F7-0855-42E0-A37A-A127C81B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59E53-0A7A-42F4-AE2C-871D7136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248CA-EEAF-4346-B3ED-2FC0E754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3C949-C06B-4313-9768-63A1B12D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5BD0-BFA0-4D2E-9191-13B3CB7F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B9FE-AD22-4589-8CA1-8F94DE17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D3FC-0772-46F9-AFDB-437BB245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083B-A4CF-4B18-BC6A-C027FB6A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9B4A-8AD1-4727-8A27-CD14F2EE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1274-E5F8-49D9-BFAA-413936F1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D614-136D-46DA-AF3A-73BF915D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59957-6918-41AC-A8BE-0E755413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E4C7-0962-4EAB-9B77-68232DD1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F591-ED77-4235-B821-DBD3F4F6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ABD1-5735-4108-9A7F-C654159F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3E98-6080-4C4C-989E-17CB6D53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B857-9156-4BAB-84F3-BDA56EE4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B1CF-00D0-4EB0-845E-AD7548A2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807F9-1351-4847-9015-F96F626F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BA2F6-0C8E-46FB-A085-0680C151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65491-BEBC-4C2A-9CA9-111B8EA6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3D041-873D-45B0-8949-77FF7AD6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970B1-3483-400A-9FC1-58699166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0C9D0-1B87-4DBA-B88F-7EB751B0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8FD9-BE6E-4BAF-8EB4-22636B7D44B3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54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50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54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50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CD87-0CAB-4C72-B5CE-6A99D0A5E4E1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7240" cy="35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Maquinarias para Movim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Times New Roman"/>
              </a:rPr>
              <a:t>Cargador</a:t>
            </a: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 Fronta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7" descr="j0336323"/>
          <p:cNvPicPr/>
          <p:nvPr/>
        </p:nvPicPr>
        <p:blipFill>
          <a:blip r:embed="rId1"/>
          <a:stretch/>
        </p:blipFill>
        <p:spPr>
          <a:xfrm>
            <a:off x="1438200" y="5429160"/>
            <a:ext cx="2158920" cy="1408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8" descr="j0336317"/>
          <p:cNvPicPr/>
          <p:nvPr/>
        </p:nvPicPr>
        <p:blipFill>
          <a:blip r:embed="rId2"/>
          <a:stretch/>
        </p:blipFill>
        <p:spPr>
          <a:xfrm>
            <a:off x="3886200" y="5429160"/>
            <a:ext cx="2303640" cy="1416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9" descr="j0336930"/>
          <p:cNvPicPr/>
          <p:nvPr/>
        </p:nvPicPr>
        <p:blipFill>
          <a:blip r:embed="rId3"/>
          <a:stretch/>
        </p:blipFill>
        <p:spPr>
          <a:xfrm>
            <a:off x="6540480" y="5423040"/>
            <a:ext cx="2286000" cy="14173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Picture 11" descr=""/>
          <p:cNvPicPr/>
          <p:nvPr/>
        </p:nvPicPr>
        <p:blipFill>
          <a:blip r:embed="rId1"/>
          <a:stretch/>
        </p:blipFill>
        <p:spPr>
          <a:xfrm>
            <a:off x="647640" y="1658880"/>
            <a:ext cx="907272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01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Excava desde la superficie donde está la máquina hacia arriba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Montados sobre ruedas u orugas. 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loader"/>
          <p:cNvPicPr/>
          <p:nvPr/>
        </p:nvPicPr>
        <p:blipFill>
          <a:blip r:embed="rId1"/>
          <a:stretch/>
        </p:blipFill>
        <p:spPr>
          <a:xfrm>
            <a:off x="360360" y="3995640"/>
            <a:ext cx="5256360" cy="323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at"/>
          <p:cNvPicPr/>
          <p:nvPr/>
        </p:nvPicPr>
        <p:blipFill>
          <a:blip r:embed="rId2"/>
          <a:stretch/>
        </p:blipFill>
        <p:spPr>
          <a:xfrm>
            <a:off x="5832360" y="3492360"/>
            <a:ext cx="375768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Transportan material distancias cortas hasta camión o acopi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Articulación central (las huellas de las ruedas traseras pasan por sobre las de las delanteras)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Tipos de baldes: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0276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100" spc="-1" strike="noStrike">
                <a:solidFill>
                  <a:srgbClr val="ffffff"/>
                </a:solidFill>
                <a:latin typeface="Garamond"/>
              </a:rPr>
              <a:t>General purpose</a:t>
            </a: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: hecho de una pieza de acero soldado, con dientes reemplazables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0276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100" spc="-1" strike="noStrike">
                <a:solidFill>
                  <a:srgbClr val="ffffff"/>
                </a:solidFill>
                <a:latin typeface="Garamond"/>
              </a:rPr>
              <a:t>Multipurpose:</a:t>
            </a: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 de dos piezas con bisagra, con bordes reemplazables. Permiten el uso como </a:t>
            </a:r>
            <a:r>
              <a:rPr b="0" i="1" lang="es-ES_tradnl" sz="3100" spc="-1" strike="noStrike">
                <a:solidFill>
                  <a:srgbClr val="ffffff"/>
                </a:solidFill>
                <a:latin typeface="Garamond"/>
              </a:rPr>
              <a:t>dozer</a:t>
            </a: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 y sirven para “agarrar” material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0276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100" spc="-1" strike="noStrike">
                <a:solidFill>
                  <a:srgbClr val="ffffff"/>
                </a:solidFill>
                <a:latin typeface="Garamond"/>
              </a:rPr>
              <a:t>Rock</a:t>
            </a: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: borde de corte en forma de “V” sirve para soltar la roca dinamitad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86240" indent="-30276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Otros: forklift, barrenieves, escobillones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936720" y="0"/>
            <a:ext cx="8340480" cy="75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argador Frontal.wmv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6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6818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CARGADOR FROTAL (LOADER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de trabajo: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Tiempo fijo: Carga del balde, maniobras (4 cambios de dirección) y descarg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Tiempo variable: ida y regreso desde el lugar de descarg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216000" y="4716360"/>
          <a:ext cx="9645480" cy="24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716360"/>
                    <a:ext cx="964548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8-06T13:59:31Z</dcterms:modified>
  <cp:revision>18</cp:revision>
  <dc:subject/>
  <dc:title>CI 52A</dc:title>
</cp:coreProperties>
</file>