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C22CF-E867-44AA-B849-CF1FEDEF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CCA5E-1D34-41DF-BFF4-E8FD58B7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70E32-320A-4E1E-9262-EC118BF3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D4E4D-BB36-40F9-B1F8-3CD42708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B109-6CCA-4026-8410-7605E5B6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6595-4A3D-42A5-AEF1-04FD7773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159F-6075-430B-8044-04D9BC5A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179E-9A6E-403E-BE2F-A6AF42C1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F586-D165-4B9C-8B79-FE5D6BA6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BD6E-7B59-4050-94E3-B0EF52E5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B539-548D-4633-BA4F-8E1438AE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AF899-193A-47EC-96A5-B7AFE053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DC55-4094-4C28-AD0D-FDC95DFE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0563-E23C-4613-A11E-479D7D2A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523A-BBB9-4ECC-9264-DDDE7A09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14D8-9E88-497C-9F81-B981F8CE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A538-715E-4C2D-AC4B-09354BBE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4797C-45B2-4E7C-A137-40A38F1B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2F8BF-740D-43BA-9D8F-A9660C7F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48174-8343-4C6B-966C-4A55A3ED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247EF-DFD0-4958-97B2-78BA5F52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DF886-6760-4CC0-83B7-9A75421F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AE402-BCAA-48A7-8933-F6840080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7C895-2857-4163-9996-9E555033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E0E4-6AC5-43F9-8241-97D934E78BF4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54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050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54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0500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15CE-311D-4C1D-83BB-378C87C9BE3B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66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Maquinarias para Movimi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Excava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4" descr="npo000000"/>
          <p:cNvPicPr/>
          <p:nvPr/>
        </p:nvPicPr>
        <p:blipFill>
          <a:blip r:embed="rId1"/>
          <a:stretch/>
        </p:blipFill>
        <p:spPr>
          <a:xfrm>
            <a:off x="3672000" y="5435640"/>
            <a:ext cx="2952720" cy="1925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8785440" cy="153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ÓRMULA DE PRODU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317600" y="2765520"/>
                <a:ext cx="713736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·</m:t>
                        </m:r>
                        <m:r>
                          <m:t xml:space="preserve">Q·F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sponjamient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Text Box 6"/>
          <p:cNvSpPr/>
          <p:nvPr/>
        </p:nvSpPr>
        <p:spPr>
          <a:xfrm>
            <a:off x="576360" y="4572000"/>
            <a:ext cx="907236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: capacidad del bal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: factor de llenado (tabla según materia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: tiempo de ciclo (se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: eficiencia en minutos de cada hora ( tipicamente 50 min/hor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9800" y="2099880"/>
            <a:ext cx="8693280" cy="885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ACTOR DE LLENADO (%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7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Garamond"/>
              </a:rPr>
              <a:t>(SE APLICAN SOBRE CAPACIDAD BALDE COLMADO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36720" y="3419640"/>
          <a:ext cx="8424720" cy="338292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TERIAL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ACTOR (%)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arenos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va y/o aren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5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mal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 – 5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bien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 – 75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dur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 -9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ACCESORIO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Martillo neumático para demolicione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Tenazas para manejo de troncos o rollizo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Clamshell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ancho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5" descr="npo00000b"/>
          <p:cNvPicPr/>
          <p:nvPr/>
        </p:nvPicPr>
        <p:blipFill>
          <a:blip r:embed="rId1"/>
          <a:stretch/>
        </p:blipFill>
        <p:spPr>
          <a:xfrm>
            <a:off x="4032360" y="4859280"/>
            <a:ext cx="2874960" cy="1959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npo00000d"/>
          <p:cNvPicPr/>
          <p:nvPr/>
        </p:nvPicPr>
        <p:blipFill>
          <a:blip r:embed="rId2"/>
          <a:stretch/>
        </p:blipFill>
        <p:spPr>
          <a:xfrm>
            <a:off x="8136000" y="4859280"/>
            <a:ext cx="135396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npo00000f"/>
          <p:cNvPicPr/>
          <p:nvPr/>
        </p:nvPicPr>
        <p:blipFill>
          <a:blip r:embed="rId3"/>
          <a:stretch/>
        </p:blipFill>
        <p:spPr>
          <a:xfrm>
            <a:off x="431640" y="4859280"/>
            <a:ext cx="25718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979280"/>
            <a:ext cx="8929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Excavación bajo la superficie sobre la cual trabaja la máquin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Adecuada para excavación de zanjas y pozo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Sobre ruedas o sobre oruga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8" descr="npo000002"/>
          <p:cNvPicPr/>
          <p:nvPr/>
        </p:nvPicPr>
        <p:blipFill>
          <a:blip r:embed="rId1"/>
          <a:stretch/>
        </p:blipFill>
        <p:spPr>
          <a:xfrm>
            <a:off x="2160720" y="478800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Medium-sized hydraulic excavator (PC200)"/>
          <p:cNvPicPr/>
          <p:nvPr/>
        </p:nvPicPr>
        <p:blipFill>
          <a:blip r:embed="rId2"/>
          <a:stretch/>
        </p:blipFill>
        <p:spPr>
          <a:xfrm>
            <a:off x="5400720" y="4643280"/>
            <a:ext cx="2855880" cy="21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Picture 6" descr="npo000006"/>
          <p:cNvPicPr/>
          <p:nvPr/>
        </p:nvPicPr>
        <p:blipFill>
          <a:blip r:embed="rId1"/>
          <a:stretch/>
        </p:blipFill>
        <p:spPr>
          <a:xfrm>
            <a:off x="287280" y="3419640"/>
            <a:ext cx="6050160" cy="38322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1"/>
          <p:cNvSpPr/>
          <p:nvPr/>
        </p:nvSpPr>
        <p:spPr>
          <a:xfrm>
            <a:off x="863640" y="2195640"/>
            <a:ext cx="91440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173092"/>
              <a:gd name="adj5" fmla="val 550199"/>
              <a:gd name="adj6" fmla="val 2399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Bo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7056360" y="2916360"/>
            <a:ext cx="1728720" cy="1008000"/>
          </a:xfrm>
          <a:prstGeom prst="borderCallout2">
            <a:avLst>
              <a:gd name="adj1" fmla="val 18750"/>
              <a:gd name="adj2" fmla="val -8333"/>
              <a:gd name="adj3" fmla="val 11337"/>
              <a:gd name="adj4" fmla="val -61800"/>
              <a:gd name="adj5" fmla="val 211337"/>
              <a:gd name="adj6" fmla="val -12148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ilindros Hidráulicos por encim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6769080" y="6659640"/>
            <a:ext cx="91440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104513"/>
              <a:gd name="adj5" fmla="val -152569"/>
              <a:gd name="adj6" fmla="val -20468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Bucke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1979280"/>
            <a:ext cx="9145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Distancias características: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5" descr="npo000007"/>
          <p:cNvPicPr/>
          <p:nvPr/>
        </p:nvPicPr>
        <p:blipFill>
          <a:blip r:embed="rId1"/>
          <a:stretch/>
        </p:blipFill>
        <p:spPr>
          <a:xfrm>
            <a:off x="5761080" y="2627280"/>
            <a:ext cx="3809880" cy="46674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6"/>
          <p:cNvSpPr/>
          <p:nvPr/>
        </p:nvSpPr>
        <p:spPr>
          <a:xfrm>
            <a:off x="7853400" y="1403280"/>
            <a:ext cx="1434960" cy="720720"/>
          </a:xfrm>
          <a:prstGeom prst="borderCallout2">
            <a:avLst>
              <a:gd name="adj1" fmla="val 18750"/>
              <a:gd name="adj2" fmla="val -8333"/>
              <a:gd name="adj3" fmla="val 15861"/>
              <a:gd name="adj4" fmla="val -22564"/>
              <a:gd name="adj5" fmla="val 209912"/>
              <a:gd name="adj6" fmla="val -40486"/>
            </a:avLst>
          </a:prstGeom>
          <a:solidFill>
            <a:srgbClr val="0099cc"/>
          </a:solidFill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tura de carg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2448000" y="2987640"/>
            <a:ext cx="14349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84180"/>
              <a:gd name="adj5" fmla="val 588106"/>
              <a:gd name="adj6" fmla="val 266041"/>
            </a:avLst>
          </a:prstGeom>
          <a:solidFill>
            <a:srgbClr val="0099cc"/>
          </a:solidFill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can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2879640" y="6443640"/>
            <a:ext cx="1435320" cy="914400"/>
          </a:xfrm>
          <a:prstGeom prst="borderCallout2">
            <a:avLst>
              <a:gd name="adj1" fmla="val 18750"/>
              <a:gd name="adj2" fmla="val -8333"/>
              <a:gd name="adj3" fmla="val 28300"/>
              <a:gd name="adj4" fmla="val 243472"/>
              <a:gd name="adj5" fmla="val 28300"/>
              <a:gd name="adj6" fmla="val 386949"/>
            </a:avLst>
          </a:prstGeom>
          <a:solidFill>
            <a:srgbClr val="0099cc"/>
          </a:solidFill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Profundidad de excav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7280" y="1476360"/>
            <a:ext cx="950616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La capacidad del balde o capacho se mide colmado, con pendiente 1:1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Para materiales blandos conviene usar el capacho más ancho y grande posible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42" descr="npo000009"/>
          <p:cNvPicPr/>
          <p:nvPr/>
        </p:nvPicPr>
        <p:blipFill>
          <a:blip r:embed="rId1"/>
          <a:stretch/>
        </p:blipFill>
        <p:spPr>
          <a:xfrm>
            <a:off x="2808360" y="3851280"/>
            <a:ext cx="460836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EXCAVADORA (HOE)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431640" y="2987640"/>
            <a:ext cx="9217080" cy="3086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792000" y="1979640"/>
            <a:ext cx="8712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istancias Característ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CL" sz="4900" spc="-1" strike="noStrike">
                <a:solidFill>
                  <a:srgbClr val="e5e5ff"/>
                </a:solidFill>
                <a:latin typeface="Garamond"/>
              </a:rPr>
              <a:t>Tiempo de Ciclo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Komatsu PC1250-7 _amp; HD605-7 dump truck.avi" descr=""/>
          <p:cNvPicPr/>
          <p:nvPr/>
        </p:nvPicPr>
        <p:blipFill>
          <a:blip r:embed="rId1"/>
          <a:stretch/>
        </p:blipFill>
        <p:spPr>
          <a:xfrm>
            <a:off x="3516480" y="2637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Profundidad óptima de excavación varía entre 30% a 60% de la profundidad máxima de exc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Ciclo típic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Cargar el balde (30% a 60% prof. máxima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ar (30º a 60º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Descargar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o de retorno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EXCAVADOR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92000" y="2627280"/>
          <a:ext cx="8606160" cy="4505400"/>
        </p:xfrm>
        <a:graphic>
          <a:graphicData uri="http://schemas.openxmlformats.org/drawingml/2006/table">
            <a:tbl>
              <a:tblPr/>
              <a:tblGrid>
                <a:gridCol w="1435320"/>
                <a:gridCol w="1433520"/>
                <a:gridCol w="1434960"/>
                <a:gridCol w="1433520"/>
                <a:gridCol w="1435320"/>
                <a:gridCol w="143352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ALDE (m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RG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SCARG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451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&lt; 1.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1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5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9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2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6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0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08000" indent="-108000" algn="ctr">
                        <a:spcBef>
                          <a:spcPts val="550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s-ES_tradnl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88"/>
          <p:cNvSpPr/>
          <p:nvPr/>
        </p:nvSpPr>
        <p:spPr>
          <a:xfrm>
            <a:off x="792000" y="1979640"/>
            <a:ext cx="8712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Tiempos de ciclo (segundos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 Wragg</cp:lastModifiedBy>
  <dcterms:modified xsi:type="dcterms:W3CDTF">2009-04-23T14:46:58Z</dcterms:modified>
  <cp:revision>27</cp:revision>
  <dc:subject/>
  <dc:title>CI 52A</dc:title>
</cp:coreProperties>
</file>