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E3D6-ADE4-48B5-B46E-2FE98D95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64AB-CF15-40B6-8116-4C8AC272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ABF5-B030-4CD1-B14F-6F04343F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116A-DE18-44F5-9ECC-DC9FA939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6FA8-F846-46E1-ADDC-D5A3CA6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551-40B6-45A7-BE5D-696E5256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43D-70FF-475C-9165-D564D928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9643-C82A-4A92-A84B-AE252F3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EDE3-8052-4AE5-859D-52116296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9722-F71E-4A69-9A36-76E71691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B8A-BCA4-4CFB-881E-A39838F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F7CD-60ED-43C5-AB48-716F812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4285-F906-491F-99E0-4B88354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B937-EADC-43A7-BE92-9A794D9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ABD2-002A-4310-8855-B4C17D8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229-331A-47AD-B014-3071C3B2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4CDB-68E9-4D30-BA30-CC4F012C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A18E-874F-451E-8D21-EA9EDF9A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71D9-AC1B-4D55-831A-1F8FF7F5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4D46-13CB-451C-BD06-B7325FE6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23BF-C356-480A-8107-C952E642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2C6C-80E4-42CC-97D4-B7D914E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39DA-0B57-4A3E-8706-6C91CB6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21EE-1066-4C38-ADE3-C337D714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5C29-DCBF-4448-B1F4-023A14784F44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644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E3D3-2867-4EAE-A350-7668CF9E1A01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8-04T13:49:10Z</dcterms:modified>
  <cp:revision>32</cp:revision>
  <dc:subject/>
  <dc:title>CI 52A</dc:title>
</cp:coreProperties>
</file>