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08FD5-7ACA-49FA-971F-6492757D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4590-08FC-44BF-A9FD-9A5DC215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7A8F-5027-43C2-97BC-094E7E7E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79A8-A843-4376-9862-69F2B964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CE8B-BE7B-4451-BB0E-2AF5C6F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AF47-87F0-4FF4-A30D-23099571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B2B4-1F68-434C-8B21-9DC7F2B2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7343-2A50-454D-8EA6-FA7530E2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7653-9CC1-4689-BFD3-4F448C93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48E0-314A-43FF-8358-9BB40395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0FFA-EB26-40D1-9529-1AF8497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571E-5C72-4C4E-84D4-E79859B6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3976-CD12-4222-B41A-92640E4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4CEF-6A63-4F44-849A-073041E4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C144-9A4C-435C-AA3B-299567DA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DC60-7676-44AB-8208-AA356543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9560-8A61-4265-904A-C4F0D785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27F8-5DEA-4FEC-AA5E-53D73639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A210D-0427-441D-A410-17C7E9EB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A0CF-4ADC-4A42-B322-75FA8CBB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657E-D751-4592-A99C-C1E9D45E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081A-CD9D-4D9E-A88E-7F8904EC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093F-B7C4-4B64-B301-7104E50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B6A7-C868-4A3F-A97C-8BF795B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9A06-21B5-48E5-8DCA-9F4A8970E323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BD77-3145-4DF3-BDB5-DA7B43DD28FA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4T13:49:10Z</dcterms:modified>
  <cp:revision>32</cp:revision>
  <dc:subject/>
  <dc:title>CI 52A</dc:title>
</cp:coreProperties>
</file>