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3D0F-C90F-42BF-95F9-32FD66BE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3471-913C-4797-8761-E27B1F9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0EF8-9E75-49AA-9682-2763DEDE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A83A-DED4-443E-B92F-CED608E1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723-4D9C-456C-A31C-A80B1E8F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8533-3D23-4045-BD58-835E7B42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82DE-AF60-4207-81FB-40DB116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78F3-43CF-403A-9DD6-FC0D73AE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28F0-EAD2-495F-840D-AD93B41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EDA3-BD53-468A-8AA8-3FAF7A8F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0D56-CFEE-4A29-9748-3E3B503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827E-BCC8-4111-9DC4-AAB630D4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D758-18CC-4A3E-9BAE-8CDA8AF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7B8A-A75E-4464-80C9-A392AD6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7BCE-42CD-4C06-89B3-05A336C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96C1-2BC1-45F6-A6CC-41E80A4C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97A1-1005-4080-A367-C7BBFB09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973C-42B4-40EC-8260-528C54BB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8FDC-2F90-4116-A5CD-EF9CE49D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57BA-3BA3-4F11-8D08-2786D0A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5E42-E221-4B4D-B449-E4C4BB3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26B8-9F63-4AB7-BE6D-49A91194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4547-6E85-4FBB-AFFA-634F310A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354B-8AB8-4522-8757-6CF3A48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4D39-DDC1-4A6F-820C-B0C7DFEF7D0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D4D3-5304-4414-A0DF-DE5DC3E01E7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4-23T14:46:58Z</dcterms:modified>
  <cp:revision>27</cp:revision>
  <dc:subject/>
  <dc:title>CI 52A</dc:title>
</cp:coreProperties>
</file>