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446D-8512-444D-B611-F41F313B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D438-D1A4-4E48-9673-0B4B8D05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A86F-C452-4D6A-BB89-D3F39760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3D9D-7525-4DD4-96A0-69A1841A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61EC-7652-4B80-BF10-7C2634F8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D75D-8BD6-4B7E-ACAA-581A27F2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11A9-4088-4496-9B63-71AEC54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5E7-652F-4073-9A2E-017AFEB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088F-EE7A-41F1-AB4D-8A3C679A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809-A89F-4241-AE4B-36983B93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F85-BE55-4B84-989D-451A27B5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E297-6AF0-44B3-91FD-502E1C7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782F-1784-4D7F-9BF0-80F0DA4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901-6892-4FCF-A972-1F40FD6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3F46-FF8C-480B-8B9E-7FDE8C79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458B-252E-4275-93F9-57C46F86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42A-6F59-49D3-948B-0C7FF0DF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2C5D-7E23-4FC5-854E-A343CF6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2CD6-CA41-4871-997E-537ACF0E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B6BA-6E2D-4CD9-97AD-93E409A1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946B-5DE0-469F-B738-B284A658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ACF5-101A-4CB6-B9E4-0CE9784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5203-19B4-4526-8552-22B9220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13A5-C3C5-457A-A280-3419546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3C89-7442-46B9-A8BB-65434E9B565D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0398-90A2-4DE5-AD99-36D1701EA138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npo000000"/>
          <p:cNvPicPr/>
          <p:nvPr/>
        </p:nvPicPr>
        <p:blipFill>
          <a:blip r:embed="rId1"/>
          <a:stretch/>
        </p:blipFill>
        <p:spPr>
          <a:xfrm>
            <a:off x="3672000" y="5435640"/>
            <a:ext cx="2952720" cy="192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17600" y="2765520"/>
                <a:ext cx="7137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r>
                          <m:t xml:space="preserve">Q·F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576360" y="4572000"/>
            <a:ext cx="907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CCESORI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Martillo neumático para demolicion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enazas para manejo de troncos o rolliz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lamshel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anch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npo00000b"/>
          <p:cNvPicPr/>
          <p:nvPr/>
        </p:nvPicPr>
        <p:blipFill>
          <a:blip r:embed="rId1"/>
          <a:stretch/>
        </p:blipFill>
        <p:spPr>
          <a:xfrm>
            <a:off x="4032360" y="4859280"/>
            <a:ext cx="28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npo00000d"/>
          <p:cNvPicPr/>
          <p:nvPr/>
        </p:nvPicPr>
        <p:blipFill>
          <a:blip r:embed="rId2"/>
          <a:stretch/>
        </p:blipFill>
        <p:spPr>
          <a:xfrm>
            <a:off x="8136000" y="4859280"/>
            <a:ext cx="135396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npo00000f"/>
          <p:cNvPicPr/>
          <p:nvPr/>
        </p:nvPicPr>
        <p:blipFill>
          <a:blip r:embed="rId3"/>
          <a:stretch/>
        </p:blipFill>
        <p:spPr>
          <a:xfrm>
            <a:off x="431640" y="4859280"/>
            <a:ext cx="2571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bajo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zanjas y pozo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Sobre ruedas o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npo000002"/>
          <p:cNvPicPr/>
          <p:nvPr/>
        </p:nvPicPr>
        <p:blipFill>
          <a:blip r:embed="rId1"/>
          <a:stretch/>
        </p:blipFill>
        <p:spPr>
          <a:xfrm>
            <a:off x="2160720" y="4788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edium-sized hydraulic excavator (PC200)"/>
          <p:cNvPicPr/>
          <p:nvPr/>
        </p:nvPicPr>
        <p:blipFill>
          <a:blip r:embed="rId2"/>
          <a:stretch/>
        </p:blipFill>
        <p:spPr>
          <a:xfrm>
            <a:off x="5400720" y="4643280"/>
            <a:ext cx="285588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npo000006"/>
          <p:cNvPicPr/>
          <p:nvPr/>
        </p:nvPicPr>
        <p:blipFill>
          <a:blip r:embed="rId1"/>
          <a:stretch/>
        </p:blipFill>
        <p:spPr>
          <a:xfrm>
            <a:off x="287280" y="3419640"/>
            <a:ext cx="6050160" cy="3832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863640" y="2195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3092"/>
              <a:gd name="adj5" fmla="val 550199"/>
              <a:gd name="adj6" fmla="val 239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o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056360" y="291636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61800"/>
              <a:gd name="adj5" fmla="val 211337"/>
              <a:gd name="adj6" fmla="val -1214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enc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769080" y="6659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04513"/>
              <a:gd name="adj5" fmla="val -152569"/>
              <a:gd name="adj6" fmla="val -204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uck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istancias característica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npo000007"/>
          <p:cNvPicPr/>
          <p:nvPr/>
        </p:nvPicPr>
        <p:blipFill>
          <a:blip r:embed="rId1"/>
          <a:stretch/>
        </p:blipFill>
        <p:spPr>
          <a:xfrm>
            <a:off x="5761080" y="2627280"/>
            <a:ext cx="3809880" cy="4667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7853400" y="1403280"/>
            <a:ext cx="143496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22564"/>
              <a:gd name="adj5" fmla="val 209912"/>
              <a:gd name="adj6" fmla="val -40486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de 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448000" y="2987640"/>
            <a:ext cx="1434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180"/>
              <a:gd name="adj5" fmla="val 588106"/>
              <a:gd name="adj6" fmla="val 266041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879640" y="6443640"/>
            <a:ext cx="1435320" cy="914400"/>
          </a:xfrm>
          <a:prstGeom prst="borderCallout2">
            <a:avLst>
              <a:gd name="adj1" fmla="val 18750"/>
              <a:gd name="adj2" fmla="val -8333"/>
              <a:gd name="adj3" fmla="val 28300"/>
              <a:gd name="adj4" fmla="val 243472"/>
              <a:gd name="adj5" fmla="val 28300"/>
              <a:gd name="adj6" fmla="val 386949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de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capacidad del balde o capacho se mide colmado, con pendiente 1:1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Para materiales blandos conviene usar el capacho más ancho y grande posib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42" descr="npo000009"/>
          <p:cNvPicPr/>
          <p:nvPr/>
        </p:nvPicPr>
        <p:blipFill>
          <a:blip r:embed="rId1"/>
          <a:stretch/>
        </p:blipFill>
        <p:spPr>
          <a:xfrm>
            <a:off x="2808360" y="3851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9217080" cy="308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istancias Característ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Komatsu PC1250-7 _amp; HD605-7 dump truck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60% de la profundidad máxima de exc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 (30% a 60% prof. máxim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(30º a 60º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0" y="2627280"/>
          <a:ext cx="8606160" cy="4505400"/>
        </p:xfrm>
        <a:graphic>
          <a:graphicData uri="http://schemas.openxmlformats.org/drawingml/2006/table">
            <a:tbl>
              <a:tblPr/>
              <a:tblGrid>
                <a:gridCol w="1435320"/>
                <a:gridCol w="1433520"/>
                <a:gridCol w="1434960"/>
                <a:gridCol w="1433520"/>
                <a:gridCol w="1435320"/>
                <a:gridCol w="14335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DE (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1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8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iempos de ciclo (segundo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4-23T14:46:58Z</dcterms:modified>
  <cp:revision>27</cp:revision>
  <dc:subject/>
  <dc:title>CI 52A</dc:title>
</cp:coreProperties>
</file>