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C13B-3F3A-4F31-96A8-EC2B31BE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8F22-CAB1-43B9-9C0A-7401FD62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5E50-9255-4835-9A1E-CCD9B62D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A99E-D465-42EC-B24D-564AB546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0224-27E4-48A7-988C-48B89958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A334-4FC6-462A-88B1-2F58759D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B876-4F44-46F9-82C4-D421A2A2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4195-7BAC-48EC-BE52-1BDD237F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30B7-3888-4395-8B3F-D83208AB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B336-9EDE-47FC-8CB3-6ACED391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C075-AE4F-471B-8AA0-7754065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EC1C-97E3-41F2-8415-E0CACC1F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8AE5-99A0-44F8-BDC8-4542EEB3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770D-4065-4116-94C9-D0F0BDFE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7807-6CAE-4BDD-B359-646F8DC3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696E-758B-469C-AF92-1F14F012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D0E8-B096-43BB-BB2F-A61109E8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8A9D-F783-4147-AD7F-55E2A136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E081-D0B2-4494-AA7B-0D8E8756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2A53-C7C6-46F6-A97F-5229765E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061D-F796-466E-9E25-F2C609D9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558E-A555-4E06-9483-843EDA6E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C722-C2D3-4113-937D-F16E7C2B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7163-D9C5-4273-A895-89DB5F5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BA06-B302-41C0-B16B-30185240A21B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F370-DD5B-4DE7-919A-EB4841C31EAF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homepage3.nifty.com/kenkraft/img/con/k0040.jpg&amp;imgrefurl=http://homepage3.nifty.com/kenkraft/con-b02.html&amp;h=600&amp;w=900&amp;sz=83&amp;tbnid=5Z3_K-LAEkYJ:&amp;tbnh=96&amp;tbnw=144&amp;start=2&amp;prev=/images%3Fq%3Dfront%2Bshovel%26imgsz%3Dxxlarge%26hl%3Des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Pala Mecánic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317600" y="2798640"/>
                <a:ext cx="7137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sSub>
                          <m:e>
                            <m:r>
                              <m:t xml:space="preserve">Q·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576360" y="4572000"/>
            <a:ext cx="907236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eficiencia según ángulo de giro y a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sobre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grande volúmene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Montada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Transmisión eléctric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bles o cilindr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4" descr="Palas_camion"/>
          <p:cNvPicPr/>
          <p:nvPr/>
        </p:nvPicPr>
        <p:blipFill>
          <a:blip r:embed="rId1"/>
          <a:stretch/>
        </p:blipFill>
        <p:spPr>
          <a:xfrm>
            <a:off x="4968720" y="3995640"/>
            <a:ext cx="46054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Loading in the open pit, using a Liebherr 996 excavator and Caterpillar 993 haulers; Thiess Contractors provided the initial mine development service.&#13;&#10;"/>
          <p:cNvPicPr/>
          <p:nvPr/>
        </p:nvPicPr>
        <p:blipFill>
          <a:blip r:embed="rId1"/>
          <a:stretch/>
        </p:blipFill>
        <p:spPr>
          <a:xfrm>
            <a:off x="1295280" y="3995640"/>
            <a:ext cx="523872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680000" y="219564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7180"/>
              <a:gd name="adj5" fmla="val 284092"/>
              <a:gd name="adj6" fmla="val -51513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debaj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993080" y="4716360"/>
            <a:ext cx="12952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81250"/>
              <a:gd name="adj5" fmla="val 233203"/>
              <a:gd name="adj6" fmla="val -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ontrape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16000" y="2556000"/>
            <a:ext cx="129528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2106"/>
              <a:gd name="adj5" fmla="val 582606"/>
              <a:gd name="adj6" fmla="val 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uchar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4089240" y="1476360"/>
            <a:ext cx="599148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863640" y="1547640"/>
            <a:ext cx="1295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21078"/>
              <a:gd name="adj5" fmla="val 50171"/>
              <a:gd name="adj6" fmla="val 342277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503280" y="608472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14000"/>
              <a:gd name="adj5" fmla="val -7458"/>
              <a:gd name="adj6" fmla="val 32844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863640" y="363528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54023"/>
              <a:gd name="adj5" fmla="val -52375"/>
              <a:gd name="adj6" fmla="val 41069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des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pacidad del balde o capacho se mide en forma similar a la retroexcavadora (Norma SAE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Para materiales duros conviene usar el capacho que ejerza la mayor presión posibl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44" descr="P1020489"/>
          <p:cNvPicPr/>
          <p:nvPr/>
        </p:nvPicPr>
        <p:blipFill>
          <a:blip r:embed="rId1"/>
          <a:stretch/>
        </p:blipFill>
        <p:spPr>
          <a:xfrm>
            <a:off x="4824360" y="3708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45" descr=""/>
          <p:cNvPicPr/>
          <p:nvPr/>
        </p:nvPicPr>
        <p:blipFill>
          <a:blip r:embed="rId2"/>
          <a:stretch/>
        </p:blipFill>
        <p:spPr>
          <a:xfrm>
            <a:off x="503280" y="3714840"/>
            <a:ext cx="4176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Terex Giant Truck and Excavator in Gold Mine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50% de la altura máxima de 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: 7 a 9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con carga: 4 a 6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: 2 a 4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: 4 a 5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28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145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Ángulo de barrid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Tipo de materia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Altura de la cara de excav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en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ay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k0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64000"/>
            <a:ext cx="252108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335640" y="716436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 rot="5400000">
            <a:off x="4786560" y="561564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3"/>
          <p:cNvSpPr/>
          <p:nvPr/>
        </p:nvSpPr>
        <p:spPr>
          <a:xfrm rot="16200000">
            <a:off x="5076000" y="4896360"/>
            <a:ext cx="2305080" cy="122364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63800 h 1223640"/>
              <a:gd name="textAreaBottom" fmla="*/ 10598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Factores de reducción de la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40" descr=""/>
          <p:cNvPicPr/>
          <p:nvPr/>
        </p:nvPicPr>
        <p:blipFill>
          <a:blip r:embed="rId1"/>
          <a:stretch/>
        </p:blipFill>
        <p:spPr>
          <a:xfrm>
            <a:off x="216000" y="2987640"/>
            <a:ext cx="9648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4T13:49:10Z</dcterms:modified>
  <cp:revision>32</cp:revision>
  <dc:subject/>
  <dc:title>CI 52A</dc:title>
</cp:coreProperties>
</file>