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FC1C-AB27-4F6F-8C5F-918B4D80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D75A-2CD1-45FC-84B4-7976F9EB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6801-8A58-4573-9A72-0CC0064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DF4E-4987-4D5A-B591-24CA42E2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D8E-98A3-42AC-B34B-0144D820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00B6-6989-4966-A674-7AA8566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F8F1-4D31-4166-8D6A-791627ED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CFF-9A43-4EB2-8A8E-31D7E3C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047E-2B0D-4D95-81FE-B1E9281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53D-B776-45C0-9F95-3CBDB0D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299-D9B2-4825-88B3-3D7EB50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B8D6-15BE-4028-9893-8F272AE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DCC4-EFB3-4A35-8C9F-E2E05FA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14C-2A26-4672-A76A-19CFEFC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E5CA-A26B-43E9-80C1-9F85435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FD93-0C7F-4C3B-A7D7-A71FE099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1B8-DBCE-459E-9D75-DAA3676D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3444-3BFF-4DD1-BF53-3F8DB163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B148-F066-43A6-B363-536F44B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F874-4A21-4577-ADE3-C784ACF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6A8E-2FDF-462D-AC87-2A81C098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852F-05BB-442F-9317-A3D59D7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7061-EC14-4AE7-A681-2B67B1F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1905-D673-449E-BAA0-42D3CEB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AFF-4C30-449E-A8FC-F7BE39E09846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300-9AA5-4240-BC90-6BE60773BFDE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4-23T14:46:58Z</dcterms:modified>
  <cp:revision>27</cp:revision>
  <dc:subject/>
  <dc:title>CI 52A</dc:title>
</cp:coreProperties>
</file>