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1F28-A45E-4EF8-BF97-ABBFFE45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06AB8-0EF3-4316-92C3-40C2A1B2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3AF4-7A80-40D0-AE93-3F1D5BA5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5B00-1DDF-46B2-9689-08945B4A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2169-2243-480E-AFBE-2AEBEEB4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05B3-C9A2-497E-933F-7087E6B6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633E-77C2-4774-8137-99D152BA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A120-33E6-45A3-AF0C-94FF7D98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4788-86F4-4FBA-8724-A1C289AE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5C40-5CFE-447E-BB58-8FAF598B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47EF-A1F1-4246-8C3B-4987665C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499D-CE0D-4BBC-873D-26D06C1B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1404-6681-41CA-A4E0-42391176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55D9-1945-431F-A1EF-CF70F199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C684-9784-467A-9507-A5E67119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BF35-5857-42F1-AF42-23290EFA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31D6-46C4-4CF7-837A-031E3857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2F46-9893-4105-8CE1-641463D5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93EA6-2123-4833-AF0F-510779A6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8183-6D1A-4CF5-A3A9-D9363AED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54BB-804D-4211-9067-C48AC137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2337B-E9F5-4E50-B592-CA590C41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418A-6CE2-475D-AC8D-C3273BF6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D260-BE7D-4C11-B7D0-0FBB204F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F98B-0F53-412C-A8A7-C3FCB3586802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644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644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55CD-841D-4F4F-AFAC-B90BC40A0DD8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homepage3.nifty.com/kenkraft/img/con/k0040.jpg&amp;imgrefurl=http://homepage3.nifty.com/kenkraft/con-b02.html&amp;h=600&amp;w=900&amp;sz=83&amp;tbnid=5Z3_K-LAEkYJ:&amp;tbnh=96&amp;tbnw=144&amp;start=2&amp;prev=/images%3Fq%3Dfront%2Bshovel%26imgsz%3Dxxlarge%26hl%3Des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Maquinarias para Movimi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Pala Mecánic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8785440" cy="153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ÓRMULA DE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317600" y="2798640"/>
                <a:ext cx="7137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·</m:t>
                        </m:r>
                        <m:sSub>
                          <m:e>
                            <m:r>
                              <m:t xml:space="preserve">Q·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sponjamiento</m:t>
                        </m:r>
                      </m:den>
                    </m:f>
                    <m:r>
                      <m:t xml:space="preserve">·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Text Box 6"/>
          <p:cNvSpPr/>
          <p:nvPr/>
        </p:nvSpPr>
        <p:spPr>
          <a:xfrm>
            <a:off x="576360" y="4572000"/>
            <a:ext cx="907236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: capacidad del bal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llenado (tabla según mater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eficiencia según ángulo de giro y al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: tiempo de ciclo (s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: eficiencia en minutos de cada hora ( tipicamente 50 min/hor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9800" y="2099880"/>
            <a:ext cx="869328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ACTOR DE LLENADO (%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7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(SE APLICAN SOBRE CAPACIDAD BALDE COLMAD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36720" y="3419640"/>
          <a:ext cx="8424720" cy="33829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TOR (%)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arenos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a y/o aren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mal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 – 5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bien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 – 7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dur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-9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Excavación sobre la superficie sobre la cual trabaja la máquin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Adecuada para excavación de grande volúmene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Montada sobre oruga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Transmisión eléctrica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bles o cilindr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4" descr="Palas_camion"/>
          <p:cNvPicPr/>
          <p:nvPr/>
        </p:nvPicPr>
        <p:blipFill>
          <a:blip r:embed="rId1"/>
          <a:stretch/>
        </p:blipFill>
        <p:spPr>
          <a:xfrm>
            <a:off x="4968720" y="3995640"/>
            <a:ext cx="460548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6" descr="Loading in the open pit, using a Liebherr 996 excavator and Caterpillar 993 haulers; Thiess Contractors provided the initial mine development service.&#13;&#10;"/>
          <p:cNvPicPr/>
          <p:nvPr/>
        </p:nvPicPr>
        <p:blipFill>
          <a:blip r:embed="rId1"/>
          <a:stretch/>
        </p:blipFill>
        <p:spPr>
          <a:xfrm>
            <a:off x="1295280" y="3995640"/>
            <a:ext cx="5238720" cy="2952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4680000" y="2195640"/>
            <a:ext cx="172872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27180"/>
              <a:gd name="adj5" fmla="val 284092"/>
              <a:gd name="adj6" fmla="val -51513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ilindros Hidráulicos por debaj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7993080" y="4716360"/>
            <a:ext cx="129528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81250"/>
              <a:gd name="adj5" fmla="val 233203"/>
              <a:gd name="adj6" fmla="val -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ontrapes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16000" y="2556000"/>
            <a:ext cx="129528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32106"/>
              <a:gd name="adj5" fmla="val 582606"/>
              <a:gd name="adj6" fmla="val 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uchar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4089240" y="1476360"/>
            <a:ext cx="5991480" cy="5867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/>
          <p:cNvSpPr/>
          <p:nvPr/>
        </p:nvSpPr>
        <p:spPr>
          <a:xfrm>
            <a:off x="863640" y="1547640"/>
            <a:ext cx="129528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21078"/>
              <a:gd name="adj5" fmla="val 50171"/>
              <a:gd name="adj6" fmla="val 342277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503280" y="608472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14000"/>
              <a:gd name="adj5" fmla="val -7458"/>
              <a:gd name="adj6" fmla="val 32844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rofundidad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863640" y="363528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54023"/>
              <a:gd name="adj5" fmla="val -52375"/>
              <a:gd name="adj6" fmla="val 41069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descar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50616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pacidad del balde o capacho se mide en forma similar a la retroexcavadora (Norma SAE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Para materiales duros conviene usar el capacho que ejerza la mayor presión posibl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44" descr="P1020489"/>
          <p:cNvPicPr/>
          <p:nvPr/>
        </p:nvPicPr>
        <p:blipFill>
          <a:blip r:embed="rId1"/>
          <a:stretch/>
        </p:blipFill>
        <p:spPr>
          <a:xfrm>
            <a:off x="4824360" y="3708360"/>
            <a:ext cx="4751280" cy="35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45" descr=""/>
          <p:cNvPicPr/>
          <p:nvPr/>
        </p:nvPicPr>
        <p:blipFill>
          <a:blip r:embed="rId2"/>
          <a:stretch/>
        </p:blipFill>
        <p:spPr>
          <a:xfrm>
            <a:off x="503280" y="3714840"/>
            <a:ext cx="417672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Tiempo de Ciclo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Terex Giant Truck and Excavator in Gold Mine.avi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Profundidad óptima de excavación varía entre 30% a 50% de la altura máxima de 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típic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argar el balde: 7 a 9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ar con carga: 4 a 6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Descargar: 2 a 4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o de retorno: 4 a 5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28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979640"/>
            <a:ext cx="9145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Ángulo de barrid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Tipo de materia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Altura de la cara de excava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en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ay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k00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5364000"/>
            <a:ext cx="2521080" cy="1679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4"/>
          <p:cNvSpPr/>
          <p:nvPr/>
        </p:nvSpPr>
        <p:spPr>
          <a:xfrm>
            <a:off x="6335640" y="716436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 rot="5400000">
            <a:off x="4786560" y="561564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13"/>
          <p:cNvSpPr/>
          <p:nvPr/>
        </p:nvSpPr>
        <p:spPr>
          <a:xfrm rot="16200000">
            <a:off x="5076000" y="4896360"/>
            <a:ext cx="2305080" cy="122364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163800 h 1223640"/>
              <a:gd name="textAreaBottom" fmla="*/ 105984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100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Factores de reducción de la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40" descr=""/>
          <p:cNvPicPr/>
          <p:nvPr/>
        </p:nvPicPr>
        <p:blipFill>
          <a:blip r:embed="rId1"/>
          <a:stretch/>
        </p:blipFill>
        <p:spPr>
          <a:xfrm>
            <a:off x="216000" y="2987640"/>
            <a:ext cx="96487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8-04T13:49:10Z</dcterms:modified>
  <cp:revision>32</cp:revision>
  <dc:subject/>
  <dc:title>CI 52A</dc:title>
</cp:coreProperties>
</file>