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2.gif" ContentType="image/gi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BB28-E2A9-4E7F-8FD8-06B91C8E1CE1}" type="slidenum">
              <a:rPr b="0" lang="es-C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Ojo: los rendimientos no consideran acarreo en carret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FF34-F44E-4778-94EF-F70FD1FCC9BA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EB4-AA88-442E-A61C-74D0CD04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43B-E3FA-4A4A-8F4E-09F69758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B98-3A7A-4BC8-A731-E79CEEE7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427-0234-43F6-ADE0-AC98B047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8B2-312C-461F-9F98-06CE0E33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8CC-17FD-4761-B86F-68527FAA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523-D0BF-47F1-92B7-FC45BF36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E94-04A8-4610-8CEC-A8D65F93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5DA-A2B2-4C8B-B8F5-F42DBA6D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43A-957F-48BE-A63A-DF138E95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A6B-C5D2-4E51-A4D7-8BA927DD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331-9BEF-4EF7-B13F-A7B90FD4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B8F4-951A-44D6-A02F-361E32D49712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onj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cavación “a ma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9840" y="3714840"/>
            <a:ext cx="64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pítulo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RTILLO NEUM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C:\DOCUME~1\wwragg\CONFIG~1\Temp\npo00000b.tmp"/>
          <p:cNvPicPr/>
          <p:nvPr/>
        </p:nvPicPr>
        <p:blipFill>
          <a:blip r:embed="rId1"/>
          <a:stretch/>
        </p:blipFill>
        <p:spPr>
          <a:xfrm>
            <a:off x="1908000" y="328464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ND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“DUREZA” DEL SU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ando: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iduro: chuzo o picota y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uro: martillo neumático, explo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PROFUNDIDAD DE EXCAV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aría entre 3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 a menos de 1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arreo con carret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030" descr="C:\DOCUME~1\wwragg\CONFIG~1\Temp\npo00000d.tmp"/>
          <p:cNvPicPr/>
          <p:nvPr/>
        </p:nvPicPr>
        <p:blipFill>
          <a:blip r:embed="rId1"/>
          <a:stretch/>
        </p:blipFill>
        <p:spPr>
          <a:xfrm>
            <a:off x="3780000" y="2997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Granular: Sand, Gr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: Bien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: Mal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: con presencia de fino no-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: con presencia de finos 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C:\DOCUME~1\wwragg\CONFIG~1\Temp\npo00000f.tmp"/>
          <p:cNvPicPr/>
          <p:nvPr/>
        </p:nvPicPr>
        <p:blipFill>
          <a:blip r:embed="rId1"/>
          <a:stretch/>
        </p:blipFill>
        <p:spPr>
          <a:xfrm>
            <a:off x="5105520" y="167652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DOCUME~1\wwragg\CONFIG~1\Temp\npo000011.tmp"/>
          <p:cNvPicPr/>
          <p:nvPr/>
        </p:nvPicPr>
        <p:blipFill>
          <a:blip r:embed="rId2"/>
          <a:stretch/>
        </p:blipFill>
        <p:spPr>
          <a:xfrm>
            <a:off x="7086600" y="16765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Fino: Silt (M), Clay, 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: baj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: alt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W, GP, CL, SM,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C:\DOCUME~1\wwragg\CONFIG~1\Temp\npo000013.tmp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16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~1\wwragg\CONFIG~1\Temp\npo000015.tmp"/>
          <p:cNvPicPr/>
          <p:nvPr/>
        </p:nvPicPr>
        <p:blipFill>
          <a:blip r:embed="rId2"/>
          <a:stretch/>
        </p:blipFill>
        <p:spPr>
          <a:xfrm>
            <a:off x="5410080" y="380988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692360" y="314172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5"/>
          <p:cNvSpPr/>
          <p:nvPr/>
        </p:nvSpPr>
        <p:spPr>
          <a:xfrm>
            <a:off x="197964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26692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7"/>
          <p:cNvSpPr/>
          <p:nvPr/>
        </p:nvSpPr>
        <p:spPr>
          <a:xfrm>
            <a:off x="1692360" y="343044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197964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26692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69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197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22669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826920" y="31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161928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619280" y="40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9"/>
          <p:cNvSpPr/>
          <p:nvPr/>
        </p:nvSpPr>
        <p:spPr>
          <a:xfrm flipV="1">
            <a:off x="255600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2556000" y="314172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042920" y="4076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“En banco” o Geométr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31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406728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442764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4211640" y="1917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392436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428292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464328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449892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85928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414036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608472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372360" y="299880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65964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08472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372360" y="33591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665964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60847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637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665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01200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6012000" y="40068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52"/>
          <p:cNvSpPr/>
          <p:nvPr/>
        </p:nvSpPr>
        <p:spPr>
          <a:xfrm flipV="1">
            <a:off x="694836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3276720" y="3284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Esponjado o Suel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5580000" y="422280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Compac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7" descr="j0336323"/>
          <p:cNvPicPr/>
          <p:nvPr/>
        </p:nvPicPr>
        <p:blipFill>
          <a:blip r:embed="rId1"/>
          <a:stretch/>
        </p:blipFill>
        <p:spPr>
          <a:xfrm>
            <a:off x="900000" y="4797360"/>
            <a:ext cx="2159280" cy="14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j0336317"/>
          <p:cNvPicPr/>
          <p:nvPr/>
        </p:nvPicPr>
        <p:blipFill>
          <a:blip r:embed="rId2"/>
          <a:stretch/>
        </p:blipFill>
        <p:spPr>
          <a:xfrm>
            <a:off x="3348000" y="47973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9" descr="j0336930"/>
          <p:cNvPicPr/>
          <p:nvPr/>
        </p:nvPicPr>
        <p:blipFill>
          <a:blip r:embed="rId3"/>
          <a:stretch/>
        </p:blipFill>
        <p:spPr>
          <a:xfrm>
            <a:off x="6002280" y="4862520"/>
            <a:ext cx="21700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3" descr="C:\DOCUME~1\wwragg\CONFIG~1\Temp\npo000005.tmp"/>
          <p:cNvPicPr/>
          <p:nvPr/>
        </p:nvPicPr>
        <p:blipFill>
          <a:blip r:embed="rId1"/>
          <a:stretch/>
        </p:blipFill>
        <p:spPr>
          <a:xfrm>
            <a:off x="611280" y="1628640"/>
            <a:ext cx="29019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4"/>
          <p:cNvSpPr/>
          <p:nvPr/>
        </p:nvSpPr>
        <p:spPr>
          <a:xfrm>
            <a:off x="4140360" y="1700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INFLUENCIA DE LA HUMED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3851280" y="2852280"/>
            <a:ext cx="3889440" cy="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1557360"/>
          <a:ext cx="7848720" cy="4646520"/>
        </p:xfrm>
        <a:graphic>
          <a:graphicData uri="http://schemas.openxmlformats.org/drawingml/2006/table">
            <a:tbl>
              <a:tblPr/>
              <a:tblGrid>
                <a:gridCol w="4713120"/>
                <a:gridCol w="3135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ELTO/BAN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EN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CILL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 ARCILLOS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RBÓN BITUMINO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Y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IEDRA CAL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OCA DINAMI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65"/>
          <p:cNvSpPr/>
          <p:nvPr/>
        </p:nvSpPr>
        <p:spPr>
          <a:xfrm>
            <a:off x="1547640" y="6308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MOLICIONES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971640" y="2852640"/>
                <a:ext cx="68040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acta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elto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ava una zanja de 1m de ancho por 2m de profundidad en un terreno arcill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“en banco” por ml de zanja =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esponjado por ml de zanja = 2x1,39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2,7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se quiere rellenar con el material de la excavación se requieren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/0.8 = 2,5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o tanto “sobran” 2,78-2,5 = 0,2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por cada ml de z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=h/6 (S1+S2+4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27640" y="573408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4427640" y="4652640"/>
            <a:ext cx="3600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427640" y="5734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8028000" y="4653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754200" y="407664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755640" y="3499920"/>
            <a:ext cx="36003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54200" y="4076640"/>
            <a:ext cx="1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354560" y="35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35600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4356000" y="3500280"/>
            <a:ext cx="3672000" cy="11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75564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755640" y="4581360"/>
            <a:ext cx="3672000" cy="165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911240" y="2954160"/>
            <a:ext cx="1076400" cy="33048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4427640" y="2637000"/>
            <a:ext cx="1076400" cy="33012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411280" y="4076640"/>
            <a:ext cx="316872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2955960" y="1981080"/>
                <a:ext cx="141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2895480" y="3886200"/>
                <a:ext cx="2176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5848200" y="1770120"/>
                <a:ext cx="21988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26"/>
          <p:cNvSpPr/>
          <p:nvPr/>
        </p:nvSpPr>
        <p:spPr>
          <a:xfrm>
            <a:off x="6084720" y="38606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 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8"/>
          <p:cNvSpPr/>
          <p:nvPr/>
        </p:nvSpPr>
        <p:spPr>
          <a:xfrm>
            <a:off x="2286000" y="1905120"/>
            <a:ext cx="533520" cy="2743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371600" y="29718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U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C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:\DOCUME~1\wwragg\CONFIG~1\Temp\npo000007.tmp"/>
          <p:cNvPicPr/>
          <p:nvPr/>
        </p:nvPicPr>
        <p:blipFill>
          <a:blip r:embed="rId1"/>
          <a:stretch/>
        </p:blipFill>
        <p:spPr>
          <a:xfrm>
            <a:off x="45007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DOCUME~1\wwragg\CONFIG~1\Temp\npo000009.tmp"/>
          <p:cNvPicPr/>
          <p:nvPr/>
        </p:nvPicPr>
        <p:blipFill>
          <a:blip r:embed="rId2"/>
          <a:stretch/>
        </p:blipFill>
        <p:spPr>
          <a:xfrm>
            <a:off x="6740640" y="2678040"/>
            <a:ext cx="1989000" cy="298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j0334866"/>
          <p:cNvPicPr/>
          <p:nvPr/>
        </p:nvPicPr>
        <p:blipFill>
          <a:blip r:embed="rId3"/>
          <a:stretch/>
        </p:blipFill>
        <p:spPr>
          <a:xfrm>
            <a:off x="3203640" y="4005360"/>
            <a:ext cx="2068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7-30T13:44:01Z</dcterms:modified>
  <cp:revision>34</cp:revision>
  <dc:subject/>
  <dc:title>CI 52A Métodos Constructivos</dc:title>
</cp:coreProperties>
</file>