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E1E1-01E6-46F0-8B02-0F7DE0CD33F0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B13B-98E7-432B-97B4-46F62EFB6D52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2D3-9F64-4A36-AED3-08BCD041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C8C-3860-4FBA-9691-1374D7DB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BBF-E38E-4AA4-8289-B7CFDC55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B06-3435-4679-A73F-0066D424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61E-798C-47F8-840B-B307B800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666-C2B3-4C5E-AE77-06D393E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C06-484B-4644-A255-74179896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91B-C43C-4D79-B58A-46180468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932-D2C6-41F6-A9C2-6B113247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CCD-266A-41B6-9C28-F2AC935E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3C7-4D50-48E3-B060-E6AA26CA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787-1820-4890-B451-6B193B3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DB6D-DB44-4F11-82A9-5CAD07E5601B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7-30T13:44:01Z</dcterms:modified>
  <cp:revision>34</cp:revision>
  <dc:subject/>
  <dc:title>CI 52A Métodos Constructivos</dc:title>
</cp:coreProperties>
</file>