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B0C-826C-4BDC-9FFC-79D0065F8479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009D-0E46-4619-97D5-714F73BD560F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4DD-1D17-48AF-8F80-C8BF60C3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C63-4E32-42BE-A9A4-81F0F2B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A2F-D4F0-41EF-801C-2989AD23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E86-BB22-4428-92EE-C73B862B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CB1-E917-416B-A25A-AF48C3B3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577-7DDB-44E8-AEFF-831B849D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562-D599-461A-AA7F-E3DDCD9E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281-9CA6-4BCA-8281-122E3E8B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B59-DF71-43AE-A68B-22C4CB7A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3C5-3460-46E4-9D89-433E2F4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B75-7A1C-45CA-9D7E-CECE2B89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A10-707A-4D1B-A0FE-53FE7EE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EBE-ECDC-4762-9095-FA9094DA3FA1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7-30T13:44:01Z</dcterms:modified>
  <cp:revision>34</cp:revision>
  <dc:subject/>
  <dc:title>CI 52A Métodos Constructivos</dc:title>
</cp:coreProperties>
</file>