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5FF1-6F20-4351-A42A-0CADAD55079E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5C76-AEDF-4A93-A13F-76B96FFC8308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EDC-BDA3-4C5A-81AC-AD955558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225-226B-4408-8F82-8252A314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9C3-7BA5-4D50-B002-40186D1C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729-7CFA-4DDA-A789-4550C143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1C9-6769-47B9-9198-2CE8D506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9BD-7651-4F21-8977-8AE97337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9FA-4190-4476-8EDA-E4F77DE2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B55-2662-4296-9604-203336B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E7C-05D4-45F4-BB90-4DBF7314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359-E7A0-474F-A0F7-DB9D8C91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C5A-0287-48B0-800D-C71E6D86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E70-18B6-4E9A-B92C-1439F74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1F98-9CDA-4247-8732-2D2C19E4591A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7-30T13:44:01Z</dcterms:modified>
  <cp:revision>34</cp:revision>
  <dc:subject/>
  <dc:title>CI 52A Métodos Constructivos</dc:title>
</cp:coreProperties>
</file>