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217F-B34C-4EF6-BA46-FA54EA4934F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D24D-9855-4CB1-BEE2-6B9FB1DE9AF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3260-457A-482D-AFF8-D81822BFED2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BE00-4B13-4269-8E00-11D37D51BEF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71F8-C140-46E2-8A28-AB579037C8F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1152-5DCA-46AD-9991-E9C91083C60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910A-2116-4125-9E46-6F97CAA3977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998D-A9BD-4BBF-AD5B-3E3D8475FEB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39ED-56EF-404A-B9A2-E49274ECF1B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aiichi Ohno – Shigeo Shingo – Kiichiro Toyoda después de la II WW “debemos alcanza a la ind. Norteam. En 3 año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Lauri Kosk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Glenn Ball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Gregory Ho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ir John Egan “Rethinking Constructi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DC1B-B6BC-4945-8120-FA7ACEDFC28B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FC08-C742-4E34-BF3B-9C28FD03401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2E51-5DEB-4713-B958-7D0936A1488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A1AB-BE45-46C7-9F7F-FBBF0CF3EC6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C934-B931-4F38-BC45-0D18FF580FD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8652-8754-48E9-AA05-36044230D08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0BF3-78AC-4D51-B9E1-EFC6625A4FF3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4654-6552-4470-9E19-5B8F662AF0A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E498-95A8-448B-B9DB-C53D96B8B8D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A2CE-D1F8-4E0A-8211-9B345000C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B05C-D04D-4BED-B887-79A2D2B1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5CD4-65A9-4633-A1F0-49A7A63D6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14C8-6F24-447C-AE49-068493059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DD48-D0DB-4B46-9781-B7F1AD00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8421-1109-46D6-8526-107657CC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0A8F-2F7B-4BBF-8427-2A1FB203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DDC3-6989-4A74-8E08-F8BF9793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4351-F633-42D2-BF06-C9816C16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49B3-DF4E-4E9F-954E-F6CE5C74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F219-E88C-4707-9C8D-0F00C7B8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457A-D262-4F01-8CD5-321EB997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A930-92CA-4075-8BB2-37F4DB144F1A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ESENT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3 METODOLOGÍ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3.1 SOSTENIMIEN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3.2 OBRAS DE HORMIGÓN. EN MASA Y ARM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3.2 MONTAJE DE ESTRUCTURAS DE ACE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3.3 CALDERERÍA (PIP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OTRAS ACTIVIDAD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RABAJO EN GRUP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VISIT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HARLAS POR EXPOSITORES INVITADOS: Construcción de túneles, costo de operación de maquinarias, seguridad y salud ocupacional, otras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EVALUAC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2 Contro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1 Exa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1 Trabajo en grupo (N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NF = 75% NC  + 25% 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ximición con (C1+C2)/2 ≥ 5,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Image14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442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e5ffff"/>
                </a:solidFill>
                <a:latin typeface="Tahoma"/>
              </a:rPr>
              <a:t>¿PROYECTO DE CONSTRUCCIÓN?</a:t>
            </a:r>
            <a:br>
              <a:rPr sz="4000"/>
            </a:br>
            <a:r>
              <a:rPr b="0" lang="es-CL" sz="4000" spc="-1" strike="noStrike">
                <a:solidFill>
                  <a:srgbClr val="e5ffff"/>
                </a:solidFill>
                <a:latin typeface="Tahoma"/>
              </a:rPr>
              <a:t>¿INGENIERÍA DE CONSTRUCCIÓN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Ingeniería de Construc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571400"/>
            <a:ext cx="82296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ingeniería de construcción involucra la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planificación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 y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administración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 la construcción de obras de infraestructura y edifici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construcción de dichos proyectos requiere conocimientos de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ingeniería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principios de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administración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procedimientos de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negocios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economía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y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comportamiento humano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os ingenieros en construcción se enfrentan al diseño de estructuras temporales, control y aseguramiento de la calidad, construcción, elaboración de presupuestos, programación, compra de materiales, selección de equipos, control de costos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785880" y="1257480"/>
            <a:ext cx="7572240" cy="55101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72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El desafío es mayor 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4286160" y="2214720"/>
            <a:ext cx="4714920" cy="1304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4286160" y="3929040"/>
            <a:ext cx="4695840" cy="1295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3"/>
          <a:stretch/>
        </p:blipFill>
        <p:spPr>
          <a:xfrm>
            <a:off x="4286160" y="5500800"/>
            <a:ext cx="4705560" cy="1171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4"/>
          <a:stretch/>
        </p:blipFill>
        <p:spPr>
          <a:xfrm>
            <a:off x="142920" y="142920"/>
            <a:ext cx="3870360" cy="2786040"/>
          </a:xfrm>
          <a:prstGeom prst="rect">
            <a:avLst/>
          </a:prstGeom>
          <a:ln w="0">
            <a:noFill/>
          </a:ln>
        </p:spPr>
      </p:pic>
      <p:pic>
        <p:nvPicPr>
          <p:cNvPr id="82" name="Object 4" descr=""/>
          <p:cNvPicPr/>
          <p:nvPr/>
        </p:nvPicPr>
        <p:blipFill>
          <a:blip r:embed="rId5"/>
          <a:stretch/>
        </p:blipFill>
        <p:spPr>
          <a:xfrm>
            <a:off x="-357120" y="3786120"/>
            <a:ext cx="485784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http://www.investinfrance.org/NorthAmerica/Newsroom/Newsletter/Images/toyota1.jpg"/>
          <p:cNvPicPr/>
          <p:nvPr/>
        </p:nvPicPr>
        <p:blipFill>
          <a:blip r:embed="rId1"/>
          <a:srcRect l="0" t="31707" r="0" b="0"/>
          <a:stretch/>
        </p:blipFill>
        <p:spPr>
          <a:xfrm>
            <a:off x="3786120" y="1000080"/>
            <a:ext cx="4826160" cy="2357640"/>
          </a:xfrm>
          <a:prstGeom prst="rect">
            <a:avLst/>
          </a:prstGeom>
          <a:ln w="0">
            <a:noFill/>
          </a:ln>
        </p:spPr>
      </p:pic>
      <p:sp>
        <p:nvSpPr>
          <p:cNvPr id="84" name="6 Rectángulo"/>
          <p:cNvSpPr/>
          <p:nvPr/>
        </p:nvSpPr>
        <p:spPr>
          <a:xfrm>
            <a:off x="0" y="5884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ctr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Al fin se reconoce que la construcción no es una producción industrial, ni artesanal: es </a:t>
            </a:r>
            <a:r>
              <a:rPr b="1" lang="es-CL" sz="2400" spc="-1" strike="noStrike">
                <a:solidFill>
                  <a:srgbClr val="ff0000"/>
                </a:solidFill>
                <a:latin typeface="Tahoma"/>
              </a:rPr>
              <a:t>otro tipo de producción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10" descr="http://www.leanconstruction.dk/_root/media/lauri.jpg"/>
          <p:cNvPicPr/>
          <p:nvPr/>
        </p:nvPicPr>
        <p:blipFill>
          <a:blip r:embed="rId2"/>
          <a:stretch/>
        </p:blipFill>
        <p:spPr>
          <a:xfrm>
            <a:off x="115920" y="1566720"/>
            <a:ext cx="1554120" cy="2803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http://www.industrie-technologies.com/GlobalVisuels/Local/SL_Produit/OHNO.jpg"/>
          <p:cNvPicPr/>
          <p:nvPr/>
        </p:nvPicPr>
        <p:blipFill>
          <a:blip r:embed="rId3"/>
          <a:stretch/>
        </p:blipFill>
        <p:spPr>
          <a:xfrm>
            <a:off x="5738760" y="142920"/>
            <a:ext cx="1785960" cy="1214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://www.monografias.com/trabajos30/control-estadistico-calidad/Image1411.gif"/>
          <p:cNvPicPr/>
          <p:nvPr/>
        </p:nvPicPr>
        <p:blipFill>
          <a:blip r:embed="rId4"/>
          <a:stretch/>
        </p:blipFill>
        <p:spPr>
          <a:xfrm>
            <a:off x="7643880" y="142920"/>
            <a:ext cx="857160" cy="1200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http://www.msu.edu/~tariq/editorial_files/image005.jpg"/>
          <p:cNvPicPr/>
          <p:nvPr/>
        </p:nvPicPr>
        <p:blipFill>
          <a:blip r:embed="rId5"/>
          <a:stretch/>
        </p:blipFill>
        <p:spPr>
          <a:xfrm>
            <a:off x="1547640" y="1352520"/>
            <a:ext cx="1317960" cy="3352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Glenn Ballard"/>
          <p:cNvPicPr/>
          <p:nvPr/>
        </p:nvPicPr>
        <p:blipFill>
          <a:blip r:embed="rId6"/>
          <a:stretch/>
        </p:blipFill>
        <p:spPr>
          <a:xfrm>
            <a:off x="2475000" y="2066760"/>
            <a:ext cx="1311120" cy="3095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http://www.asite.com/images/sir_john_egan_rcu.jpg"/>
          <p:cNvPicPr/>
          <p:nvPr/>
        </p:nvPicPr>
        <p:blipFill>
          <a:blip r:embed="rId7"/>
          <a:stretch/>
        </p:blipFill>
        <p:spPr>
          <a:xfrm>
            <a:off x="817560" y="3352680"/>
            <a:ext cx="3760920" cy="2505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http://rds.yahoo.com/_ylt=A9iby56ZmFRGULoAiBOjzbkF/SIG=12ph01kd7/EXP=1180035609/**http%3A/news.bbc.co.uk/olmedia/1035000/images/_1036829_prodline300.jpg"/>
          <p:cNvPicPr/>
          <p:nvPr/>
        </p:nvPicPr>
        <p:blipFill>
          <a:blip r:embed="rId8"/>
          <a:stretch/>
        </p:blipFill>
        <p:spPr>
          <a:xfrm>
            <a:off x="5000760" y="2928960"/>
            <a:ext cx="3929040" cy="23572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Estamos frente a una revolución.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Datos profeso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Nombre: William Wragg Lar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rofesión: Ingeniero Civil U. de Chi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Trabajo: Independiente. Asesor. Integración de Sistem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orreo electrónico: ci52a@williamwragg.c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OGRAMA DEL CUR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APÍTUL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ahoma"/>
              </a:rPr>
              <a:t>Capítulo 1: Trabajos preliminar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ahoma"/>
              </a:rPr>
              <a:t>Capítulo 2: Maquinaria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ahoma"/>
              </a:rPr>
              <a:t>Capítulo 3: Metodología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1.1 GESTACIÓN DE OBR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1 ORIGEN DEL PROYEC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2 FINANCIA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3 ANTEPROYEC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4 INGENIERÍA BÁS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5 INGENIERÍA DE DETAL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6 INGENIERÍA DE CONSTRUC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1.2 TRABAJOS PRELIMINA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1 GEOLOG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2 TOPOGRAF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3 CLI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4 ENERG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5 TRANSPOR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6 MANO DE OB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7 CONDICIONES ECONÓM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8 SERVICIOS SO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9 RELACIONES PÚBL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1.3 PLANIFICACIÓN Y CONTRO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1 INSTALACIÓN DE FAENAS Y OBRAS ANEX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2 PLANO DE DISTRIBU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3 PROGRAMA DE TRABAJ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4 CONTROL DE AVANCE, COSTO, RENDIMI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1.4 PRESUPUES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4.1 COSTOS DIREC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4.2 COSTOS INDIREC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4.3 COSTO DE LA MANO DE OB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4.4 ANÁLISIS DE PRECIOS UNITAR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2 MAQUINARI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2.1 GENERALIDAD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2.2 ESPONJAMIENT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2.3 MAQUINARIAS DE MOVIMIENTO DE TIERR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2.4 PRODUCCIÓN DE ÁRIDO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2.5 EQUIPOS DE ELEVACIÓ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2.6 MAQUINARIAS ESPECIAL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7T20:17:27Z</dcterms:created>
  <dc:creator>William Wragg L.</dc:creator>
  <dc:description/>
  <dc:language>en-US</dc:language>
  <cp:lastModifiedBy>William Wragg</cp:lastModifiedBy>
  <dcterms:modified xsi:type="dcterms:W3CDTF">2009-07-28T12:26:53Z</dcterms:modified>
  <cp:revision>27</cp:revision>
  <dc:subject/>
  <dc:title>CI 52A Métodos Constructivos</dc:title>
</cp:coreProperties>
</file>