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B8FD-DA3F-4899-B6AF-DD77189B26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047-E791-40B5-B08A-68B168CD2CA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052-92C1-488C-8175-2DF906F063D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E93F-C4F5-421B-83EF-EF383ECA088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EC8-7503-4432-ADC8-1A62D8DE76E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C9A-2843-413D-9A4F-F1629855E7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8B0-35AD-41DF-B7B3-40AEDB50A78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7F3-C81C-4C32-B315-AB3CE55B7DC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5E5-AE0A-4B9A-8989-D520A8366F7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978C-8267-4608-8A99-2D9801EA25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A6B5-6FAB-499B-A9F2-53B713246A3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A828-3244-4824-98E3-92D83E592F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E8C-66E5-4A48-9C9B-9B48AF094A2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465C-AAEB-44D2-B79D-B1AA6D0A120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746-53C2-4B74-96E3-7F260976E9E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B87A-5B2E-4066-A697-7436A2BEBF7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6C0-E427-4834-B0E0-F32B89F2FBD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CFDD-1589-4108-8201-3094DAD534B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2E2-A22D-4E2D-97C0-4AC0AB9F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F23-EDAF-4760-A5A1-163C7386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922-BC27-4F84-9396-4BB47348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989-225F-44F1-BFE9-AA84560C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F69-BD5E-4207-A668-3DFD69A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082-1823-4ACF-B05A-5EEBC772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205-8EDD-4BAF-876F-1D64976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39B-698D-4E02-AF5A-BA4BB7C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A34-F573-419B-AB89-A5BE5ECD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F52-4629-444B-8090-33B461C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D7C-210B-4A85-9270-2A6AD15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0C8-F098-41E4-8D8A-825AF1F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D66-500F-4D61-B0B6-551ACF4C123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mayor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15920" y="1566720"/>
            <a:ext cx="1554120" cy="280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47640" y="1352520"/>
            <a:ext cx="1317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75000" y="2066760"/>
            <a:ext cx="13111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17560" y="3352680"/>
            <a:ext cx="3760920" cy="250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Independiente. Asesor. Integración de Sist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ci52a@williamwragg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 Wragg</cp:lastModifiedBy>
  <dcterms:modified xsi:type="dcterms:W3CDTF">2009-07-28T12:26:53Z</dcterms:modified>
  <cp:revision>27</cp:revision>
  <dc:subject/>
  <dc:title>CI 52A Métodos Constructivos</dc:title>
</cp:coreProperties>
</file>