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EFC7-F518-4560-9B9F-B3CC426ABA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237E-B7A2-4D7D-BA20-73E7B8BC16B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B80B-CCAE-497C-AA87-152297DA1CE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B2F7-D888-4337-B448-BB7ABC7070D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7772-FE96-404D-A47F-9086BA250DF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BEB0-8C73-4409-853C-0F428A46356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C34D-3B89-4C11-8A6E-60C61F2B208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D102-0AA3-40DD-8A9F-05D17721414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CD0D-1A6C-485F-A38C-C55D2F86776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aiichi Ohno – Shigeo Shingo – Kiichiro Toyoda después de la II WW “debemos alcanza a la ind. Norteam. En 3 año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auri Kosk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lenn Ball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regory H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r John Egan “Rethinking Constru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3C3E-CD59-4AD3-BE26-C7872B3DABC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0648-D53F-460A-AAC5-6CD841A5A9D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DCBD-AAC2-4CB9-8D46-24C6118F553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052C-88FC-427A-8818-F5E109B5423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4B29-65A2-4ADF-A6DD-E8753857D9C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D96F-13BB-438D-B527-9544FCB44E2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1A64-CEA4-44B5-9AC2-73D8A8F91D3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B3FC-0427-4C45-A190-7EC51498941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EF05-714E-4631-B240-757E11B2C24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7D5-57F2-48A4-A30E-1665C03A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E2D-75CE-45C0-BA73-D3DEFF48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1AF-7795-44A1-B30A-B4423B62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49F-43E3-48CA-B2FC-3DA01377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700-39A2-43EF-8F5F-03319E46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200-3A23-4B5C-A436-2A38BE8E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9B6-10CD-4440-8D82-E2EACB62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2C0-DABD-4F62-AA28-DF1E61EC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AED-0B12-4C06-85D2-D4E26A8A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5B4-54A4-47C8-82A4-F94DABBF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07F-3027-4839-8B97-05DEC0E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30B-7559-4F18-8BCF-58DB0CC6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4208-7132-4CE1-B525-E416C6190446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METODOLOGÍ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SOSTEN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OBRAS DE HORMIGÓN. EN MASA Y ARM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MONTAJE DE ESTRUCTURAS DE AC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CALDERERÍA (PIP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EXPOSITORES INVITADOS: Construcción de túneles, costo de operación de maquinarias, seguridad y salud ocupacional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VALU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Exa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Trabajo en grupo (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F = 75% NC  + 25% 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ximición con (C1+C2)/2 ≥ 5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Ingeniería de Construc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71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geniería de construcción involucra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planific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la construcción de obras de infraestructura y edif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construcción de dichos proyectos requiere conoc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genier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incipi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oced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negocio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econom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comportamiento humano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ingenieros en construcción se enfrentan al diseño de estructuras temporales, control y aseguramiento de la calidad, construcción, elaboración de presupuestos, programación, compra de materiales, selección de equipos, control de cost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85880" y="1257480"/>
            <a:ext cx="7572240" cy="5510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l desafío es mayor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6160" y="2214720"/>
            <a:ext cx="4714920" cy="130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469584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286160" y="5500800"/>
            <a:ext cx="4705560" cy="11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387036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Object 4" descr=""/>
          <p:cNvPicPr/>
          <p:nvPr/>
        </p:nvPicPr>
        <p:blipFill>
          <a:blip r:embed="rId5"/>
          <a:stretch/>
        </p:blipFill>
        <p:spPr>
          <a:xfrm>
            <a:off x="-357120" y="3786120"/>
            <a:ext cx="4857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www.investinfrance.org/NorthAmerica/Newsroom/Newsletter/Images/toyota1.jpg"/>
          <p:cNvPicPr/>
          <p:nvPr/>
        </p:nvPicPr>
        <p:blipFill>
          <a:blip r:embed="rId1"/>
          <a:srcRect l="0" t="31707" r="0" b="0"/>
          <a:stretch/>
        </p:blipFill>
        <p:spPr>
          <a:xfrm>
            <a:off x="3786120" y="1000080"/>
            <a:ext cx="4826160" cy="2357640"/>
          </a:xfrm>
          <a:prstGeom prst="rect">
            <a:avLst/>
          </a:prstGeom>
          <a:ln w="0">
            <a:noFill/>
          </a:ln>
        </p:spPr>
      </p:pic>
      <p:sp>
        <p:nvSpPr>
          <p:cNvPr id="84" name="6 Rectángulo"/>
          <p:cNvSpPr/>
          <p:nvPr/>
        </p:nvSpPr>
        <p:spPr>
          <a:xfrm>
            <a:off x="0" y="588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 fin se reconoce que la construcción no es una producción industrial, ni artesanal: es 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otro tipo de produc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0" descr="http://www.leanconstruction.dk/_root/media/lauri.jpg"/>
          <p:cNvPicPr/>
          <p:nvPr/>
        </p:nvPicPr>
        <p:blipFill>
          <a:blip r:embed="rId2"/>
          <a:stretch/>
        </p:blipFill>
        <p:spPr>
          <a:xfrm>
            <a:off x="115920" y="1566720"/>
            <a:ext cx="1554120" cy="280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industrie-technologies.com/GlobalVisuels/Local/SL_Produit/OHNO.jpg"/>
          <p:cNvPicPr/>
          <p:nvPr/>
        </p:nvPicPr>
        <p:blipFill>
          <a:blip r:embed="rId3"/>
          <a:stretch/>
        </p:blipFill>
        <p:spPr>
          <a:xfrm>
            <a:off x="5738760" y="14292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monografias.com/trabajos30/control-estadistico-calidad/Image1411.gif"/>
          <p:cNvPicPr/>
          <p:nvPr/>
        </p:nvPicPr>
        <p:blipFill>
          <a:blip r:embed="rId4"/>
          <a:stretch/>
        </p:blipFill>
        <p:spPr>
          <a:xfrm>
            <a:off x="7643880" y="14292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msu.edu/~tariq/editorial_files/image005.jpg"/>
          <p:cNvPicPr/>
          <p:nvPr/>
        </p:nvPicPr>
        <p:blipFill>
          <a:blip r:embed="rId5"/>
          <a:stretch/>
        </p:blipFill>
        <p:spPr>
          <a:xfrm>
            <a:off x="1547640" y="1352520"/>
            <a:ext cx="131796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Glenn Ballard"/>
          <p:cNvPicPr/>
          <p:nvPr/>
        </p:nvPicPr>
        <p:blipFill>
          <a:blip r:embed="rId6"/>
          <a:stretch/>
        </p:blipFill>
        <p:spPr>
          <a:xfrm>
            <a:off x="2475000" y="2066760"/>
            <a:ext cx="1311120" cy="30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www.asite.com/images/sir_john_egan_rcu.jpg"/>
          <p:cNvPicPr/>
          <p:nvPr/>
        </p:nvPicPr>
        <p:blipFill>
          <a:blip r:embed="rId7"/>
          <a:stretch/>
        </p:blipFill>
        <p:spPr>
          <a:xfrm>
            <a:off x="817560" y="3352680"/>
            <a:ext cx="3760920" cy="2505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rds.yahoo.com/_ylt=A9iby56ZmFRGULoAiBOjzbkF/SIG=12ph01kd7/EXP=1180035609/**http%3A/news.bbc.co.uk/olmedia/1035000/images/_1036829_prodline300.jpg"/>
          <p:cNvPicPr/>
          <p:nvPr/>
        </p:nvPicPr>
        <p:blipFill>
          <a:blip r:embed="rId8"/>
          <a:stretch/>
        </p:blipFill>
        <p:spPr>
          <a:xfrm>
            <a:off x="5000760" y="292896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stamos frente a una revolución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: Independiente. Asesor. Integración de Sist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ci52a@williamwragg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1: Trabajos prelimina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2: Maquinar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3: Metodologí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4 PRESUPUES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1 COSTOS 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2 COSTOS IN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3 COSTO DE LA MANO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4 ANÁLISIS DE PRECIOS UNI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AQUINARI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MAQUINARIAS DE MOVIMIENTO DE TIERR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4 PRODUCCIÓN DE ÁRI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5 EQUIPOS DE ELEV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6 MAQUINARIAS ESPECI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 Wragg</cp:lastModifiedBy>
  <dcterms:modified xsi:type="dcterms:W3CDTF">2009-07-28T12:26:53Z</dcterms:modified>
  <cp:revision>27</cp:revision>
  <dc:subject/>
  <dc:title>CI 52A Métodos Constructivos</dc:title>
</cp:coreProperties>
</file>