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EB91A-BF73-4547-A7D8-02C784242C5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23C1C-8241-48B4-A339-E494B1A92F8C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5D8AE-99ED-4B13-A677-C9363CB50275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F6A1B-D448-4916-AB52-D5BF51C4C230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4B64E-C611-4785-A1A5-90AA76FB9196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03B27-52EE-4347-9B94-361D603DB7DA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062E9-E54E-4ED7-956D-D0B2D8B92D22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3C8A0-9686-488B-A420-EA93934C259C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0D06B-CA1B-4BD0-8105-ACF0F0FE9B04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Taiichi Ohno – Shigeo Shingo – Kiichiro Toyoda después de la II WW “debemos alcanza a la ind. Norteam. En 3 año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Lauri Kosk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Glenn Ball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Gregory How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Sir John Egan “Rethinking Constructio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538D-B111-4552-A882-78D6CB0D7C4F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EFE19-26E2-48D4-89DB-53FC3ED5B9FD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918E8-8B1A-4412-AC42-8235EC03067C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E929-E0F7-44E5-8BC9-BFC7ADA060C0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E3863-A4F8-41A4-8848-3D7319801F9A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39434-5A75-4AB0-B2E4-57E5BAFDEDE1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06400-CC26-4227-808B-5DF3C9AD240F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2B7E0-FC9D-4F07-A069-5DB21B62B528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9DD0D-D0F2-430E-BCB5-D475D09E446F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81F6-E9DE-44CD-B466-FB57186C9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A08D-5BB2-458D-93AF-A12CE60CF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3DA5-5CE7-40B6-A0AE-3B4555E34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61AB-4890-4A5F-8348-148B36D58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6A1B-1801-422C-A498-264CAFA06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D67D-CEB8-42F1-9CE0-B032C69AB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08F5-1FE6-4A9D-AF75-9FDAD5673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1332-7A37-433D-8371-923599AE6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75C6-AD91-4552-ADEC-73ACC78E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0518-1FCD-419D-A2EB-057C547A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76A4-DFF4-4A40-B05F-801E65D3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C7CE-56C1-4B57-B37D-C1D501B3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6C565-4545-43E7-9054-F9B394A16D2C}" type="slidenum">
              <a:rPr b="0" lang="es-C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I 52A</a:t>
            </a:r>
            <a:br>
              <a:rPr sz="4400"/>
            </a:b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étodos Constructiv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RESENT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3 METODOLOGÍA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3.1 SOSTENIMIEN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3.2 OBRAS DE HORMIGÓN. EN MASA Y ARM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3.2 MONTAJE DE ESTRUCTURAS DE ACE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3.3 CALDERERÍA (PIPIN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OTRAS ACTIVIDAD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RABAJO EN GRUP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VISIT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HARLAS POR EXPOSITORES INVITADOS: Construcción de túneles, costo de operación de maquinarias, seguridad y salud ocupacional, otras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EVALUAC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2 Contro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1 Exam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1 Trabajo en grupo (N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NF = 75% NC  + 25% 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Eximición con (C1+C2)/2 ≥ 5,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Image14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4421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e5ffff"/>
                </a:solidFill>
                <a:latin typeface="Tahoma"/>
              </a:rPr>
              <a:t>¿PROYECTO DE CONSTRUCCIÓN?</a:t>
            </a:r>
            <a:br>
              <a:rPr sz="4000"/>
            </a:br>
            <a:r>
              <a:rPr b="0" lang="es-CL" sz="4000" spc="-1" strike="noStrike">
                <a:solidFill>
                  <a:srgbClr val="e5ffff"/>
                </a:solidFill>
                <a:latin typeface="Tahoma"/>
              </a:rPr>
              <a:t>¿INGENIERÍA DE CONSTRUCCIÓN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Ingeniería de Construc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571400"/>
            <a:ext cx="822960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a ingeniería de construcción involucra la 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Tahoma"/>
              </a:rPr>
              <a:t>planificación</a:t>
            </a:r>
            <a:r>
              <a:rPr b="0" lang="es-CL" sz="2400" spc="-1" strike="noStrike" u="sng">
                <a:solidFill>
                  <a:srgbClr val="ffffff"/>
                </a:solidFill>
                <a:uFillTx/>
                <a:latin typeface="Tahoma"/>
              </a:rPr>
              <a:t> y 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Tahoma"/>
              </a:rPr>
              <a:t>administración</a:t>
            </a:r>
            <a:r>
              <a:rPr b="0" lang="es-CL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de la construcción de obras de infraestructura y edifici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a construcción de dichos proyectos requiere conocimientos de 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Tahoma"/>
              </a:rPr>
              <a:t>ingeniería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, principios de 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Tahoma"/>
              </a:rPr>
              <a:t>administración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, procedimientos de 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Tahoma"/>
              </a:rPr>
              <a:t>negocios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Tahoma"/>
              </a:rPr>
              <a:t>economía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y 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Tahoma"/>
              </a:rPr>
              <a:t>comportamiento humano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os ingenieros en construcción se enfrentan al diseño de estructuras temporales, control y aseguramiento de la calidad, construcción, elaboración de presupuestos, programación, compra de materiales, selección de equipos, control de costos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785880" y="1257480"/>
            <a:ext cx="7572240" cy="551016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72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El desafío es mayor …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4286160" y="2214720"/>
            <a:ext cx="4714920" cy="1304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4286160" y="3929040"/>
            <a:ext cx="4695840" cy="1295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3"/>
          <a:stretch/>
        </p:blipFill>
        <p:spPr>
          <a:xfrm>
            <a:off x="4286160" y="5500800"/>
            <a:ext cx="4705560" cy="1171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"/>
          <p:cNvPicPr/>
          <p:nvPr/>
        </p:nvPicPr>
        <p:blipFill>
          <a:blip r:embed="rId4"/>
          <a:stretch/>
        </p:blipFill>
        <p:spPr>
          <a:xfrm>
            <a:off x="142920" y="142920"/>
            <a:ext cx="3870360" cy="2786040"/>
          </a:xfrm>
          <a:prstGeom prst="rect">
            <a:avLst/>
          </a:prstGeom>
          <a:ln w="0">
            <a:noFill/>
          </a:ln>
        </p:spPr>
      </p:pic>
      <p:pic>
        <p:nvPicPr>
          <p:cNvPr id="82" name="Object 4" descr=""/>
          <p:cNvPicPr/>
          <p:nvPr/>
        </p:nvPicPr>
        <p:blipFill>
          <a:blip r:embed="rId5"/>
          <a:stretch/>
        </p:blipFill>
        <p:spPr>
          <a:xfrm>
            <a:off x="-357120" y="3786120"/>
            <a:ext cx="485784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http://www.investinfrance.org/NorthAmerica/Newsroom/Newsletter/Images/toyota1.jpg"/>
          <p:cNvPicPr/>
          <p:nvPr/>
        </p:nvPicPr>
        <p:blipFill>
          <a:blip r:embed="rId1"/>
          <a:srcRect l="0" t="31707" r="0" b="0"/>
          <a:stretch/>
        </p:blipFill>
        <p:spPr>
          <a:xfrm>
            <a:off x="3786120" y="1000080"/>
            <a:ext cx="4826160" cy="2357640"/>
          </a:xfrm>
          <a:prstGeom prst="rect">
            <a:avLst/>
          </a:prstGeom>
          <a:ln w="0">
            <a:noFill/>
          </a:ln>
        </p:spPr>
      </p:pic>
      <p:sp>
        <p:nvSpPr>
          <p:cNvPr id="84" name="6 Rectángulo"/>
          <p:cNvSpPr/>
          <p:nvPr/>
        </p:nvSpPr>
        <p:spPr>
          <a:xfrm>
            <a:off x="0" y="5884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ctr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Al fin se reconoce que la construcción no es una producción industrial, ni artesanal: es </a:t>
            </a:r>
            <a:r>
              <a:rPr b="1" lang="es-CL" sz="2400" spc="-1" strike="noStrike">
                <a:solidFill>
                  <a:srgbClr val="ff0000"/>
                </a:solidFill>
                <a:latin typeface="Tahoma"/>
              </a:rPr>
              <a:t>otro tipo de producción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10" descr="http://www.leanconstruction.dk/_root/media/lauri.jpg"/>
          <p:cNvPicPr/>
          <p:nvPr/>
        </p:nvPicPr>
        <p:blipFill>
          <a:blip r:embed="rId2"/>
          <a:stretch/>
        </p:blipFill>
        <p:spPr>
          <a:xfrm>
            <a:off x="115920" y="1566720"/>
            <a:ext cx="1554120" cy="2803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http://www.industrie-technologies.com/GlobalVisuels/Local/SL_Produit/OHNO.jpg"/>
          <p:cNvPicPr/>
          <p:nvPr/>
        </p:nvPicPr>
        <p:blipFill>
          <a:blip r:embed="rId3"/>
          <a:stretch/>
        </p:blipFill>
        <p:spPr>
          <a:xfrm>
            <a:off x="5738760" y="142920"/>
            <a:ext cx="1785960" cy="1214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http://www.monografias.com/trabajos30/control-estadistico-calidad/Image1411.gif"/>
          <p:cNvPicPr/>
          <p:nvPr/>
        </p:nvPicPr>
        <p:blipFill>
          <a:blip r:embed="rId4"/>
          <a:stretch/>
        </p:blipFill>
        <p:spPr>
          <a:xfrm>
            <a:off x="7643880" y="142920"/>
            <a:ext cx="857160" cy="1200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http://www.msu.edu/~tariq/editorial_files/image005.jpg"/>
          <p:cNvPicPr/>
          <p:nvPr/>
        </p:nvPicPr>
        <p:blipFill>
          <a:blip r:embed="rId5"/>
          <a:stretch/>
        </p:blipFill>
        <p:spPr>
          <a:xfrm>
            <a:off x="1547640" y="1352520"/>
            <a:ext cx="1317960" cy="3352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Glenn Ballard"/>
          <p:cNvPicPr/>
          <p:nvPr/>
        </p:nvPicPr>
        <p:blipFill>
          <a:blip r:embed="rId6"/>
          <a:stretch/>
        </p:blipFill>
        <p:spPr>
          <a:xfrm>
            <a:off x="2475000" y="2066760"/>
            <a:ext cx="1311120" cy="3095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http://www.asite.com/images/sir_john_egan_rcu.jpg"/>
          <p:cNvPicPr/>
          <p:nvPr/>
        </p:nvPicPr>
        <p:blipFill>
          <a:blip r:embed="rId7"/>
          <a:stretch/>
        </p:blipFill>
        <p:spPr>
          <a:xfrm>
            <a:off x="817560" y="3352680"/>
            <a:ext cx="3760920" cy="2505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http://rds.yahoo.com/_ylt=A9iby56ZmFRGULoAiBOjzbkF/SIG=12ph01kd7/EXP=1180035609/**http%3A/news.bbc.co.uk/olmedia/1035000/images/_1036829_prodline300.jpg"/>
          <p:cNvPicPr/>
          <p:nvPr/>
        </p:nvPicPr>
        <p:blipFill>
          <a:blip r:embed="rId8"/>
          <a:stretch/>
        </p:blipFill>
        <p:spPr>
          <a:xfrm>
            <a:off x="5000760" y="2928960"/>
            <a:ext cx="3929040" cy="23572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4200" y="142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Estamos frente a una revolución.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Datos profeso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Nombre: William Wragg Lar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Profesión: Ingeniero Civil U. de Chi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Trabajo: Independiente. Asesor. Integración de Sistem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Correo electrónico: ci52a@williamwragg.c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I 52A</a:t>
            </a:r>
            <a:br>
              <a:rPr sz="4400"/>
            </a:b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étodos Constructiv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ROGRAMA DEL CUR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APÍTUL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ahoma"/>
              </a:rPr>
              <a:t>Capítulo 1: Trabajos preliminar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ahoma"/>
              </a:rPr>
              <a:t>Capítulo 2: Maquinaria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ahoma"/>
              </a:rPr>
              <a:t>Capítulo 3: Metodología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1.1 GESTACIÓN DE OBRA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1.1.1 ORIGEN DEL PROYEC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1.1.2 FINANCIAMIEN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1.1.3 ANTEPROYEC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1.1.4 INGENIERÍA BÁS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1.1.5 INGENIERÍA DE DETAL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1.1.6 INGENIERÍA DE CONSTRUC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1.2 TRABAJOS PRELIMINAR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1 GEOLOG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2 TOPOGRAF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3 CLI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4 ENERG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5 TRANSPOR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6 MANO DE OB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7 CONDICIONES ECONÓMI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8 SERVICIOS SOCI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9 RELACIONES PÚBLI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1.3 PLANIFICACIÓN Y CONTRO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3.1 INSTALACIÓN DE FAENAS Y OBRAS ANEX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3.2 PLANO DE DISTRIBU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3.3 PROGRAMA DE TRABAJ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3.4 CONTROL DE AVANCE, COSTO, RENDIMIEN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1.4 PRESUPUES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4.1 COSTOS DIREC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4.2 COSTOS INDIREC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4.3 COSTO DE LA MANO DE OB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4.4 ANÁLISIS DE PRECIOS UNITARI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2 MAQUINARIA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2.2.1 GENERALIDAD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2.2.2 ESPONJAMIENT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2.2.3 MAQUINARIAS DE MOVIMIENTO DE TIERR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2.2.4 PRODUCCIÓN DE ÁRIDO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2.2.5 EQUIPOS DE ELEVACIÓ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2.2.6 MAQUINARIAS ESPECIAL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7T20:17:27Z</dcterms:created>
  <dc:creator>William Wragg L.</dc:creator>
  <dc:description/>
  <dc:language>en-US</dc:language>
  <cp:lastModifiedBy>William Wragg</cp:lastModifiedBy>
  <dcterms:modified xsi:type="dcterms:W3CDTF">2009-07-28T12:26:53Z</dcterms:modified>
  <cp:revision>27</cp:revision>
  <dc:subject/>
  <dc:title>CI 52A Métodos Constructivos</dc:title>
</cp:coreProperties>
</file>