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255B-5509-4828-A17B-867195D86DB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BCC5-C80D-434E-94A9-28B8A12BBD0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A8FA-0915-47BE-A663-7AC2282F497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AF8D-694F-4803-82FB-5CD6A22B8CB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186D-5ECE-496D-A626-A076202B645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65C8-B0F0-447E-B1B5-EBC616864BE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1397-A294-497C-BCC3-DCA9D083881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F5BC-EF45-4415-8AB2-12F362A5BCD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A61B-ADAB-4C45-98D6-DA8E69E0B8B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aiichi Ohno – Shigeo Shingo – Kiichiro Toyoda después de la II WW “debemos alcanza a la ind. Norteam. En 3 año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Lauri Kosk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Glenn Ball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Gregory Ho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ir John Egan “Rethinking Constructi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E977-3043-4A12-8544-F8820526006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9C3E-4BE6-49F6-B418-F5EEC2555D9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2825-E2E7-4D4C-8C40-179CE06C810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71B6-34FA-4D84-96AB-3395AC2AACA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F498-8F7A-42BF-AC12-EB171499366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8609-DED9-41EB-AEE7-A827C834231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F5C1-BA7C-4137-B30B-F75486987C33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C9ED-ECAB-45BC-8B9E-E449E3E77E6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A5DB-36D9-4A66-9B2D-19C01741CE2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947C-4C21-4E73-9E79-A75A9B768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510C-722E-4178-AEAF-DCE584C3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A7B4-F4B2-4741-B3EC-6561990E2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DFCE-62A4-48FB-B98B-57748BCB1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5A90-74BE-4F4B-800E-33C2291D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781A-E93E-44E6-9872-2B7769F2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217E-69F2-4B54-953B-E68EC6BB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DDAC-F30B-43FC-A3F7-EDAC009B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F98A-6704-497D-911F-423F19A4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2F21-F874-4AC1-9C7A-73374400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A3F8-B458-4EAD-B5CE-7D7CA33C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099D-3562-4059-877F-AEC1B462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39BF-0945-41D2-9042-1628C2948EFE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ESENT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3 METODOLOGÍ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3.1 SOSTENIMIEN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3.2 OBRAS DE HORMIGÓN. EN MASA Y ARM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3.2 MONTAJE DE ESTRUCTURAS DE ACE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3.3 CALDERERÍA (PIP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OTRAS ACTIVIDAD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RABAJO EN GRUP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VISIT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HARLAS POR EXPOSITORES INVITADOS: Construcción de túneles, costo de operación de maquinarias, seguridad y salud ocupacional, otras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EVALUAC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2 Contro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1 Exa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1 Trabajo en grupo (N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NF = 75% NC  + 25% 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ximición con (C1+C2)/2 ≥ 5,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Image14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442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e5ffff"/>
                </a:solidFill>
                <a:latin typeface="Tahoma"/>
              </a:rPr>
              <a:t>¿PROYECTO DE CONSTRUCCIÓN?</a:t>
            </a:r>
            <a:br>
              <a:rPr sz="4000"/>
            </a:br>
            <a:r>
              <a:rPr b="0" lang="es-CL" sz="4000" spc="-1" strike="noStrike">
                <a:solidFill>
                  <a:srgbClr val="e5ffff"/>
                </a:solidFill>
                <a:latin typeface="Tahoma"/>
              </a:rPr>
              <a:t>¿INGENIERÍA DE CONSTRUCCIÓN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Ingeniería de Construc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571400"/>
            <a:ext cx="82296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ingeniería de construcción involucra la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planificación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 y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administración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 la construcción de obras de infraestructura y edifici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construcción de dichos proyectos requiere conocimientos de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ingeniería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principios de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administración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procedimientos de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negocios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economía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y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comportamiento humano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os ingenieros en construcción se enfrentan al diseño de estructuras temporales, control y aseguramiento de la calidad, construcción, elaboración de presupuestos, programación, compra de materiales, selección de equipos, control de costos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785880" y="1257480"/>
            <a:ext cx="7572240" cy="55101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72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El desafío es mayor 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4286160" y="2214720"/>
            <a:ext cx="4714920" cy="1304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4286160" y="3929040"/>
            <a:ext cx="4695840" cy="1295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3"/>
          <a:stretch/>
        </p:blipFill>
        <p:spPr>
          <a:xfrm>
            <a:off x="4286160" y="5500800"/>
            <a:ext cx="4705560" cy="1171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4"/>
          <a:stretch/>
        </p:blipFill>
        <p:spPr>
          <a:xfrm>
            <a:off x="142920" y="142920"/>
            <a:ext cx="3870360" cy="2786040"/>
          </a:xfrm>
          <a:prstGeom prst="rect">
            <a:avLst/>
          </a:prstGeom>
          <a:ln w="0">
            <a:noFill/>
          </a:ln>
        </p:spPr>
      </p:pic>
      <p:pic>
        <p:nvPicPr>
          <p:cNvPr id="82" name="Object 4" descr=""/>
          <p:cNvPicPr/>
          <p:nvPr/>
        </p:nvPicPr>
        <p:blipFill>
          <a:blip r:embed="rId5"/>
          <a:stretch/>
        </p:blipFill>
        <p:spPr>
          <a:xfrm>
            <a:off x="-357120" y="3786120"/>
            <a:ext cx="485784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http://www.investinfrance.org/NorthAmerica/Newsroom/Newsletter/Images/toyota1.jpg"/>
          <p:cNvPicPr/>
          <p:nvPr/>
        </p:nvPicPr>
        <p:blipFill>
          <a:blip r:embed="rId1"/>
          <a:srcRect l="0" t="31707" r="0" b="0"/>
          <a:stretch/>
        </p:blipFill>
        <p:spPr>
          <a:xfrm>
            <a:off x="3786120" y="1000080"/>
            <a:ext cx="4826160" cy="2357640"/>
          </a:xfrm>
          <a:prstGeom prst="rect">
            <a:avLst/>
          </a:prstGeom>
          <a:ln w="0">
            <a:noFill/>
          </a:ln>
        </p:spPr>
      </p:pic>
      <p:sp>
        <p:nvSpPr>
          <p:cNvPr id="84" name="6 Rectángulo"/>
          <p:cNvSpPr/>
          <p:nvPr/>
        </p:nvSpPr>
        <p:spPr>
          <a:xfrm>
            <a:off x="0" y="5884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ctr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Al fin se reconoce que la construcción no es una producción industrial, ni artesanal: es </a:t>
            </a:r>
            <a:r>
              <a:rPr b="1" lang="es-CL" sz="2400" spc="-1" strike="noStrike">
                <a:solidFill>
                  <a:srgbClr val="ff0000"/>
                </a:solidFill>
                <a:latin typeface="Tahoma"/>
              </a:rPr>
              <a:t>otro tipo de producción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10" descr="http://www.leanconstruction.dk/_root/media/lauri.jpg"/>
          <p:cNvPicPr/>
          <p:nvPr/>
        </p:nvPicPr>
        <p:blipFill>
          <a:blip r:embed="rId2"/>
          <a:stretch/>
        </p:blipFill>
        <p:spPr>
          <a:xfrm>
            <a:off x="115920" y="1566720"/>
            <a:ext cx="1554120" cy="2803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http://www.industrie-technologies.com/GlobalVisuels/Local/SL_Produit/OHNO.jpg"/>
          <p:cNvPicPr/>
          <p:nvPr/>
        </p:nvPicPr>
        <p:blipFill>
          <a:blip r:embed="rId3"/>
          <a:stretch/>
        </p:blipFill>
        <p:spPr>
          <a:xfrm>
            <a:off x="5738760" y="142920"/>
            <a:ext cx="1785960" cy="1214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://www.monografias.com/trabajos30/control-estadistico-calidad/Image1411.gif"/>
          <p:cNvPicPr/>
          <p:nvPr/>
        </p:nvPicPr>
        <p:blipFill>
          <a:blip r:embed="rId4"/>
          <a:stretch/>
        </p:blipFill>
        <p:spPr>
          <a:xfrm>
            <a:off x="7643880" y="142920"/>
            <a:ext cx="857160" cy="1200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http://www.msu.edu/~tariq/editorial_files/image005.jpg"/>
          <p:cNvPicPr/>
          <p:nvPr/>
        </p:nvPicPr>
        <p:blipFill>
          <a:blip r:embed="rId5"/>
          <a:stretch/>
        </p:blipFill>
        <p:spPr>
          <a:xfrm>
            <a:off x="1547640" y="1352520"/>
            <a:ext cx="1317960" cy="3352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Glenn Ballard"/>
          <p:cNvPicPr/>
          <p:nvPr/>
        </p:nvPicPr>
        <p:blipFill>
          <a:blip r:embed="rId6"/>
          <a:stretch/>
        </p:blipFill>
        <p:spPr>
          <a:xfrm>
            <a:off x="2475000" y="2066760"/>
            <a:ext cx="1311120" cy="3095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http://www.asite.com/images/sir_john_egan_rcu.jpg"/>
          <p:cNvPicPr/>
          <p:nvPr/>
        </p:nvPicPr>
        <p:blipFill>
          <a:blip r:embed="rId7"/>
          <a:stretch/>
        </p:blipFill>
        <p:spPr>
          <a:xfrm>
            <a:off x="817560" y="3352680"/>
            <a:ext cx="3760920" cy="2505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http://rds.yahoo.com/_ylt=A9iby56ZmFRGULoAiBOjzbkF/SIG=12ph01kd7/EXP=1180035609/**http%3A/news.bbc.co.uk/olmedia/1035000/images/_1036829_prodline300.jpg"/>
          <p:cNvPicPr/>
          <p:nvPr/>
        </p:nvPicPr>
        <p:blipFill>
          <a:blip r:embed="rId8"/>
          <a:stretch/>
        </p:blipFill>
        <p:spPr>
          <a:xfrm>
            <a:off x="5000760" y="2928960"/>
            <a:ext cx="3929040" cy="23572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Estamos frente a una revolución.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Datos profeso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Nombre: William Wragg Lar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rofesión: Ingeniero Civil U. de Chi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Trabajo: Independiente. Asesor. Integración de Sistem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orreo electrónico: ci52a@williamwragg.c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OGRAMA DEL CUR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APÍTUL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ahoma"/>
              </a:rPr>
              <a:t>Capítulo 1: Trabajos preliminar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ahoma"/>
              </a:rPr>
              <a:t>Capítulo 2: Maquinaria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ahoma"/>
              </a:rPr>
              <a:t>Capítulo 3: Metodología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1.1 GESTACIÓN DE OBR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1 ORIGEN DEL PROYEC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2 FINANCIA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3 ANTEPROYEC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4 INGENIERÍA BÁS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5 INGENIERÍA DE DETAL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6 INGENIERÍA DE CONSTRUC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1.2 TRABAJOS PRELIMINA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1 GEOLOG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2 TOPOGRAF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3 CLI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4 ENERG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5 TRANSPOR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6 MANO DE OB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7 CONDICIONES ECONÓM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8 SERVICIOS SO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9 RELACIONES PÚBL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1.3 PLANIFICACIÓN Y CONTRO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1 INSTALACIÓN DE FAENAS Y OBRAS ANEX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2 PLANO DE DISTRIBU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3 PROGRAMA DE TRABAJ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4 CONTROL DE AVANCE, COSTO, RENDIMI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1.4 PRESUPUES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4.1 COSTOS DIREC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4.2 COSTOS INDIREC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4.3 COSTO DE LA MANO DE OB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4.4 ANÁLISIS DE PRECIOS UNITAR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2 MAQUINARI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2.1 GENERALIDAD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2.2 ESPONJAMIENT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2.3 MAQUINARIAS DE MOVIMIENTO DE TIERR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2.4 PRODUCCIÓN DE ÁRIDO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2.5 EQUIPOS DE ELEVACIÓ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2.6 MAQUINARIAS ESPECIAL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7T20:17:27Z</dcterms:created>
  <dc:creator>William Wragg L.</dc:creator>
  <dc:description/>
  <dc:language>en-US</dc:language>
  <cp:lastModifiedBy>William Wragg</cp:lastModifiedBy>
  <dcterms:modified xsi:type="dcterms:W3CDTF">2009-07-28T12:26:53Z</dcterms:modified>
  <cp:revision>27</cp:revision>
  <dc:subject/>
  <dc:title>CI 52A Métodos Constructivos</dc:title>
</cp:coreProperties>
</file>