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B320-6EC7-4CEB-98DB-C678CB551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F241-85D1-4D33-B741-3A1FE3D5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95B0-3F8C-4BF0-A62E-802038179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091A-283A-40AE-8440-35745AA31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9C7B-B860-4C47-AC1D-E971CC26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BB88-451F-47DF-A51F-0ECD9971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B114-FE2F-4949-AC56-433F98EB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3AA0-2BF0-41C0-8C95-888B641E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C53F-3D66-4B4C-A06E-DB3216C3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B8F7-3844-448C-A06C-7914ED7C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7CA0-95A3-4BBD-9378-D44FC6AE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8BC9-77E8-4063-872D-593D9D17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39F3-400C-4622-BE7F-994A7DF6897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cuación general para describir el comportamiento de una sustancia en el agu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r Jorge Castillo 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000000"/>
              </a:buClr>
              <a:buFont typeface="Comic Sans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mic Sans MS"/>
              </a:rPr>
              <a:t>flujo advectiv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mic Sans MS"/>
              </a:rPr>
              <a:t>ii) flujo dispersiv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59280" y="2844720"/>
                <a:ext cx="41036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132000" y="4978440"/>
                <a:ext cx="396108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acc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ε</m:t>
                    </m:r>
                    <m:r>
                      <m:t xml:space="preserve">∇</m:t>
                    </m:r>
                    <m:r>
                      <m:t xml:space="preserve">C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isotropí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050920" y="2527200"/>
                <a:ext cx="4537080" cy="26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alance masas en un volumen e referencia V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468360" y="2790720"/>
                <a:ext cx="8207280" cy="24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∭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  <m:r>
                              <m:t xml:space="preserve"> </m:t>
                            </m:r>
                          </m:sub>
                          <m:sup/>
                          <m:e/>
                        </m:nary>
                        <m:r>
                          <m:t xml:space="preserve">C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</m:e>
                            </m:acc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=</m:t>
                        </m:r>
                        <m:nary>
                          <m:naryPr>
                            <m:chr m:val="∭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/>
                        </m:nary>
                        <m:r>
                          <m:t xml:space="preserve">C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</m:e>
                            </m:acc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∬"/>
                                <m:supHide m:val="1"/>
                              </m:naryPr>
                              <m:sub>
                                <m:r>
                                  <m:t xml:space="preserve">S</m:t>
                                </m:r>
                              </m:sub>
                              <m:sup/>
                              <m:e/>
                            </m:nary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s</m:t>
                                        </m:r>
                                      </m:sub>
                                    </m:sSub>
                                  </m:e>
                                </m:acc>
                              </m:e>
                            </m:d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</m:e>
                      <m:e/>
                      <m:e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∭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/>
                            </m:nary>
                            <m:r>
                              <m:rPr>
                                <m:lit/>
                                <m:nor/>
                              </m:rPr>
                              <m:t xml:space="preserve">FdV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Teorema de Gauss (o de la divergencia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24000" y="3389400"/>
                <a:ext cx="849600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∬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/>
                    </m:nary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acc>
                      </m:e>
                    </m:d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 </m:t>
                    </m:r>
                    <m:r>
                      <m:t xml:space="preserve">=</m:t>
                    </m:r>
                    <m:nary>
                      <m:naryPr>
                        <m:chr m:val="∭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/>
                    </m:nary>
                    <m:r>
                      <m:t xml:space="preserve">∇</m:t>
                    </m:r>
                    <m:r>
                      <m:t xml:space="preserve">⋅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acc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emplazando la integral de superficie por la integral de volumen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95280" y="2820960"/>
                <a:ext cx="8137440" cy="23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∭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  <m:r>
                              <m:t xml:space="preserve"> </m:t>
                            </m:r>
                          </m:sub>
                          <m:sup/>
                          <m:e/>
                        </m:nary>
                        <m:r>
                          <m:t xml:space="preserve">C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</m:e>
                            </m:acc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=</m:t>
                        </m:r>
                        <m:nary>
                          <m:naryPr>
                            <m:chr m:val="∭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/>
                        </m:nary>
                        <m:r>
                          <m:t xml:space="preserve">C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</m:e>
                            </m:acc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∭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/>
                            </m:nary>
                            <m:r>
                              <m:t xml:space="preserve">∇</m:t>
                            </m:r>
                            <m:r>
                              <m:t xml:space="preserve">⋅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e>
                                </m:acc>
                              </m:e>
                            </m:d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</m:e>
                      <m:e/>
                      <m:e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∭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/>
                            </m:nary>
                            <m:r>
                              <m:rPr>
                                <m:lit/>
                                <m:nor/>
                              </m:rPr>
                              <m:t xml:space="preserve">FdV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troduciendo las integrales con respecto al tiempo dentro de las de volumen y ordenando convenientemente se obtiene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539640" y="2209680"/>
                <a:ext cx="82090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∭"/>
                        <m:supHide m:val="1"/>
                      </m:naryPr>
                      <m:sub>
                        <m:r>
                          <m:t xml:space="preserve">∇</m:t>
                        </m:r>
                      </m:sub>
                      <m:sup/>
                      <m:e/>
                    </m:nary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</m:e>
                            </m:acc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</m:e>
                            </m:acc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∇</m:t>
                            </m:r>
                            <m:r>
                              <m:t xml:space="preserve"> </m:t>
                            </m:r>
                            <m:r>
                              <m:t xml:space="preserve">⋅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e>
                                </m:acc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912960" y="4089240"/>
                <a:ext cx="580680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/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∇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ε</m:t>
                            </m:r>
                            <m:r>
                              <m:t xml:space="preserve">∇</m:t>
                            </m:r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∇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755640" y="5300640"/>
                <a:ext cx="504036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∇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ε</m:t>
                        </m:r>
                        <m:r>
                          <m:t xml:space="preserve">∇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−</m:t>
                    </m:r>
                    <m:r>
                      <m:t xml:space="preserve">∇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  <m:r>
                          <m:t xml:space="preserve">C</m:t>
                        </m:r>
                      </m:e>
                    </m:d>
                    <m:r>
                      <m:t xml:space="preserve">+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cuación 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2598840"/>
                <a:ext cx="777708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∇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∇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∇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84360" y="4581360"/>
                <a:ext cx="464004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ε</m:t>
                    </m:r>
                    <m:sSup>
                      <m:e>
                        <m:r>
                          <m:t xml:space="preserve">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∇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20:33:22Z</dcterms:created>
  <dc:creator>Jorge Castillo</dc:creator>
  <dc:description/>
  <dc:language>en-US</dc:language>
  <cp:lastModifiedBy>Jorge Castillo</cp:lastModifiedBy>
  <dcterms:modified xsi:type="dcterms:W3CDTF">2009-11-13T12:49:22Z</dcterms:modified>
  <cp:revision>10</cp:revision>
  <dc:subject/>
  <dc:title>Transferencia de oxígeno</dc:title>
</cp:coreProperties>
</file>