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9E0-BB5C-40B1-92D6-B59E4621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07D-363C-4A4E-A533-29666D32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C26-36E1-4073-B98D-716C2756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354-A0A1-4EF1-8BA5-7A905EAD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9F8-986C-4D32-BC4C-68FFBF46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56CA-EC69-422A-B03F-6B98E268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8C2-F6F0-40EF-BF00-B7C62553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D78-A88F-4F2F-9F7A-4C05CB32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FF6-B31F-4091-8756-455F5BCD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731-5FF4-41A8-831D-A09E2F1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E54A-FAC4-45C5-8737-369ECDB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506-FAE0-4815-B9CE-08AF320B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3BCF-722A-4648-A379-A33049B776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cuación general para describir el comportamiento de una sustancia en el agu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r Jorge Castillo 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o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000000"/>
              </a:buClr>
              <a:buFont typeface="Comic Sans MS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flujo advec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mic Sans MS"/>
              </a:rPr>
              <a:t>ii) flujo dispers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59280" y="2844720"/>
                <a:ext cx="4103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132000" y="4978440"/>
                <a:ext cx="39610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isotropí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050920" y="2527200"/>
                <a:ext cx="4537080" cy="26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alance masas en un volumen e referencia V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8360" y="2790720"/>
                <a:ext cx="8207280" cy="24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∬"/>
                                <m:supHide m:val="1"/>
                              </m:naryPr>
                              <m:sub>
                                <m:r>
                                  <m:t xml:space="preserve">S</m:t>
                                </m:r>
                              </m:sub>
                              <m:sup/>
                              <m:e/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s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orema de Gauss (o de la divergencia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4000" y="3389400"/>
                <a:ext cx="849600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/>
                    </m:nary>
                    <m:r>
                      <m:t xml:space="preserve">∇</m:t>
                    </m:r>
                    <m:r>
                      <m:t xml:space="preserve">⋅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acc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emplazando la integral de superficie por la integral de volumen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95280" y="2820960"/>
                <a:ext cx="8137440" cy="23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 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nary>
                          <m:naryPr>
                            <m:chr m:val="∭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</m:sub>
                          <m:sup/>
                          <m:e/>
                        </m:nary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t xml:space="preserve">∇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</m:e>
                      <m:e/>
                      <m:e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∭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</m:sub>
                              <m:sup/>
                              <m:e/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FdV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roduciendo las integrales con respecto al tiempo dentro de las de volumen y ordenando convenientemente se obtiene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39640" y="2209680"/>
                <a:ext cx="8209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∇</m:t>
                        </m:r>
                      </m:sub>
                      <m:sup/>
                      <m:e/>
                    </m:nary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</m:e>
                            </m:acc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∇</m:t>
                            </m:r>
                            <m:r>
                              <m:t xml:space="preserve"> </m:t>
                            </m:r>
                            <m:r>
                              <m:t xml:space="preserve">⋅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e>
                                </m:acc>
                                <m:r>
                                  <m:t xml:space="preserve">+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e>
                                </m:acc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12960" y="4089240"/>
                <a:ext cx="5806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ε</m:t>
                            </m:r>
                            <m:r>
                              <m:t xml:space="preserve">∇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∇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755640" y="5300640"/>
                <a:ext cx="50403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∇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cuación 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2598840"/>
                <a:ext cx="77770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84360" y="4581360"/>
                <a:ext cx="46400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0:33:22Z</dcterms:created>
  <dc:creator>Jorge Castillo</dc:creator>
  <dc:description/>
  <dc:language>en-US</dc:language>
  <cp:lastModifiedBy>Jorge Castillo</cp:lastModifiedBy>
  <dcterms:modified xsi:type="dcterms:W3CDTF">2009-11-13T12:49:22Z</dcterms:modified>
  <cp:revision>10</cp:revision>
  <dc:subject/>
  <dc:title>Transferencia de oxígeno</dc:title>
</cp:coreProperties>
</file>