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2E0-1A16-4370-8693-49E8642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4FB-4E2D-474D-B08A-C9D0942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6DA-05BC-48CB-B9AB-FD9C9E4B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6C2-7342-4373-B4A7-E0421733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D3F-19D1-4950-877F-E41E06E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8BE-CF54-49C2-A502-786FE928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ECF-5DE2-4C58-8CD4-C49F58C9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E33-C21F-4EB5-8BA2-8FAC406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74E-AEBE-4009-BF78-D61F3B4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BFF-2941-4AAC-8195-B66A2FB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957-4DC9-4809-A9E5-B8740C9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47A-29B9-421B-A79E-3ED7432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802-96D2-4E54-9C97-8E0F4CCB22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cuación general para describir el comportamiento de una sustancia en el agu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Jorge Castillo 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flujo adve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ii) flujo disper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59280" y="284472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32000" y="4978440"/>
                <a:ext cx="3961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sotrop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50920" y="2527200"/>
                <a:ext cx="453708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ance masas en un volumen e referencia 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790720"/>
                <a:ext cx="820728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∬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/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s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orema de Gauss (o de la divergenc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4000" y="3389400"/>
                <a:ext cx="8496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/>
                    </m:nary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emplazando la integral de superficie por la integral de volum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5280" y="2820960"/>
                <a:ext cx="813744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roduciendo las integrales con respecto al tiempo dentro de las de volumen y ordenando convenientemente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2209680"/>
                <a:ext cx="8209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∇</m:t>
                        </m:r>
                      </m:sub>
                      <m:sup/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2960" y="4089240"/>
                <a:ext cx="5806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55640" y="5300640"/>
                <a:ext cx="504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∇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uación 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2598840"/>
                <a:ext cx="777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4360" y="4581360"/>
                <a:ext cx="46400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0:33:22Z</dcterms:created>
  <dc:creator>Jorge Castillo</dc:creator>
  <dc:description/>
  <dc:language>en-US</dc:language>
  <cp:lastModifiedBy>Jorge Castillo</cp:lastModifiedBy>
  <dcterms:modified xsi:type="dcterms:W3CDTF">2009-11-13T12:49:22Z</dcterms:modified>
  <cp:revision>10</cp:revision>
  <dc:subject/>
  <dc:title>Transferencia de oxígeno</dc:title>
</cp:coreProperties>
</file>