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710-5112-4117-B31A-0404981A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F00-BB55-4718-9034-10CCD705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1F0-2CA6-45F4-8211-50F5E195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597-47B9-4558-B704-31D6C7AF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FFF-C6CC-4821-95CB-D07C4A28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CBC-960F-442F-BC51-0FF1EDE8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442-554E-43C1-8C66-9AD02DFC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DAB-F718-4D4C-BFE9-586BD4EC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956-9DBB-4E9D-B93B-0D39E5E1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CAA-6A6B-4501-A1B3-FB183E76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970-A3EE-4AB6-B16E-95A73F79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78A-7DE5-4EFC-8948-8E1C86A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03BB-589F-42DC-9529-AEDF973EE8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cuación general para describir el comportamiento de una sustancia en el agu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 Jorge Castillo 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flujo advec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ii) flujo dispers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59280" y="2844720"/>
                <a:ext cx="4103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132000" y="4978440"/>
                <a:ext cx="39610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isotrop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50920" y="2527200"/>
                <a:ext cx="4537080" cy="26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lance masas en un volumen e referencia 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8360" y="2790720"/>
                <a:ext cx="8207280" cy="24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∬"/>
                                <m:supHide m:val="1"/>
                              </m:naryPr>
                              <m:sub>
                                <m:r>
                                  <m:t xml:space="preserve">S</m:t>
                                </m:r>
                              </m:sub>
                              <m:sup/>
                              <m:e/>
                            </m:nary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s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F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orema de Gauss (o de la divergenc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4000" y="3389400"/>
                <a:ext cx="84960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/>
                    </m:nary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emplazando la integral de superficie por la integral de volum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95280" y="2820960"/>
                <a:ext cx="8137440" cy="23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t xml:space="preserve">∇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F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roduciendo las integrales con respecto al tiempo dentro de las de volumen y ordenando convenientemente se obtiene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9640" y="2209680"/>
                <a:ext cx="8209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∇</m:t>
                        </m:r>
                      </m:sub>
                      <m:sup/>
                      <m:e/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2960" y="4089240"/>
                <a:ext cx="5806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∇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55640" y="5300640"/>
                <a:ext cx="50403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∇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uación 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2598840"/>
                <a:ext cx="77770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84360" y="4581360"/>
                <a:ext cx="46400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0:33:22Z</dcterms:created>
  <dc:creator>Jorge Castillo</dc:creator>
  <dc:description/>
  <dc:language>en-US</dc:language>
  <cp:lastModifiedBy>Jorge Castillo</cp:lastModifiedBy>
  <dcterms:modified xsi:type="dcterms:W3CDTF">2009-11-13T12:49:22Z</dcterms:modified>
  <cp:revision>10</cp:revision>
  <dc:subject/>
  <dc:title>Transferencia de oxígeno</dc:title>
</cp:coreProperties>
</file>