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CF2-3A73-44C9-BC62-36CA518D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4CB-64C3-4F9B-80AA-DA1C28F2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277-548C-4CE8-A062-280DB65E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8B5-5CD2-4A9F-AB06-A668EF4C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04E-0391-4B99-905B-8870C5EC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EA6-AF2A-45BE-AD5A-9DBEC066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096-2595-4B6C-9036-08FDE51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847-CA0B-4E00-B4E4-323036CD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607-D5DE-4666-819F-26923A3A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782-EFC3-4DE8-B756-6BF399D8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5E1-4E92-4FE4-A0E1-C9FBF27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E8C-9792-435C-93DE-F036B485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1C98-2D96-4850-955E-C9B89B95AA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cuación general para describir el comportamiento de una sustancia en el agu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 Jorge Castillo 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flujo advec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ii) flujo dispers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59280" y="2844720"/>
                <a:ext cx="4103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132000" y="4978440"/>
                <a:ext cx="39610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isotrop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50920" y="2527200"/>
                <a:ext cx="4537080" cy="26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lance masas en un volumen e referencia 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8360" y="2790720"/>
                <a:ext cx="8207280" cy="24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∬"/>
                                <m:supHide m:val="1"/>
                              </m:naryPr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  <m:e/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s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orema de Gauss (o de la divergenc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4000" y="3389400"/>
                <a:ext cx="84960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/>
                    </m:nary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emplazando la integral de superficie por la integral de volum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95280" y="2820960"/>
                <a:ext cx="8137440" cy="23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roduciendo las integrales con respecto al tiempo dentro de las de volumen y ordenando convenientemente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9640" y="2209680"/>
                <a:ext cx="8209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∇</m:t>
                        </m:r>
                      </m:sub>
                      <m:sup/>
                      <m:e/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2960" y="4089240"/>
                <a:ext cx="5806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∇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55640" y="5300640"/>
                <a:ext cx="5040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∇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uación 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2598840"/>
                <a:ext cx="777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84360" y="4581360"/>
                <a:ext cx="46400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0:33:22Z</dcterms:created>
  <dc:creator>Jorge Castillo</dc:creator>
  <dc:description/>
  <dc:language>en-US</dc:language>
  <cp:lastModifiedBy>Jorge Castillo</cp:lastModifiedBy>
  <dcterms:modified xsi:type="dcterms:W3CDTF">2009-11-13T12:49:22Z</dcterms:modified>
  <cp:revision>10</cp:revision>
  <dc:subject/>
  <dc:title>Transferencia de oxígeno</dc:title>
</cp:coreProperties>
</file>