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41C8-7F5E-481A-AC68-DB95EABFEB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5573-9BF0-4F0C-BD93-E9FF430D08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247-BF54-4E00-83CD-162C4B8B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CF8-07EE-49BD-8128-9FDD144C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79D-D798-4ECC-BD1A-23C5D8E8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983-BA10-42EF-975F-E666821E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D1C-0FDE-4C4D-93BD-71F9A457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617-9C03-4B38-99CE-21D9C87E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D13-BCC5-48FD-8688-85F5ED97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5AA-EB94-4107-BB24-7E9A6793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6A9-E262-40A8-9EF1-5027CFCE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D7E-1556-43E5-983B-3EB69F4D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81D-EF3E-4EF5-8609-50A7BB55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8A1-CC08-4112-A301-77D7A812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58F2-E146-4749-8EBA-D21E966D630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S INYECCIONE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ÓN A LAS OBRAS DE INGENIERIA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09800" y="5086440"/>
            <a:ext cx="3524400" cy="209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219560" y="3676680"/>
            <a:ext cx="419040" cy="1409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4"/>
          <p:cNvSpPr/>
          <p:nvPr/>
        </p:nvSpPr>
        <p:spPr>
          <a:xfrm>
            <a:off x="4229280" y="494352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5"/>
          <p:cNvSpPr/>
          <p:nvPr/>
        </p:nvSpPr>
        <p:spPr>
          <a:xfrm>
            <a:off x="4229280" y="480060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6"/>
          <p:cNvSpPr/>
          <p:nvPr/>
        </p:nvSpPr>
        <p:spPr>
          <a:xfrm>
            <a:off x="4229280" y="4667400"/>
            <a:ext cx="409320" cy="14256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4229280" y="452448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4229280" y="438156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9"/>
          <p:cNvSpPr/>
          <p:nvPr/>
        </p:nvSpPr>
        <p:spPr>
          <a:xfrm>
            <a:off x="4229280" y="423864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4229280" y="4105440"/>
            <a:ext cx="409320" cy="13320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11"/>
          <p:cNvSpPr/>
          <p:nvPr/>
        </p:nvSpPr>
        <p:spPr>
          <a:xfrm>
            <a:off x="4229280" y="396252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4219560" y="3952800"/>
            <a:ext cx="41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4210200" y="3952800"/>
            <a:ext cx="19080" cy="190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4"/>
          <p:cNvSpPr/>
          <p:nvPr/>
        </p:nvSpPr>
        <p:spPr>
          <a:xfrm>
            <a:off x="4229280" y="3962520"/>
            <a:ext cx="4093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3943440" y="1562040"/>
            <a:ext cx="895320" cy="1914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6"/>
          <p:cNvSpPr/>
          <p:nvPr/>
        </p:nvSpPr>
        <p:spPr>
          <a:xfrm>
            <a:off x="3943440" y="1562040"/>
            <a:ext cx="895320" cy="1914480"/>
          </a:xfrm>
          <a:prstGeom prst="pie">
            <a:avLst/>
          </a:prstGeom>
          <a:solidFill>
            <a:srgbClr val="cc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7"/>
          <p:cNvSpPr/>
          <p:nvPr/>
        </p:nvSpPr>
        <p:spPr>
          <a:xfrm>
            <a:off x="2809800" y="5086440"/>
            <a:ext cx="3524400" cy="20952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3352680" y="6858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 de Mar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38098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202560" y="380988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li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1"/>
          <p:cNvSpPr/>
          <p:nvPr/>
        </p:nvSpPr>
        <p:spPr>
          <a:xfrm flipH="1">
            <a:off x="472392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5018040" y="361800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5016240" y="37702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las 2 h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2064960" y="0"/>
            <a:ext cx="45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O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25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25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25"/>
                            </p:stCondLst>
                            <p:childTnLst>
                              <p:par>
                                <p:cTn id="354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525"/>
                            </p:stCondLst>
                            <p:childTnLst>
                              <p:par>
                                <p:cTn id="36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25"/>
                            </p:stCondLst>
                            <p:childTnLst>
                              <p:par>
                                <p:cTn id="3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17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825"/>
                            </p:stCondLst>
                            <p:childTnLst>
                              <p:par>
                                <p:cTn id="46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738520" y="1647720"/>
          <a:ext cx="366696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647720"/>
                    <a:ext cx="366696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3"/>
          <p:cNvSpPr/>
          <p:nvPr/>
        </p:nvSpPr>
        <p:spPr>
          <a:xfrm>
            <a:off x="2047320" y="49860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SCOSIMETRO DE ST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75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chadas de iny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s con fase sól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por lo menos uno de los componentes es sólido y está suspendido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echadas de cem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das con fase líqu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todos los componentes son líquidos o solubles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Geles de silicato de sod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952560" y="1219320"/>
          <a:ext cx="723888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219320"/>
                    <a:ext cx="723888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QUISITOS CLAVES PARA UNA BUENA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chada estable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 &lt;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 baj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mpo cono &lt; 32 s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 relativ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 0.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 cement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4.000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/g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SION DE INYECCIO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spectos históricos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riter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f. 1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rancés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bar/m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merica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(lb/pl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/pi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.3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 = 2+(25-Q)H/40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IPOS DE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417680" y="2930400"/>
          <a:ext cx="630864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2930400"/>
                    <a:ext cx="63086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NÚCLEO3"/>
          <p:cNvPicPr/>
          <p:nvPr/>
        </p:nvPicPr>
        <p:blipFill>
          <a:blip r:embed="rId1"/>
          <a:stretch/>
        </p:blipFill>
        <p:spPr>
          <a:xfrm>
            <a:off x="2057400" y="2050920"/>
            <a:ext cx="50292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RATAMIENTO DE FU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PIEDADES DE LAS LECH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YECCION TRAD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ONES EN PUCL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OLBUN"/>
          <p:cNvPicPr/>
          <p:nvPr/>
        </p:nvPicPr>
        <p:blipFill>
          <a:blip r:embed="rId1"/>
          <a:stretch/>
        </p:blipFill>
        <p:spPr>
          <a:xfrm>
            <a:off x="1913040" y="1389240"/>
            <a:ext cx="53164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2"/>
          <p:cNvSpPr/>
          <p:nvPr/>
        </p:nvSpPr>
        <p:spPr>
          <a:xfrm>
            <a:off x="2705040" y="2305080"/>
            <a:ext cx="3733920" cy="2981160"/>
          </a:xfrm>
          <a:prstGeom prst="pie">
            <a:avLst/>
          </a:prstGeom>
          <a:solidFill>
            <a:srgbClr val="9e9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4200480" y="2305080"/>
            <a:ext cx="238320" cy="271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200480" y="2305080"/>
            <a:ext cx="2383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4276800" y="1571760"/>
            <a:ext cx="85680" cy="2552400"/>
          </a:xfrm>
          <a:prstGeom prst="pie">
            <a:avLst/>
          </a:prstGeom>
          <a:solidFill>
            <a:srgbClr val="93db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276800" y="1571760"/>
            <a:ext cx="85680" cy="2552400"/>
          </a:xfrm>
          <a:prstGeom prst="rect">
            <a:avLst/>
          </a:prstGeom>
          <a:solidFill>
            <a:srgbClr val="cc3300"/>
          </a:solidFill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4200480" y="3705120"/>
            <a:ext cx="247680" cy="40032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200480" y="3705120"/>
            <a:ext cx="247680" cy="400320"/>
          </a:xfrm>
          <a:prstGeom prst="rect">
            <a:avLst/>
          </a:prstGeom>
          <a:noFill/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4200480" y="4105440"/>
            <a:ext cx="238320" cy="914400"/>
          </a:xfrm>
          <a:prstGeom prst="pie">
            <a:avLst/>
          </a:pr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200480" y="4105440"/>
            <a:ext cx="238320" cy="914400"/>
          </a:xfrm>
          <a:prstGeom prst="rect">
            <a:avLst/>
          </a:prstGeom>
          <a:noFill/>
          <a:ln w="9360">
            <a:solidFill>
              <a:srgbClr val="236b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4448160" y="3990960"/>
            <a:ext cx="628560" cy="3049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3495600" y="4286160"/>
            <a:ext cx="704880" cy="18108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4448160" y="4419720"/>
            <a:ext cx="638280" cy="1429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3562200" y="4467240"/>
            <a:ext cx="638280" cy="18108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15"/>
          <p:cNvSpPr/>
          <p:nvPr/>
        </p:nvSpPr>
        <p:spPr>
          <a:xfrm>
            <a:off x="4448160" y="4648320"/>
            <a:ext cx="590400" cy="1807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16"/>
          <p:cNvSpPr/>
          <p:nvPr/>
        </p:nvSpPr>
        <p:spPr>
          <a:xfrm>
            <a:off x="3714840" y="4695840"/>
            <a:ext cx="495360" cy="19044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7"/>
          <p:cNvSpPr/>
          <p:nvPr/>
        </p:nvSpPr>
        <p:spPr>
          <a:xfrm>
            <a:off x="4438800" y="4857840"/>
            <a:ext cx="523800" cy="19044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18"/>
          <p:cNvSpPr/>
          <p:nvPr/>
        </p:nvSpPr>
        <p:spPr>
          <a:xfrm>
            <a:off x="3753000" y="4838760"/>
            <a:ext cx="476280" cy="17136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9"/>
          <p:cNvSpPr/>
          <p:nvPr/>
        </p:nvSpPr>
        <p:spPr>
          <a:xfrm>
            <a:off x="4857840" y="4181400"/>
            <a:ext cx="314280" cy="381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4705200" y="4257720"/>
            <a:ext cx="400320" cy="1522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3790800" y="4143240"/>
            <a:ext cx="276480" cy="1717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3705120" y="4438800"/>
            <a:ext cx="162000" cy="1238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3724200" y="4533840"/>
            <a:ext cx="343080" cy="856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3543480" y="4657680"/>
            <a:ext cx="180720" cy="1238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3714840" y="4734000"/>
            <a:ext cx="180720" cy="475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26"/>
          <p:cNvSpPr/>
          <p:nvPr/>
        </p:nvSpPr>
        <p:spPr>
          <a:xfrm>
            <a:off x="3867120" y="4762440"/>
            <a:ext cx="200160" cy="1047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27"/>
          <p:cNvSpPr/>
          <p:nvPr/>
        </p:nvSpPr>
        <p:spPr>
          <a:xfrm>
            <a:off x="3971880" y="4915080"/>
            <a:ext cx="104760" cy="1904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8"/>
          <p:cNvSpPr/>
          <p:nvPr/>
        </p:nvSpPr>
        <p:spPr>
          <a:xfrm>
            <a:off x="4629240" y="4943520"/>
            <a:ext cx="104760" cy="2001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4781520" y="4981680"/>
            <a:ext cx="266760" cy="190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30"/>
          <p:cNvSpPr/>
          <p:nvPr/>
        </p:nvSpPr>
        <p:spPr>
          <a:xfrm>
            <a:off x="4591080" y="4896000"/>
            <a:ext cx="228600" cy="93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31"/>
          <p:cNvSpPr/>
          <p:nvPr/>
        </p:nvSpPr>
        <p:spPr>
          <a:xfrm>
            <a:off x="4781520" y="4781520"/>
            <a:ext cx="380880" cy="16200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4905360" y="4705200"/>
            <a:ext cx="361800" cy="763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33"/>
          <p:cNvSpPr/>
          <p:nvPr/>
        </p:nvSpPr>
        <p:spPr>
          <a:xfrm>
            <a:off x="4753080" y="4524480"/>
            <a:ext cx="323640" cy="1429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34"/>
          <p:cNvSpPr/>
          <p:nvPr/>
        </p:nvSpPr>
        <p:spPr>
          <a:xfrm>
            <a:off x="5000760" y="4486320"/>
            <a:ext cx="161640" cy="572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35"/>
          <p:cNvSpPr/>
          <p:nvPr/>
        </p:nvSpPr>
        <p:spPr>
          <a:xfrm>
            <a:off x="4600440" y="4429080"/>
            <a:ext cx="266760" cy="475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2819520" y="457200"/>
            <a:ext cx="33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ón desde el F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hada de 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775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500"/>
                            </p:stCondLst>
                            <p:childTnLst>
                              <p:par>
                                <p:cTn id="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00"/>
                            </p:stCondLst>
                            <p:childTnLst>
                              <p:par>
                                <p:cTn id="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90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950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Puclaro"/>
          <p:cNvPicPr/>
          <p:nvPr/>
        </p:nvPicPr>
        <p:blipFill>
          <a:blip r:embed="rId1"/>
          <a:stretch/>
        </p:blipFill>
        <p:spPr>
          <a:xfrm>
            <a:off x="1909800" y="1644480"/>
            <a:ext cx="53229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2"/>
          <p:cNvSpPr/>
          <p:nvPr/>
        </p:nvSpPr>
        <p:spPr>
          <a:xfrm>
            <a:off x="2373480" y="1900080"/>
            <a:ext cx="4400280" cy="3522960"/>
          </a:xfrm>
          <a:prstGeom prst="pie">
            <a:avLst/>
          </a:prstGeom>
          <a:solidFill>
            <a:srgbClr val="db93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373480" y="1900080"/>
            <a:ext cx="4400280" cy="3522960"/>
          </a:xfrm>
          <a:prstGeom prst="rect">
            <a:avLst/>
          </a:prstGeom>
          <a:noFill/>
          <a:ln w="0">
            <a:solidFill>
              <a:srgbClr val="db937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4"/>
          <p:cNvSpPr/>
          <p:nvPr/>
        </p:nvSpPr>
        <p:spPr>
          <a:xfrm>
            <a:off x="3252960" y="1900080"/>
            <a:ext cx="212400" cy="237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252960" y="1900080"/>
            <a:ext cx="212400" cy="23767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2349360" y="3502080"/>
            <a:ext cx="4443480" cy="144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2349360" y="3502080"/>
            <a:ext cx="4443480" cy="14461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"/>
          <p:cNvSpPr/>
          <p:nvPr/>
        </p:nvSpPr>
        <p:spPr>
          <a:xfrm>
            <a:off x="3333600" y="1434960"/>
            <a:ext cx="61920" cy="2262240"/>
          </a:xfrm>
          <a:prstGeom prst="pie">
            <a:avLst/>
          </a:pr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33600" y="1434960"/>
            <a:ext cx="61920" cy="2262240"/>
          </a:xfrm>
          <a:prstGeom prst="rect">
            <a:avLst/>
          </a:prstGeom>
          <a:noFill/>
          <a:ln w="0">
            <a:solidFill>
              <a:srgbClr val="54545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12"/>
          <p:cNvSpPr/>
          <p:nvPr/>
        </p:nvSpPr>
        <p:spPr>
          <a:xfrm>
            <a:off x="3252960" y="4206960"/>
            <a:ext cx="212400" cy="698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252960" y="4206960"/>
            <a:ext cx="212400" cy="698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4"/>
          <p:cNvSpPr/>
          <p:nvPr/>
        </p:nvSpPr>
        <p:spPr>
          <a:xfrm>
            <a:off x="3252960" y="4121280"/>
            <a:ext cx="212400" cy="856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252960" y="4121280"/>
            <a:ext cx="212400" cy="856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16"/>
          <p:cNvSpPr/>
          <p:nvPr/>
        </p:nvSpPr>
        <p:spPr>
          <a:xfrm>
            <a:off x="3252960" y="4049640"/>
            <a:ext cx="212400" cy="716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3252960" y="4049640"/>
            <a:ext cx="212400" cy="716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8"/>
          <p:cNvSpPr/>
          <p:nvPr/>
        </p:nvSpPr>
        <p:spPr>
          <a:xfrm>
            <a:off x="3252960" y="3959280"/>
            <a:ext cx="212400" cy="9036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3252960" y="3959280"/>
            <a:ext cx="212400" cy="9036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20"/>
          <p:cNvSpPr/>
          <p:nvPr/>
        </p:nvSpPr>
        <p:spPr>
          <a:xfrm>
            <a:off x="3252960" y="3925800"/>
            <a:ext cx="212400" cy="334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3252960" y="3925800"/>
            <a:ext cx="212400" cy="334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22"/>
          <p:cNvSpPr/>
          <p:nvPr/>
        </p:nvSpPr>
        <p:spPr>
          <a:xfrm>
            <a:off x="3252960" y="3697200"/>
            <a:ext cx="212400" cy="22860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3252960" y="3697200"/>
            <a:ext cx="212400" cy="22860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24"/>
          <p:cNvSpPr/>
          <p:nvPr/>
        </p:nvSpPr>
        <p:spPr>
          <a:xfrm>
            <a:off x="3446640" y="3849840"/>
            <a:ext cx="1407960" cy="4982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25"/>
          <p:cNvSpPr/>
          <p:nvPr/>
        </p:nvSpPr>
        <p:spPr>
          <a:xfrm>
            <a:off x="3446640" y="3849840"/>
            <a:ext cx="1407960" cy="49824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26"/>
          <p:cNvSpPr/>
          <p:nvPr/>
        </p:nvSpPr>
        <p:spPr>
          <a:xfrm>
            <a:off x="4835520" y="4262400"/>
            <a:ext cx="1938240" cy="6904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27"/>
          <p:cNvSpPr/>
          <p:nvPr/>
        </p:nvSpPr>
        <p:spPr>
          <a:xfrm>
            <a:off x="4835520" y="4262400"/>
            <a:ext cx="1938240" cy="69048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28"/>
          <p:cNvSpPr/>
          <p:nvPr/>
        </p:nvSpPr>
        <p:spPr>
          <a:xfrm>
            <a:off x="2373480" y="3530520"/>
            <a:ext cx="955440" cy="3286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29"/>
          <p:cNvSpPr/>
          <p:nvPr/>
        </p:nvSpPr>
        <p:spPr>
          <a:xfrm>
            <a:off x="2373480" y="3530520"/>
            <a:ext cx="955440" cy="32868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30"/>
          <p:cNvSpPr/>
          <p:nvPr/>
        </p:nvSpPr>
        <p:spPr>
          <a:xfrm>
            <a:off x="2282760" y="3483000"/>
            <a:ext cx="993960" cy="37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31"/>
          <p:cNvSpPr/>
          <p:nvPr/>
        </p:nvSpPr>
        <p:spPr>
          <a:xfrm>
            <a:off x="2282760" y="3483000"/>
            <a:ext cx="993960" cy="3762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32"/>
          <p:cNvSpPr/>
          <p:nvPr/>
        </p:nvSpPr>
        <p:spPr>
          <a:xfrm>
            <a:off x="3252960" y="3697200"/>
            <a:ext cx="21240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3252960" y="3697200"/>
            <a:ext cx="212400" cy="247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34"/>
          <p:cNvSpPr/>
          <p:nvPr/>
        </p:nvSpPr>
        <p:spPr>
          <a:xfrm>
            <a:off x="3441600" y="3840120"/>
            <a:ext cx="851040" cy="347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5"/>
          <p:cNvSpPr/>
          <p:nvPr/>
        </p:nvSpPr>
        <p:spPr>
          <a:xfrm>
            <a:off x="3441600" y="3840120"/>
            <a:ext cx="851040" cy="34776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6"/>
          <p:cNvSpPr/>
          <p:nvPr/>
        </p:nvSpPr>
        <p:spPr>
          <a:xfrm>
            <a:off x="4254480" y="4097160"/>
            <a:ext cx="14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37"/>
          <p:cNvSpPr/>
          <p:nvPr/>
        </p:nvSpPr>
        <p:spPr>
          <a:xfrm>
            <a:off x="4254480" y="4097160"/>
            <a:ext cx="1403280" cy="5032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38"/>
          <p:cNvSpPr/>
          <p:nvPr/>
        </p:nvSpPr>
        <p:spPr>
          <a:xfrm>
            <a:off x="5605560" y="4505400"/>
            <a:ext cx="1253880" cy="47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39"/>
          <p:cNvSpPr/>
          <p:nvPr/>
        </p:nvSpPr>
        <p:spPr>
          <a:xfrm>
            <a:off x="5605560" y="4505400"/>
            <a:ext cx="1253880" cy="4762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1608840" y="22860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ON DE UNA GRIET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471960" y="609480"/>
            <a:ext cx="77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NDO UNA LECHADA CON BAJ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0"/>
                            </p:stCondLst>
                            <p:childTnLst>
                              <p:par>
                                <p:cTn id="9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500"/>
                            </p:stCondLst>
                            <p:childTnLst>
                              <p:par>
                                <p:cTn id="9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500"/>
                            </p:stCondLst>
                            <p:childTnLst>
                              <p:par>
                                <p:cTn id="9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7000"/>
                            </p:stCondLst>
                            <p:childTnLst>
                              <p:par>
                                <p:cTn id="9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7500"/>
                            </p:stCondLst>
                            <p:childTnLst>
                              <p:par>
                                <p:cTn id="9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8000"/>
                            </p:stCondLst>
                            <p:childTnLst>
                              <p:par>
                                <p:cTn id="9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8500"/>
                            </p:stCondLst>
                            <p:childTnLst>
                              <p:par>
                                <p:cTn id="93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0"/>
                            </p:stCondLst>
                            <p:childTnLst>
                              <p:par>
                                <p:cTn id="9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500"/>
                            </p:stCondLst>
                            <p:childTnLst>
                              <p:par>
                                <p:cTn id="9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9500"/>
                            </p:stCondLst>
                            <p:childTnLst>
                              <p:par>
                                <p:cTn id="98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 flipV="1">
            <a:off x="3733920" y="1515960"/>
            <a:ext cx="145872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3743280" y="1514520"/>
            <a:ext cx="1800" cy="413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12080" y="1484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412080" y="1893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392280" y="23367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3408480" y="27576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3408480" y="31687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392280" y="3554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3392280" y="3986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392280" y="43974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3392280" y="48132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392280" y="5224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5"/>
          <p:cNvSpPr/>
          <p:nvPr/>
        </p:nvSpPr>
        <p:spPr>
          <a:xfrm>
            <a:off x="4273560" y="5484960"/>
            <a:ext cx="909720" cy="87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4446720" y="1514520"/>
            <a:ext cx="1440" cy="107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4513320" y="3632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4613400" y="1514520"/>
            <a:ext cx="34920" cy="36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4307040" y="1514520"/>
            <a:ext cx="1440" cy="27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4992840" y="1514520"/>
            <a:ext cx="36360" cy="20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4770360" y="1523880"/>
            <a:ext cx="30240" cy="358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2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3"/>
          <p:cNvSpPr/>
          <p:nvPr/>
        </p:nvSpPr>
        <p:spPr>
          <a:xfrm flipH="1">
            <a:off x="3611520" y="56451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3367080" y="56358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5"/>
          <p:cNvSpPr/>
          <p:nvPr/>
        </p:nvSpPr>
        <p:spPr>
          <a:xfrm flipH="1">
            <a:off x="3742920" y="193032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6"/>
          <p:cNvSpPr/>
          <p:nvPr/>
        </p:nvSpPr>
        <p:spPr>
          <a:xfrm flipH="1">
            <a:off x="3742920" y="23414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3743280" y="275760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8"/>
          <p:cNvSpPr/>
          <p:nvPr/>
        </p:nvSpPr>
        <p:spPr>
          <a:xfrm flipH="1">
            <a:off x="3742920" y="31687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3743280" y="35798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0"/>
          <p:cNvSpPr/>
          <p:nvPr/>
        </p:nvSpPr>
        <p:spPr>
          <a:xfrm flipH="1">
            <a:off x="3742920" y="39956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1"/>
          <p:cNvSpPr/>
          <p:nvPr/>
        </p:nvSpPr>
        <p:spPr>
          <a:xfrm flipH="1">
            <a:off x="3742920" y="440676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2"/>
          <p:cNvSpPr/>
          <p:nvPr/>
        </p:nvSpPr>
        <p:spPr>
          <a:xfrm flipH="1">
            <a:off x="3742920" y="48229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3"/>
          <p:cNvSpPr/>
          <p:nvPr/>
        </p:nvSpPr>
        <p:spPr>
          <a:xfrm>
            <a:off x="3743280" y="52340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4"/>
          <p:cNvSpPr/>
          <p:nvPr/>
        </p:nvSpPr>
        <p:spPr>
          <a:xfrm flipH="1">
            <a:off x="3742920" y="564516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 rot="5400000">
            <a:off x="3559680" y="14641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6"/>
          <p:cNvSpPr/>
          <p:nvPr/>
        </p:nvSpPr>
        <p:spPr>
          <a:xfrm rot="5400000">
            <a:off x="3750120" y="1292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7"/>
          <p:cNvSpPr/>
          <p:nvPr/>
        </p:nvSpPr>
        <p:spPr>
          <a:xfrm rot="5400000">
            <a:off x="3734280" y="1287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38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9"/>
          <p:cNvSpPr/>
          <p:nvPr/>
        </p:nvSpPr>
        <p:spPr>
          <a:xfrm rot="16200000">
            <a:off x="2815560" y="2085120"/>
            <a:ext cx="619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profundidad (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0"/>
          <p:cNvSpPr/>
          <p:nvPr/>
        </p:nvSpPr>
        <p:spPr>
          <a:xfrm>
            <a:off x="3728520" y="662040"/>
            <a:ext cx="136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1"/>
          <p:cNvSpPr/>
          <p:nvPr/>
        </p:nvSpPr>
        <p:spPr>
          <a:xfrm>
            <a:off x="5006880" y="13906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2"/>
          <p:cNvSpPr/>
          <p:nvPr/>
        </p:nvSpPr>
        <p:spPr>
          <a:xfrm>
            <a:off x="4790880" y="13683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3"/>
          <p:cNvSpPr/>
          <p:nvPr/>
        </p:nvSpPr>
        <p:spPr>
          <a:xfrm>
            <a:off x="464184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4"/>
          <p:cNvSpPr/>
          <p:nvPr/>
        </p:nvSpPr>
        <p:spPr>
          <a:xfrm>
            <a:off x="430200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5"/>
          <p:cNvSpPr/>
          <p:nvPr/>
        </p:nvSpPr>
        <p:spPr>
          <a:xfrm>
            <a:off x="4451040" y="1384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46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47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noFill/>
          <a:ln w="0">
            <a:solidFill>
              <a:srgbClr val="a8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8"/>
          <p:cNvSpPr/>
          <p:nvPr/>
        </p:nvSpPr>
        <p:spPr>
          <a:xfrm>
            <a:off x="3867120" y="1525680"/>
            <a:ext cx="1440" cy="221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9"/>
          <p:cNvSpPr/>
          <p:nvPr/>
        </p:nvSpPr>
        <p:spPr>
          <a:xfrm rot="5400000">
            <a:off x="3907080" y="1397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0"/>
          <p:cNvSpPr/>
          <p:nvPr/>
        </p:nvSpPr>
        <p:spPr>
          <a:xfrm>
            <a:off x="3717000" y="1062000"/>
            <a:ext cx="80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TA: 43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1"/>
          <p:cNvSpPr/>
          <p:nvPr/>
        </p:nvSpPr>
        <p:spPr>
          <a:xfrm>
            <a:off x="3871800" y="13590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574848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3"/>
          <p:cNvSpPr/>
          <p:nvPr/>
        </p:nvSpPr>
        <p:spPr>
          <a:xfrm>
            <a:off x="401472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19572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265284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230040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158148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229572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266724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319104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402948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577260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1014480" y="5170320"/>
            <a:ext cx="564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6"/>
          <p:cNvSpPr/>
          <p:nvPr/>
        </p:nvSpPr>
        <p:spPr>
          <a:xfrm>
            <a:off x="1014480" y="3191040"/>
            <a:ext cx="564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17"/>
          <p:cNvSpPr/>
          <p:nvPr/>
        </p:nvSpPr>
        <p:spPr>
          <a:xfrm>
            <a:off x="137628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18"/>
          <p:cNvSpPr/>
          <p:nvPr/>
        </p:nvSpPr>
        <p:spPr>
          <a:xfrm>
            <a:off x="2328840" y="3086280"/>
            <a:ext cx="21924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19"/>
          <p:cNvSpPr/>
          <p:nvPr/>
        </p:nvSpPr>
        <p:spPr>
          <a:xfrm>
            <a:off x="278604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0"/>
          <p:cNvSpPr/>
          <p:nvPr/>
        </p:nvSpPr>
        <p:spPr>
          <a:xfrm>
            <a:off x="373860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1"/>
          <p:cNvSpPr/>
          <p:nvPr/>
        </p:nvSpPr>
        <p:spPr>
          <a:xfrm>
            <a:off x="419580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14836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23"/>
          <p:cNvSpPr/>
          <p:nvPr/>
        </p:nvSpPr>
        <p:spPr>
          <a:xfrm>
            <a:off x="137628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24"/>
          <p:cNvSpPr/>
          <p:nvPr/>
        </p:nvSpPr>
        <p:spPr>
          <a:xfrm>
            <a:off x="2328840" y="5065560"/>
            <a:ext cx="21924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25"/>
          <p:cNvSpPr/>
          <p:nvPr/>
        </p:nvSpPr>
        <p:spPr>
          <a:xfrm>
            <a:off x="278604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26"/>
          <p:cNvSpPr/>
          <p:nvPr/>
        </p:nvSpPr>
        <p:spPr>
          <a:xfrm>
            <a:off x="373860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419580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28"/>
          <p:cNvSpPr/>
          <p:nvPr/>
        </p:nvSpPr>
        <p:spPr>
          <a:xfrm>
            <a:off x="514836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9"/>
          <p:cNvSpPr/>
          <p:nvPr/>
        </p:nvSpPr>
        <p:spPr>
          <a:xfrm>
            <a:off x="6319800" y="3895560"/>
            <a:ext cx="33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0"/>
          <p:cNvSpPr/>
          <p:nvPr/>
        </p:nvSpPr>
        <p:spPr>
          <a:xfrm>
            <a:off x="6310440" y="4448160"/>
            <a:ext cx="342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1"/>
          <p:cNvSpPr/>
          <p:nvPr/>
        </p:nvSpPr>
        <p:spPr>
          <a:xfrm>
            <a:off x="6319800" y="3191040"/>
            <a:ext cx="35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2"/>
          <p:cNvSpPr/>
          <p:nvPr/>
        </p:nvSpPr>
        <p:spPr>
          <a:xfrm>
            <a:off x="6319800" y="5160960"/>
            <a:ext cx="362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3"/>
          <p:cNvSpPr/>
          <p:nvPr/>
        </p:nvSpPr>
        <p:spPr>
          <a:xfrm>
            <a:off x="6548400" y="3200400"/>
            <a:ext cx="4680" cy="1981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670932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5"/>
          <p:cNvSpPr/>
          <p:nvPr/>
        </p:nvSpPr>
        <p:spPr>
          <a:xfrm>
            <a:off x="6766560" y="40863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0.8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6"/>
          <p:cNvSpPr/>
          <p:nvPr/>
        </p:nvSpPr>
        <p:spPr>
          <a:xfrm>
            <a:off x="6747480" y="47242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7"/>
          <p:cNvSpPr/>
          <p:nvPr/>
        </p:nvSpPr>
        <p:spPr>
          <a:xfrm>
            <a:off x="2208960" y="5484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3695040" y="54180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9"/>
          <p:cNvSpPr/>
          <p:nvPr/>
        </p:nvSpPr>
        <p:spPr>
          <a:xfrm>
            <a:off x="5238000" y="546588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0"/>
          <p:cNvSpPr/>
          <p:nvPr/>
        </p:nvSpPr>
        <p:spPr>
          <a:xfrm>
            <a:off x="2266200" y="279072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1"/>
          <p:cNvSpPr/>
          <p:nvPr/>
        </p:nvSpPr>
        <p:spPr>
          <a:xfrm>
            <a:off x="3695040" y="2847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2"/>
          <p:cNvSpPr/>
          <p:nvPr/>
        </p:nvSpPr>
        <p:spPr>
          <a:xfrm>
            <a:off x="5180760" y="27813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3"/>
          <p:cNvSpPr/>
          <p:nvPr/>
        </p:nvSpPr>
        <p:spPr>
          <a:xfrm>
            <a:off x="1365480" y="1401840"/>
            <a:ext cx="697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POSICION EN PLANTA DE PERFORACIONES DE INYE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4"/>
          <p:cNvSpPr/>
          <p:nvPr/>
        </p:nvSpPr>
        <p:spPr>
          <a:xfrm>
            <a:off x="3029400" y="620640"/>
            <a:ext cx="1532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5"/>
          <p:cNvSpPr/>
          <p:nvPr/>
        </p:nvSpPr>
        <p:spPr>
          <a:xfrm>
            <a:off x="1376280" y="3895560"/>
            <a:ext cx="4934160" cy="55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Object 2"/>
          <p:cNvGraphicFramePr/>
          <p:nvPr/>
        </p:nvGraphicFramePr>
        <p:xfrm>
          <a:off x="1600200" y="990720"/>
          <a:ext cx="5945040" cy="45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945040" cy="45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Rectangle 4"/>
          <p:cNvSpPr/>
          <p:nvPr/>
        </p:nvSpPr>
        <p:spPr>
          <a:xfrm>
            <a:off x="1143000" y="6248520"/>
            <a:ext cx="6575400" cy="75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1143000" y="1295280"/>
            <a:ext cx="6651720" cy="505296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3800520" y="1324080"/>
            <a:ext cx="250920" cy="46987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00520" y="1324080"/>
            <a:ext cx="250920" cy="469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8"/>
          <p:cNvSpPr/>
          <p:nvPr/>
        </p:nvSpPr>
        <p:spPr>
          <a:xfrm>
            <a:off x="3881520" y="331920"/>
            <a:ext cx="88920" cy="5734080"/>
          </a:xfrm>
          <a:prstGeom prst="pie">
            <a:avLst/>
          </a:prstGeom>
          <a:solidFill>
            <a:srgbClr val="ff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3881520" y="331920"/>
            <a:ext cx="88920" cy="5734080"/>
          </a:xfrm>
          <a:prstGeom prst="rect">
            <a:avLst/>
          </a:prstGeom>
          <a:noFill/>
          <a:ln w="0">
            <a:solidFill>
              <a:srgbClr val="ff7e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0"/>
          <p:cNvSpPr/>
          <p:nvPr/>
        </p:nvSpPr>
        <p:spPr>
          <a:xfrm>
            <a:off x="3868560" y="2093760"/>
            <a:ext cx="149400" cy="38592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3868560" y="2093760"/>
            <a:ext cx="149400" cy="38592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2"/>
          <p:cNvSpPr/>
          <p:nvPr/>
        </p:nvSpPr>
        <p:spPr>
          <a:xfrm>
            <a:off x="3868560" y="3249720"/>
            <a:ext cx="135000" cy="32544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3868560" y="324972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14"/>
          <p:cNvSpPr/>
          <p:nvPr/>
        </p:nvSpPr>
        <p:spPr>
          <a:xfrm>
            <a:off x="3868560" y="4387680"/>
            <a:ext cx="135000" cy="32544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3868560" y="438768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6"/>
          <p:cNvSpPr/>
          <p:nvPr/>
        </p:nvSpPr>
        <p:spPr>
          <a:xfrm>
            <a:off x="3868560" y="5313240"/>
            <a:ext cx="135000" cy="28260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7"/>
          <p:cNvSpPr/>
          <p:nvPr/>
        </p:nvSpPr>
        <p:spPr>
          <a:xfrm>
            <a:off x="3868560" y="5313240"/>
            <a:ext cx="135000" cy="28260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18"/>
          <p:cNvSpPr/>
          <p:nvPr/>
        </p:nvSpPr>
        <p:spPr>
          <a:xfrm>
            <a:off x="3916440" y="289080"/>
            <a:ext cx="33120" cy="4749480"/>
          </a:xfrm>
          <a:prstGeom prst="pie">
            <a:avLst/>
          </a:pr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9"/>
          <p:cNvSpPr/>
          <p:nvPr/>
        </p:nvSpPr>
        <p:spPr>
          <a:xfrm>
            <a:off x="3916440" y="289080"/>
            <a:ext cx="33120" cy="4749480"/>
          </a:xfrm>
          <a:prstGeom prst="rect">
            <a:avLst/>
          </a:prstGeom>
          <a:noFill/>
          <a:ln w="0">
            <a:solidFill>
              <a:srgbClr val="236b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20"/>
          <p:cNvSpPr/>
          <p:nvPr/>
        </p:nvSpPr>
        <p:spPr>
          <a:xfrm>
            <a:off x="3881520" y="4046400"/>
            <a:ext cx="101520" cy="2574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1"/>
          <p:cNvSpPr/>
          <p:nvPr/>
        </p:nvSpPr>
        <p:spPr>
          <a:xfrm>
            <a:off x="3881520" y="4046400"/>
            <a:ext cx="101520" cy="25740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22"/>
          <p:cNvSpPr/>
          <p:nvPr/>
        </p:nvSpPr>
        <p:spPr>
          <a:xfrm>
            <a:off x="3902040" y="4824360"/>
            <a:ext cx="81000" cy="2318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23"/>
          <p:cNvSpPr/>
          <p:nvPr/>
        </p:nvSpPr>
        <p:spPr>
          <a:xfrm>
            <a:off x="3902040" y="4824360"/>
            <a:ext cx="81000" cy="23184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24"/>
          <p:cNvSpPr/>
          <p:nvPr/>
        </p:nvSpPr>
        <p:spPr>
          <a:xfrm>
            <a:off x="3970440" y="4260960"/>
            <a:ext cx="269640" cy="126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25"/>
          <p:cNvSpPr/>
          <p:nvPr/>
        </p:nvSpPr>
        <p:spPr>
          <a:xfrm>
            <a:off x="3632040" y="4303800"/>
            <a:ext cx="270000" cy="8388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26"/>
          <p:cNvSpPr/>
          <p:nvPr/>
        </p:nvSpPr>
        <p:spPr>
          <a:xfrm>
            <a:off x="3543480" y="4670280"/>
            <a:ext cx="338040" cy="8604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27"/>
          <p:cNvSpPr/>
          <p:nvPr/>
        </p:nvSpPr>
        <p:spPr>
          <a:xfrm>
            <a:off x="3970440" y="4697280"/>
            <a:ext cx="352440" cy="10188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28"/>
          <p:cNvSpPr/>
          <p:nvPr/>
        </p:nvSpPr>
        <p:spPr>
          <a:xfrm>
            <a:off x="3578400" y="4387680"/>
            <a:ext cx="323640" cy="11304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9"/>
          <p:cNvSpPr/>
          <p:nvPr/>
        </p:nvSpPr>
        <p:spPr>
          <a:xfrm>
            <a:off x="4017960" y="4559400"/>
            <a:ext cx="270000" cy="153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30"/>
          <p:cNvSpPr/>
          <p:nvPr/>
        </p:nvSpPr>
        <p:spPr>
          <a:xfrm>
            <a:off x="4003560" y="4387680"/>
            <a:ext cx="319320" cy="7020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31"/>
          <p:cNvSpPr/>
          <p:nvPr/>
        </p:nvSpPr>
        <p:spPr>
          <a:xfrm>
            <a:off x="3495600" y="4559400"/>
            <a:ext cx="372960" cy="153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1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rtina Imperm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s es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mento - benton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 o 4 do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c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: rechazo-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todo tipo de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o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 do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 por curva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roca homogén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600"/>
                            </p:stCondLst>
                            <p:childTnLst>
                              <p:par>
                                <p:cTn id="1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200"/>
                            </p:stCondLst>
                            <p:childTnLst>
                              <p:par>
                                <p:cTn id="1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3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3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3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3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2700"/>
                            </p:stCondLst>
                            <p:childTnLst>
                              <p:par>
                                <p:cTn id="1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3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3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3900"/>
                            </p:stCondLst>
                            <p:childTnLst>
                              <p:par>
                                <p:cTn id="1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3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3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3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3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5400"/>
                            </p:stCondLst>
                            <p:childTnLst>
                              <p:par>
                                <p:cTn id="1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3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3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6900"/>
                            </p:stCondLst>
                            <p:childTnLst>
                              <p:par>
                                <p:cTn id="1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3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3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81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3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3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87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3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3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9300"/>
                            </p:stCondLst>
                            <p:childTnLst>
                              <p:par>
                                <p:cTn id="1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3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3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9900"/>
                            </p:stCondLst>
                            <p:childTnLst>
                              <p:par>
                                <p:cTn id="16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3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3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3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3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3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3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3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3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ERIENCIA DE SU APLICACIÓN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fill="hold">
                      <p:stCondLst>
                        <p:cond delay="0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675"/>
                            </p:stCondLst>
                            <p:childTnLst>
                              <p:par>
                                <p:cTn id="17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3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3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mbardi &amp; Deere 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ua/cemento = 0,7 a 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V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presión e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 = vol. Inye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lts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onstante (bar*lt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figura C =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Object 5"/>
          <p:cNvGraphicFramePr/>
          <p:nvPr/>
        </p:nvGraphicFramePr>
        <p:xfrm>
          <a:off x="4800600" y="2286000"/>
          <a:ext cx="350532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505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COMENDACIONES SOBRE EL 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se especifica su utilización, establecer que puede emplearse el sistema tradicional si fuera neces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ontratista debe contar con amplia experiencia y con los equipos adecuados para llevar el control computacional requer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finir especificaciones especiales para inyección de grietas abier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0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02 Charles Berigny: Inyecciones  de arcilla y cal hidráulica para reparar una compuerta desrripiadora en el puerto de Die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76 Thomas Hawksley: Inyecciones de cemento para sellar grietas en r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MOD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3 Maurice Lugeon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Barrage et Géologi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8 Armand May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Inyección de arcilla tra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53 USB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Pressure Grou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64 Henry Cambefor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Injection des Sol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l toro"/>
          <p:cNvPicPr/>
          <p:nvPr/>
        </p:nvPicPr>
        <p:blipFill>
          <a:blip r:embed="rId1"/>
          <a:stretch/>
        </p:blipFill>
        <p:spPr>
          <a:xfrm>
            <a:off x="2424240" y="990720"/>
            <a:ext cx="429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CONTEMPORA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2 Ibáñez y Echeverría      Fórmula “Presión-Caud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4 Gandais et Delmàs        Coulis a Haute Penetr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5  Echeverría y Al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Lechadas con aditiv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fluidific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93 Lombardi &amp; Deere        El método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IEDADES DE LAS LECHADA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REOLO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FI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ficie específica Bl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reeform 2"/>
          <p:cNvSpPr/>
          <p:nvPr/>
        </p:nvSpPr>
        <p:spPr>
          <a:xfrm>
            <a:off x="1611360" y="3468600"/>
            <a:ext cx="5946840" cy="36360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11360" y="3468600"/>
            <a:ext cx="5946840" cy="36360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4"/>
          <p:cNvSpPr/>
          <p:nvPr/>
        </p:nvSpPr>
        <p:spPr>
          <a:xfrm>
            <a:off x="1616040" y="2871720"/>
            <a:ext cx="3952800" cy="19692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616040" y="2871720"/>
            <a:ext cx="3952800" cy="19692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6"/>
          <p:cNvSpPr/>
          <p:nvPr/>
        </p:nvSpPr>
        <p:spPr>
          <a:xfrm>
            <a:off x="1616040" y="3090960"/>
            <a:ext cx="3952800" cy="37296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616040" y="3090960"/>
            <a:ext cx="3952800" cy="372960"/>
          </a:xfrm>
          <a:prstGeom prst="rect">
            <a:avLst/>
          </a:prstGeom>
          <a:noFill/>
          <a:ln w="4680">
            <a:solidFill>
              <a:srgbClr val="31c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8"/>
          <p:cNvSpPr/>
          <p:nvPr/>
        </p:nvSpPr>
        <p:spPr>
          <a:xfrm>
            <a:off x="5568840" y="2876400"/>
            <a:ext cx="592200" cy="21456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5568840" y="2876400"/>
            <a:ext cx="592200" cy="21456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5568840" y="3090960"/>
            <a:ext cx="592200" cy="3729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11"/>
          <p:cNvSpPr/>
          <p:nvPr/>
        </p:nvSpPr>
        <p:spPr>
          <a:xfrm>
            <a:off x="5584680" y="3090960"/>
            <a:ext cx="554040" cy="37296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1530360" y="1523880"/>
            <a:ext cx="619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XPERIENCIA DE NEWTON DE LA VISCOS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10666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106884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62485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4029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181480" y="4876920"/>
            <a:ext cx="242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dv/d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4724280" y="4267080"/>
            <a:ext cx="23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dv/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599120" y="4343400"/>
            <a:ext cx="32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IDO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WTON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1522080" y="525780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IDOS BINGAHM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64771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615000" y="3084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475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975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0:23:33Z</dcterms:created>
  <dc:creator>FERNANDO ECHEVERRIA ACUÑA</dc:creator>
  <dc:description/>
  <dc:language>en-US</dc:language>
  <cp:lastModifiedBy>HUGO</cp:lastModifiedBy>
  <cp:lastPrinted>2000-12-13T02:37:39Z</cp:lastPrinted>
  <dcterms:modified xsi:type="dcterms:W3CDTF">2009-10-14T09:56:43Z</dcterms:modified>
  <cp:revision>17</cp:revision>
  <dc:subject/>
  <dc:title>LAS INYECCIONES DE CEMENTO</dc:title>
</cp:coreProperties>
</file>