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261A-714C-45BB-BDDF-673B455909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AC96-F66B-4528-BE14-BCCAABD2FA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4D1-BFC7-4D25-9A70-39915F0C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2E0-7D23-4AB0-9453-884FF635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774-D0D2-4B40-A9C7-7AAFEBCA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178-0A22-49E7-B54B-B10CCD12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C13-9567-4237-853A-8F5952ED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EBD-2E52-45A9-A40D-11ED996E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336-271C-40F6-B585-DEEB328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A79-0783-445D-8BF7-0EB8024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1CA-69E4-49B6-91A6-3801623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D78-63CA-426B-B459-F98D74B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F0D-CC98-4DE1-BCDA-7830E281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B77-2BC3-49E6-ABEE-E3776C2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07F5-0109-4F49-8342-D0FDABC1AC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4229280" y="4943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4229280" y="480060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4229280" y="4667400"/>
            <a:ext cx="409320" cy="14256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229280" y="452448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4229280" y="438156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4229280" y="423864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4229280" y="4105440"/>
            <a:ext cx="409320" cy="1332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1"/>
          <p:cNvSpPr/>
          <p:nvPr/>
        </p:nvSpPr>
        <p:spPr>
          <a:xfrm>
            <a:off x="4229280" y="3962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229280" y="3962520"/>
            <a:ext cx="409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"/>
          <p:cNvSpPr/>
          <p:nvPr/>
        </p:nvSpPr>
        <p:spPr>
          <a:xfrm>
            <a:off x="2809800" y="5086440"/>
            <a:ext cx="3524400" cy="2095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3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ÚCLEO3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BUN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705040" y="2305080"/>
            <a:ext cx="3733920" cy="2981160"/>
          </a:xfrm>
          <a:prstGeom prst="pie">
            <a:avLst/>
          </a:pr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200480" y="2305080"/>
            <a:ext cx="238320" cy="271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276800" y="1571760"/>
            <a:ext cx="85680" cy="2552400"/>
          </a:xfrm>
          <a:prstGeom prst="pie">
            <a:avLst/>
          </a:pr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200480" y="3705120"/>
            <a:ext cx="247680" cy="4003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200480" y="4105440"/>
            <a:ext cx="238320" cy="91440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448160" y="3990960"/>
            <a:ext cx="628560" cy="304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5600" y="4286160"/>
            <a:ext cx="7048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448160" y="4419720"/>
            <a:ext cx="638280" cy="142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3562200" y="4467240"/>
            <a:ext cx="6382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448160" y="4648320"/>
            <a:ext cx="590400" cy="1807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3714840" y="4695840"/>
            <a:ext cx="49536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4438800" y="4857840"/>
            <a:ext cx="52380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3753000" y="4838760"/>
            <a:ext cx="476280" cy="17136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857840" y="4181400"/>
            <a:ext cx="314280" cy="38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705200" y="4257720"/>
            <a:ext cx="400320" cy="1522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3790800" y="4143240"/>
            <a:ext cx="276480" cy="1717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705120" y="4438800"/>
            <a:ext cx="16200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724200" y="4533840"/>
            <a:ext cx="343080" cy="856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3543480" y="4657680"/>
            <a:ext cx="18072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714840" y="4734000"/>
            <a:ext cx="18072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3867120" y="4762440"/>
            <a:ext cx="200160" cy="1047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3971880" y="4915080"/>
            <a:ext cx="104760" cy="1904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4629240" y="4943520"/>
            <a:ext cx="104760" cy="200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781520" y="4981680"/>
            <a:ext cx="266760" cy="190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4591080" y="4896000"/>
            <a:ext cx="228600" cy="93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4781520" y="4781520"/>
            <a:ext cx="380880" cy="16200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4905360" y="4705200"/>
            <a:ext cx="361800" cy="763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4753080" y="4524480"/>
            <a:ext cx="323640" cy="1429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5000760" y="4486320"/>
            <a:ext cx="161640" cy="572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4600440" y="4429080"/>
            <a:ext cx="26676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uclaro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2373480" y="1900080"/>
            <a:ext cx="4400280" cy="3522960"/>
          </a:xfrm>
          <a:prstGeom prst="pie">
            <a:avLst/>
          </a:pr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52960" y="1900080"/>
            <a:ext cx="212400" cy="237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3333600" y="1434960"/>
            <a:ext cx="61920" cy="2262240"/>
          </a:xfrm>
          <a:prstGeom prst="pi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3252960" y="4206960"/>
            <a:ext cx="212400" cy="698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3252960" y="4121280"/>
            <a:ext cx="212400" cy="85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3252960" y="4049640"/>
            <a:ext cx="212400" cy="716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252960" y="3959280"/>
            <a:ext cx="212400" cy="9036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3252960" y="3925800"/>
            <a:ext cx="212400" cy="33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3252960" y="3697200"/>
            <a:ext cx="212400" cy="22860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9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252960" y="3697200"/>
            <a:ext cx="21240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4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5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4273560" y="5484960"/>
            <a:ext cx="909720" cy="87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8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9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4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5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9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5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6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3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1143000" y="1295280"/>
            <a:ext cx="6651720" cy="50529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800520" y="1324080"/>
            <a:ext cx="250920" cy="4698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881520" y="331920"/>
            <a:ext cx="88920" cy="5734080"/>
          </a:xfrm>
          <a:prstGeom prst="pie">
            <a:avLst/>
          </a:pr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3868560" y="2093760"/>
            <a:ext cx="149400" cy="38592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3868560" y="324972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"/>
          <p:cNvSpPr/>
          <p:nvPr/>
        </p:nvSpPr>
        <p:spPr>
          <a:xfrm>
            <a:off x="3868560" y="438768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6"/>
          <p:cNvSpPr/>
          <p:nvPr/>
        </p:nvSpPr>
        <p:spPr>
          <a:xfrm>
            <a:off x="3868560" y="5313240"/>
            <a:ext cx="135000" cy="28260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8"/>
          <p:cNvSpPr/>
          <p:nvPr/>
        </p:nvSpPr>
        <p:spPr>
          <a:xfrm>
            <a:off x="3916440" y="289080"/>
            <a:ext cx="33120" cy="474948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3881520" y="4046400"/>
            <a:ext cx="101520" cy="2574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1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>
            <a:off x="3902040" y="4824360"/>
            <a:ext cx="81000" cy="2318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3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4"/>
          <p:cNvSpPr/>
          <p:nvPr/>
        </p:nvSpPr>
        <p:spPr>
          <a:xfrm>
            <a:off x="3970440" y="4260960"/>
            <a:ext cx="269640" cy="126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3632040" y="4303800"/>
            <a:ext cx="270000" cy="83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6"/>
          <p:cNvSpPr/>
          <p:nvPr/>
        </p:nvSpPr>
        <p:spPr>
          <a:xfrm>
            <a:off x="3543480" y="4670280"/>
            <a:ext cx="338040" cy="86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3970440" y="4697280"/>
            <a:ext cx="352440" cy="101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8"/>
          <p:cNvSpPr/>
          <p:nvPr/>
        </p:nvSpPr>
        <p:spPr>
          <a:xfrm>
            <a:off x="3578400" y="4387680"/>
            <a:ext cx="323640" cy="113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17960" y="4559400"/>
            <a:ext cx="27000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003560" y="4387680"/>
            <a:ext cx="319320" cy="7020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31"/>
          <p:cNvSpPr/>
          <p:nvPr/>
        </p:nvSpPr>
        <p:spPr>
          <a:xfrm>
            <a:off x="3495600" y="4559400"/>
            <a:ext cx="37296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toro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611360" y="3468600"/>
            <a:ext cx="5946840" cy="36360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616040" y="2871720"/>
            <a:ext cx="3952800" cy="1969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1616040" y="3090960"/>
            <a:ext cx="395280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5568840" y="2876400"/>
            <a:ext cx="592200" cy="2145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5584680" y="3090960"/>
            <a:ext cx="55404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HUGO</cp:lastModifiedBy>
  <cp:lastPrinted>2000-12-13T02:37:39Z</cp:lastPrinted>
  <dcterms:modified xsi:type="dcterms:W3CDTF">2009-10-14T09:56:43Z</dcterms:modified>
  <cp:revision>17</cp:revision>
  <dc:subject/>
  <dc:title>LAS INYECCIONES DE CEMENTO</dc:title>
</cp:coreProperties>
</file>