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F62-AA4B-408C-AF95-77CDD9D7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20F-B02F-435E-AA09-D72C999E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89C-50F8-49E6-9BFB-272FD692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EA6-3B58-46E8-B517-1AD644CE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E64-B354-448F-BF3C-A8C13546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B0D-5B7A-43BB-9D27-EC4C09EA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B9C-B91C-4997-8180-43393D4B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AF9-BEC5-4563-958C-CBFF8591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6D9-083E-4170-98B5-D25E27CE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DF6-DCDA-4D5E-A10C-8214D0D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C25-B91F-4A3E-9123-133681A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E0B-8BC0-49F8-A1FA-623ED4FB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1BBD-121A-420F-AF24-C963557A08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381400" y="274680"/>
            <a:ext cx="438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9640" y="62064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de presiones de contacto resultante será un trapecio y los valores extremos de dichas pres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1 = (V/b) (1 –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2 = (V/b) (1 +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resultante cae fuera del tercio central:  e &gt; b/6; en este caso la presión de contacto tendrá una distribución triangular y valdrá bajo la arista más carg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2’ = 2 V / (3 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u = b/2 - 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ayor valor de la presión de contacto se producirá siempre en la arista más próxima a la ubicación de la resultante y por lo tanto si ésta se ubicare hacia la mitad de aguas arriba será necesario intercambiar P1 y P2 en las ecuacione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701080" y="691560"/>
            <a:ext cx="36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O DE LA ESTABILIDAD DE UNA 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124000" y="1625760"/>
            <a:ext cx="4969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2379600"/>
            <a:ext cx="8604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179280" y="836640"/>
            <a:ext cx="8640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A GRAVITACIONAL DE HORMIGON CON PARAMEN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S SOLIC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9"/>
          <p:cNvGraphicFramePr/>
          <p:nvPr/>
        </p:nvGraphicFramePr>
        <p:xfrm>
          <a:off x="1866960" y="1962000"/>
          <a:ext cx="541188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62000"/>
                    <a:ext cx="54118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1"/>
          <p:cNvSpPr/>
          <p:nvPr/>
        </p:nvSpPr>
        <p:spPr>
          <a:xfrm>
            <a:off x="1868760" y="1794600"/>
            <a:ext cx="266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403280" y="692280"/>
            <a:ext cx="62643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onsideran las siguientes fuerzas solici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 hidrostátic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h = 1/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fuerzo dinámico del agua en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aramento vertical, según Westergaard, si se considera el agua incompresible, la fuerza dinámica adicional será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d = 7/1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coeficiente de aceleración horizontal y h es la altura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186840"/>
            <a:ext cx="8599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 de la estructura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onsidera tanto el peso del hormigón como la super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ón del sismo sobre la 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horizont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h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vertic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v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considera que existe una cortina de drenaje efectiva, la subpresión será la resultante de aplicar los siguiente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inferior aguas arriba de la presa será igual a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de la base de la presa en que cruza la cortina de drenaje, la presión a considerar sea igual a 1/3 de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68360" y="62064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se indican los siguientes criterios de diseño para el análisis de la estabilidad de la 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Aguas máximas sin s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Aguas normales más sismo horizontal hacia aguas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sismo vertical a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mínimas más sismo horizontal hacia agua arriba más sismo vertical descendente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58920" y="189000"/>
            <a:ext cx="55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CIONES DE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 al desli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86108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87280" y="242100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 = suma de fuerza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 = suma de fuerzas 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 =  sub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58920" y="4941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332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404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 de corte y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32144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2421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coeficiente de fricción (usualmente igual a 0,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sección de la superficie ba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resistencia unitaria al corte uni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 &gt;= 5  en roc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 &gt;= 2  en roca blanda o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5640" y="98100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uridad al vol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r = Suma de momentos res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v = Suma de momentos volc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= Factor de seguri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 = Mr/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&gt;= 1,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765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ones de la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  = suma de las componentes verticales de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 = suma de los momentos de las fuerz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ntes en torno al punto medio de 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  = ancho de la base del m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centricidad de la resultante, en valor absoluto val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 valor absoluto de M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8:36Z</dcterms:created>
  <dc:creator>Fernando Echeverria</dc:creator>
  <dc:description/>
  <dc:language>en-US</dc:language>
  <cp:lastModifiedBy>HUGO</cp:lastModifiedBy>
  <dcterms:modified xsi:type="dcterms:W3CDTF">2009-10-04T00:27:59Z</dcterms:modified>
  <cp:revision>7</cp:revision>
  <dc:subject/>
  <dc:title>Slide 1</dc:title>
</cp:coreProperties>
</file>