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04C-123B-4BA1-9D5D-94FF4EA7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F10-A3E7-4AE5-869B-72403766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228-15F6-432C-8CCB-B1AC2247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5B7-EFB4-4205-96D9-460EA2C1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646-0159-4855-B044-6CC605CD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331-5FDE-4ED5-94EE-236FD073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CBA-FB03-4431-9EB4-C868488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C2D-2C1A-4A58-9EBF-BD51178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E2D-E6B3-402F-BBCC-491A0319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A87-113A-4D8D-8ACA-77AED204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AA5-BD0C-453F-B63B-DA477CA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720-1930-455D-BD2B-EA236FE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60AB-EF70-4513-BA63-6A0E78C504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2381400" y="274680"/>
            <a:ext cx="43812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39640" y="620640"/>
            <a:ext cx="83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agrama de presiones de contacto resultante será un trapecio y los valores extremos de dichas presiones se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1 = (V/b) (1 –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2 = (V/b) (1 + 6 (e/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resultante cae fuera del tercio central:  e &gt; b/6; en este caso la presión de contacto tendrá una distribución triangular y valdrá bajo la arista más carg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2’ = 2 V / (3 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u = b/2 - 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ayor valor de la presión de contacto se producirá siempre en la arista más próxima a la ubicación de la resultante y por lo tanto si ésta se ubicare hacia la mitad de aguas arriba será necesario intercambiar P1 y P2 en las ecuacione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2701080" y="691560"/>
            <a:ext cx="368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O DE LA ESTABILIDAD DE UNA 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124000" y="1625760"/>
            <a:ext cx="496908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9640" y="2379600"/>
            <a:ext cx="86043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"/>
          <p:cNvSpPr/>
          <p:nvPr/>
        </p:nvSpPr>
        <p:spPr>
          <a:xfrm>
            <a:off x="179280" y="836640"/>
            <a:ext cx="8640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SA GRAVITACIONAL DE HORMIGON CON PARAMEN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ERZAS SOLIC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9"/>
          <p:cNvGraphicFramePr/>
          <p:nvPr/>
        </p:nvGraphicFramePr>
        <p:xfrm>
          <a:off x="1866960" y="1962000"/>
          <a:ext cx="5411880" cy="37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962000"/>
                    <a:ext cx="541188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11"/>
          <p:cNvSpPr/>
          <p:nvPr/>
        </p:nvSpPr>
        <p:spPr>
          <a:xfrm>
            <a:off x="1868760" y="1794600"/>
            <a:ext cx="2660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403280" y="692280"/>
            <a:ext cx="626436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onsideran las siguientes fuerzas solici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puje hidrostático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h = 1/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fuerzo dinámico del agua en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aramento vertical, según Westergaard, si se considera el agua incompresible, la fuerza dinámica adicional será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d = 7/12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coeficiente de aceleración horizontal y h es la altura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0920" y="186840"/>
            <a:ext cx="85993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o de la estructura 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considera tanto el peso del hormigón como la superestruct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ón del sismo sobre la 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horizont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h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h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mponente vertical será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v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 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e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considera que existe una cortina de drenaje efectiva, la subpresión será la resultante de aplicar los siguientes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inferior aguas arriba de la presa será igual a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punto de la base de la presa en que cruza la cortina de drenaje, la presión a considerar sea igual a 1/3 de la presión hidrost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468360" y="620640"/>
            <a:ext cx="835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se indican los siguientes criterios de diseño para el análisis de la estabilidad de la 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L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 Aguas máximas sin s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Aguas normales más sismo horizontal hacia aguas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s sismo vertical a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BALSE VAC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uas mínimas más sismo horizontal hacia agua arriba más sismo vertical descendente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1258920" y="189000"/>
            <a:ext cx="5545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IFICACIONES DE SEGU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uridad al desli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861080" cy="7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187280" y="2421000"/>
            <a:ext cx="55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 = suma de fuerza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 = suma de fuerzas verti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  =  sub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258920" y="494172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7332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19280" y="404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iterio de corte y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4321440" cy="904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900000" y="2421000"/>
            <a:ext cx="66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coeficiente de fricción (usualmente igual a 0,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sección de la superficie ba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 resistencia unitaria al corte unitar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 &gt;= 5  en roca s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 &gt;= 2  en roca blanda o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755640" y="98100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uridad al vol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r = Suma de momentos res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v = Suma de momentos volc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= Factor de segurida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 = Mr/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v &gt;= 1,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9640" y="765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ones de la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ac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V  = suma de las componentes verticales de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r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  = suma de los momentos de las fuerz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uantes en torno al punto medio de l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  = ancho de la base del m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centricidad de la resultante, en valor absoluto val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=  valor absoluto de M/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2:18:36Z</dcterms:created>
  <dc:creator>Fernando Echeverria</dc:creator>
  <dc:description/>
  <dc:language>en-US</dc:language>
  <cp:lastModifiedBy>HUGO</cp:lastModifiedBy>
  <dcterms:modified xsi:type="dcterms:W3CDTF">2009-10-04T00:27:59Z</dcterms:modified>
  <cp:revision>7</cp:revision>
  <dc:subject/>
  <dc:title>Slide 1</dc:title>
</cp:coreProperties>
</file>