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7EC-5CA8-40AD-9B30-22D17E04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8A8-167F-4C15-A8D9-6D51918A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691-439C-4ED9-AFC5-AD1A89CC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F27-6D9A-4657-B43A-1C2EFC65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CA7-498C-4555-816E-8A2B84FC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A686-3AC7-4E74-87B9-09BA490D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76E1-DC8D-4314-B2A9-34E8F68A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1F1A-BD2A-41B5-A455-252024FD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4C3-8F2A-4160-956F-C8086C1C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815F-531D-4954-ADEA-4C116479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029-C9E3-4CA2-8A40-6DAE87F3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49E-AA63-45DA-930E-2BDC0DAD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9982-6C07-421B-BBDB-FC7F2C6B023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2381400" y="274680"/>
            <a:ext cx="43812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539640" y="620640"/>
            <a:ext cx="8353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iagrama de presiones de contacto resultante será un trapecio y los valores extremos de dichas presiones será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1 = (V/b) (1 – 6 (e/b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2 = (V/b) (1 + 6 (e/b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la resultante cae fuera del tercio central:  e &gt; b/6; en este caso la presión de contacto tendrá una distribución triangular y valdrá bajo la arista más carg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2’ = 2 V / (3 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que  u = b/2 - 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mayor valor de la presión de contacto se producirá siempre en la arista más próxima a la ubicación de la resultante y por lo tanto si ésta se ubicare hacia la mitad de aguas arriba será necesario intercambiar P1 y P2 en las ecuacione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2701080" y="691560"/>
            <a:ext cx="368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O DE LA ESTABILIDAD DE UNA PR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124000" y="1625760"/>
            <a:ext cx="496908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9640" y="2379600"/>
            <a:ext cx="860436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"/>
          <p:cNvSpPr/>
          <p:nvPr/>
        </p:nvSpPr>
        <p:spPr>
          <a:xfrm>
            <a:off x="179280" y="836640"/>
            <a:ext cx="8640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SA GRAVITACIONAL DE HORMIGON CON PARAMENTO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UERZAS SOLIC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9"/>
          <p:cNvGraphicFramePr/>
          <p:nvPr/>
        </p:nvGraphicFramePr>
        <p:xfrm>
          <a:off x="1866960" y="1962000"/>
          <a:ext cx="5411880" cy="379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962000"/>
                    <a:ext cx="5411880" cy="37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Rectangle 11"/>
          <p:cNvSpPr/>
          <p:nvPr/>
        </p:nvSpPr>
        <p:spPr>
          <a:xfrm>
            <a:off x="1868760" y="1794600"/>
            <a:ext cx="2660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403280" y="692280"/>
            <a:ext cx="626436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consideran las siguientes fuerzas solicit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mpuje hidrostático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h = 1/2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fuerzo dinámico del agua en un s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un paramento vertical, según Westergaard, si se considera el agua incompresible, la fuerza dinámica adicional será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d = 7/12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el coeficiente de aceleración horizontal y h es la altura del a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250920" y="186840"/>
            <a:ext cx="8599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so de la estructura 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considera tanto el peso del hormigón como la superestru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ción del sismo sobre la 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omponente horizontal será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h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h 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omponente vertical será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v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 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bpr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e considera que existe una cortina de drenaje efectiva, la subpresión será la resultante de aplicar los siguientes crite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punto inferior aguas arriba de la presa será igual a la presión hidrost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punto de la base de la presa en que cruza la cortina de drenaje, la presión a considerar sea igual a 1/3 de la presión hidrost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468360" y="620640"/>
            <a:ext cx="835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ITERIOS DE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continuación se indican los siguientes criterios de diseño para el análisis de la estabilidad de la 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MBALSE LL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Aguas máximas sin s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Aguas normales más sismo horizontal hacia aguas 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ás sismo vertical ascen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MBALSE VAC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guas mínimas más sismo horizontal hacia agua arriba más sismo vertical descendente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258920" y="189000"/>
            <a:ext cx="5545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IFICACIONES DE SEG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uridad al desli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4861080" cy="763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187280" y="2421000"/>
            <a:ext cx="55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 = suma de fuerzas horizo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 = suma de fuerzas verti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  =  sub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258920" y="494172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"/>
          <p:cNvPicPr/>
          <p:nvPr/>
        </p:nvPicPr>
        <p:blipFill>
          <a:blip r:embed="rId2"/>
          <a:stretch/>
        </p:blipFill>
        <p:spPr>
          <a:xfrm>
            <a:off x="971640" y="3860640"/>
            <a:ext cx="73324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619280" y="404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iterio de corte y fri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4321440" cy="904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900000" y="2421000"/>
            <a:ext cx="66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que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coeficiente de fricción (usualmente igual a 0,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= sección de la superficie ba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= resistencia unitaria al corte unita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 &gt;= 5  en roca s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 &gt;= 2  en roca blanda o su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55640" y="981000"/>
            <a:ext cx="734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guridad al vol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r = Suma de momentos resist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v = Suma de momentos volc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v = Factor de segurida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v  = Mr/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v &gt;= 1,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39640" y="765000"/>
            <a:ext cx="81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cciones de la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cción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V  = suma de las componentes verticales de 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er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  = suma de los momentos de las fuerz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uantes en torno al punto medio de l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  = ancho de la base del m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xcentricidad de la resultante, en valor absoluto val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=  valor absoluto de M/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22:18:36Z</dcterms:created>
  <dc:creator>Fernando Echeverria</dc:creator>
  <dc:description/>
  <dc:language>en-US</dc:language>
  <cp:lastModifiedBy>HUGO</cp:lastModifiedBy>
  <dcterms:modified xsi:type="dcterms:W3CDTF">2009-10-04T00:27:59Z</dcterms:modified>
  <cp:revision>7</cp:revision>
  <dc:subject/>
  <dc:title>Slide 1</dc:title>
</cp:coreProperties>
</file>