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92D-DBC0-4B81-8A60-47A93A93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595-3E02-4AF6-9907-25E12B34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3B1-E0D8-4FCA-A89A-81AFF795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1CD-5680-4713-A61A-E6CB6A05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5EB-0280-4585-8AFE-9AAD9E1C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89E-90A2-455B-AF9F-0C99BAF0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F03-E96F-42B7-A331-2777874B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119-D3FC-4DE1-AB0A-67463FBF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C09-1122-45F6-A379-11E005C3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9D1-9C19-46C3-A062-1C57CF86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8E5-52AE-477B-B5F6-55A9B17E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E13-143C-410D-B1E9-519D9D04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5E94-B7E0-4BF6-9FF6-8DAD1AA9EC1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Line 6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6095880" y="1143000"/>
            <a:ext cx="2133720" cy="1600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6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6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9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Text Box 10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Text Box 14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Text Box 16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4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Text Box 6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Text Box 10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Text Box 7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6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9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Text Box 6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Rectangle 5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7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Text Box 6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Text Box 5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Text Box 5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Text Box 7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Text Box 6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Text Box 8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Text Box 4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Text Box 7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026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27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28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29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30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31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32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33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2819520" y="2514600"/>
            <a:ext cx="3581280" cy="3200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2362320" y="3048120"/>
            <a:ext cx="4952880" cy="2133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2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6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1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Line 7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7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6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2057400" y="1752480"/>
            <a:ext cx="3581280" cy="2667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2057400" y="1752480"/>
            <a:ext cx="2286000" cy="2133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6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3"/>
          <p:cNvSpPr/>
          <p:nvPr/>
        </p:nvSpPr>
        <p:spPr>
          <a:xfrm>
            <a:off x="2057400" y="1752480"/>
            <a:ext cx="1523880" cy="289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4"/>
          <p:cNvSpPr/>
          <p:nvPr/>
        </p:nvSpPr>
        <p:spPr>
          <a:xfrm>
            <a:off x="2057400" y="1828800"/>
            <a:ext cx="1219320" cy="274320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2057400" y="1752480"/>
            <a:ext cx="274320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6"/>
          <p:cNvSpPr/>
          <p:nvPr/>
        </p:nvSpPr>
        <p:spPr>
          <a:xfrm>
            <a:off x="2057400" y="1676520"/>
            <a:ext cx="2514600" cy="335268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7"/>
          <p:cNvSpPr/>
          <p:nvPr/>
        </p:nvSpPr>
        <p:spPr>
          <a:xfrm>
            <a:off x="2057400" y="1981080"/>
            <a:ext cx="487692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18"/>
          <p:cNvSpPr/>
          <p:nvPr/>
        </p:nvSpPr>
        <p:spPr>
          <a:xfrm>
            <a:off x="2057400" y="2895480"/>
            <a:ext cx="5410080" cy="24386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9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1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026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9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2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15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7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2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6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7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8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9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30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1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33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34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7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8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9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0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41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2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3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46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Text Box 7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9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 Box 11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Text Box 8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6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 muñoz</cp:lastModifiedBy>
  <dcterms:modified xsi:type="dcterms:W3CDTF">2009-10-05T13:34:01Z</dcterms:modified>
  <cp:revision>55</cp:revision>
  <dc:subject/>
  <dc:title>Sin título de diapositiva</dc:title>
</cp:coreProperties>
</file>