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77E-41C5-4A97-9C29-F628D7F8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64E-8A8E-4793-9A59-A149C152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623A-779A-43B0-9460-B1CE8383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610B-ADEC-4403-9D87-EFFAD147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8C0-54EC-4178-8DBA-5934E488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265-9920-463E-B3C9-B42B0131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748-72C8-4AA2-B4CA-F8200A09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04B-8D6F-421F-94B5-439A0199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A416-190B-4782-AADA-9D981680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008-2173-41A3-A5CC-BABB791F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EDC6-1FCF-432D-92D5-4E8896FA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988-F524-449B-A698-3EAE54F6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3FF0-E55F-428A-AF48-53426F261EB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1051200"/>
            <a:ext cx="756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os de Oferta.   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stemas cíclicos: simple, con carga de retorno, general; los casos  t(k). Teoría de la circulación: el problema t(q), diagrama espacio-tiempo. Variables y relaciones: flujo, velocidad, concentración; capacidad de medios fijos. Función de transporte con demanda endógena: reglas de operación y nivel de servicio; capacidad y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Line 6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8"/>
          <p:cNvSpPr/>
          <p:nvPr/>
        </p:nvSpPr>
        <p:spPr>
          <a:xfrm>
            <a:off x="6095880" y="1143000"/>
            <a:ext cx="2133720" cy="1600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4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6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2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6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9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Text Box 10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Text Box 14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Text Box 16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4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Text Box 6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Text Box 10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Text Box 7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0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2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6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7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9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1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7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8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9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Text Box 6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Rectangle 5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Rectangle 7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713320" y="119772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95280" y="2261160"/>
            <a:ext cx="85122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La tecnología de trans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X,Y)&gt;= 0 (función de transfor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: Demanda (vector de flujos OD, periodo, mo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: Insumos (vías, terminales, vehículo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ombino los X para producir Y en forma ópt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Text Box 6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04920" y="3559320"/>
            <a:ext cx="8686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1 a la id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Text Box 5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685800" y="685800"/>
            <a:ext cx="79246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[hora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. Vmax=10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. Vmax=5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Text Box 5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Text Box 5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Text Box 7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Text Box 6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Text Box 8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Text Box 4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Text Box 7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026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27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028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029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30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031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32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33"/>
          <p:cNvSpPr/>
          <p:nvPr/>
        </p:nvSpPr>
        <p:spPr>
          <a:xfrm>
            <a:off x="3132000" y="3573360"/>
            <a:ext cx="540072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7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34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Comic Sans MS"/>
              </a:rPr>
              <a:t>La función de oferta de las v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5640" y="3644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5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8"/>
          <p:cNvSpPr/>
          <p:nvPr/>
        </p:nvSpPr>
        <p:spPr>
          <a:xfrm>
            <a:off x="2819520" y="2514600"/>
            <a:ext cx="3581280" cy="3200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9"/>
          <p:cNvSpPr/>
          <p:nvPr/>
        </p:nvSpPr>
        <p:spPr>
          <a:xfrm>
            <a:off x="2362320" y="3048120"/>
            <a:ext cx="4952880" cy="2133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2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6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1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500"/>
                            </p:stCondLst>
                            <p:childTnLst>
                              <p:par>
                                <p:cTn id="1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Line 7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Line 7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6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7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14"/>
          <p:cNvSpPr/>
          <p:nvPr/>
        </p:nvSpPr>
        <p:spPr>
          <a:xfrm>
            <a:off x="2057400" y="1752480"/>
            <a:ext cx="3581280" cy="2667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5"/>
          <p:cNvSpPr/>
          <p:nvPr/>
        </p:nvSpPr>
        <p:spPr>
          <a:xfrm>
            <a:off x="2057400" y="1752480"/>
            <a:ext cx="2286000" cy="2133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6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7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13"/>
          <p:cNvSpPr/>
          <p:nvPr/>
        </p:nvSpPr>
        <p:spPr>
          <a:xfrm>
            <a:off x="2057400" y="1752480"/>
            <a:ext cx="1523880" cy="2895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4"/>
          <p:cNvSpPr/>
          <p:nvPr/>
        </p:nvSpPr>
        <p:spPr>
          <a:xfrm>
            <a:off x="2057400" y="1828800"/>
            <a:ext cx="1219320" cy="274320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2057400" y="1752480"/>
            <a:ext cx="2743200" cy="327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16"/>
          <p:cNvSpPr/>
          <p:nvPr/>
        </p:nvSpPr>
        <p:spPr>
          <a:xfrm>
            <a:off x="2057400" y="1676520"/>
            <a:ext cx="2514600" cy="335268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17"/>
          <p:cNvSpPr/>
          <p:nvPr/>
        </p:nvSpPr>
        <p:spPr>
          <a:xfrm>
            <a:off x="2057400" y="1981080"/>
            <a:ext cx="4876920" cy="327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18"/>
          <p:cNvSpPr/>
          <p:nvPr/>
        </p:nvSpPr>
        <p:spPr>
          <a:xfrm>
            <a:off x="2057400" y="2895480"/>
            <a:ext cx="5410080" cy="24386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9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21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4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6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7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500"/>
                            </p:stCondLst>
                            <p:childTnLst>
                              <p:par>
                                <p:cTn id="2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026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27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29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ntidad realmente cargada e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2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15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9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Line 2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3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0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7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2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3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6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7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8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9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30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31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33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34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5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6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37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8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9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0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41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42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43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46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Text Box 7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9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Text Box 11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Text Box 8"/>
          <p:cNvSpPr/>
          <p:nvPr/>
        </p:nvSpPr>
        <p:spPr>
          <a:xfrm>
            <a:off x="533520" y="55598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1443600"/>
            <a:ext cx="8591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rivaciones a partir de la función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Text Box 6"/>
          <p:cNvSpPr/>
          <p:nvPr/>
        </p:nvSpPr>
        <p:spPr>
          <a:xfrm>
            <a:off x="304920" y="4104000"/>
            <a:ext cx="8534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ustitución entre número de vehículos y capacidad de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 muñoz</cp:lastModifiedBy>
  <dcterms:modified xsi:type="dcterms:W3CDTF">2009-10-05T13:34:01Z</dcterms:modified>
  <cp:revision>55</cp:revision>
  <dc:subject/>
  <dc:title>Sin título de diapositiva</dc:title>
</cp:coreProperties>
</file>