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B0A3-5A96-4047-98DE-B51CE215045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99F8-F411-498D-B7A3-4AD3F9BAAF9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E159-E345-4C98-A610-7A99FE68235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E482-3A89-4883-9D68-83499D111B1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E615-A0E9-47E6-9940-AC28A9E1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A4BA-786B-49BA-8446-B2B13E02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936D-AEBE-4A23-9E3E-486ABE0A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5AA1-3535-4B68-9E20-17D4324E9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DC65-9EAB-447B-98D4-32E49B5B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3515-1975-405F-8537-F3925357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401A-80EB-43AF-A196-2F6822AE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2679-6A40-4C2D-AA46-58A02D98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A9D5-FB1D-4103-9355-12F947CB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4675-25C6-4023-A3D6-66028D5B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3BCC-0D58-4079-8FF8-230D2A67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C44F-85DA-4770-AA55-77A5C315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81FE-C6C9-4E18-A527-1E695AAC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43DE-2BDB-4C55-990E-A3064381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8EB9-2DF1-4D8E-8475-C9E6D3B3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6D76-7137-4619-A828-272FE8D85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5E00-A73A-4260-833D-B0E0C14D7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21C58-4D4B-469B-94A3-E01C27DC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65B44-B4FA-42CE-BEE3-93C72FE2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6C71F-0FEC-4A0A-8D61-920F63A5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0E3E5-F953-4C75-8BFE-8E44AFEA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577D9-A950-4667-9752-1F0EB00F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2BF5-A093-4848-9558-71AFAAB7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E3BEC-8302-4EA8-B954-6A712D11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9A62E-CA81-4113-B3E9-4AE144DA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425B0-C456-4EFA-84A5-85EC347E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D386F-6A05-4084-BC47-7BEE4D74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23EB4-B070-4EAE-8186-73C1F2F8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5714A-24DD-414E-8609-85F3CB4C2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08856-F692-4119-8F32-6065EA9B0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71FFA-19E0-48B9-AB0F-720D6FF20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1FE73-84FA-40B1-B061-00D5EBE6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2382A-226E-483D-AD74-C5BD9C7B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20A0-EE10-4983-A4B8-64B98D58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19400-877D-4AE4-B2E1-D5F13EC2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453FD-61E9-4ED0-85B6-3F37B32D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6AA7E-C169-468C-8BA2-19809A82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DB6DF-EA80-4894-AD4F-4D8A16FB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3F2A8-6C06-4F49-A5B3-A4427D39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10A6B-838F-43E6-875E-47B25649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E8180-8D46-4F44-9095-DBC33EE0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7BB06-6067-4ED6-9791-2355C71BD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DB116-0F7F-4A45-9717-2570C8892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1C698-BDCE-4D5E-9905-955DA9C6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DD96-B8F8-4875-94BA-477FD02A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F56A5-0285-4C5C-A757-50BFCF9A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88B05-A6E3-4FC1-A800-3D262E8A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1500B-167C-4581-A9F2-31CC294F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929DE-2B71-4566-B335-56CE2E36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3F2DF-3978-439A-8333-1F8D16E7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9C65A-DEE7-47AC-9148-B59CC58C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C2316-0F39-4F59-BB62-3913867A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C7B88-281D-4EFB-85A1-795C2FD3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E1F83-C005-47D5-A4B6-C1A536BA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CB087-E202-4EDB-9168-97BCE741F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6570-9598-4668-B66D-6B7C67AE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4A73C-8364-4564-B433-2B95A499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6740A-03A8-491F-892B-EB05993B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6F3C7-921D-460C-A466-A2476613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4CAAE-B164-451C-B052-17BBCC6A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6908F-4085-4B3E-A1B6-7F28395D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1FB49-3015-41C9-ADE2-A7E579CD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A0E1D-BC68-459B-A4DD-A2F957B3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EE0E4-279C-4185-95F0-528265C3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2D1A7-3072-4C97-9C4F-E76BD110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FBD69-CF08-4301-8882-0BFE9A46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10D7-DEDD-4593-9379-63FCDA66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DAA7D-2958-4ECE-A3DB-D2BA5BCC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5EC5C-0F57-40F5-9BDD-BCAD9A261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A64AB-CE13-426C-8FAE-7B8D9A634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D5241-92AB-4F0C-AA7A-01BAEC70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F1964-B233-4126-B515-64D3D7CC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10BAB-6EF7-4674-87BF-00B5517C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4E7A0-4A8C-4A72-8697-AD7D7964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D2361-BC9C-4552-9195-BFB7821B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8008E-736A-4FC5-A420-9ED95DDF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65333-50A4-4E01-BDD2-86ADB807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DBF5-3805-4A38-B4CB-DEEEC30C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CF30D-92E0-4469-BB86-0E790947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52CEC-5163-4F6C-9A7F-BE7C0F85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B31D7-7820-4F82-B615-A96233B8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8FE96-0D88-433F-A07C-35ED7FE3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35C63-94ED-445A-962D-C686CF9A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A574-E576-45FA-B551-80322AD5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8E65-B905-479E-B70B-DEC62182A690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3F15-6F5C-49DF-91AF-ABC2B26BF86E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C5B8-91EF-4763-B4A1-B589A5A55FCD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48C1-BCC4-4775-84AE-4FF801577BB0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3062-47A9-4E37-9F96-9E583EC9D95A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3EED-9E58-48DB-8D72-D3D82C785966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C109-508E-42C2-9C2F-D112A7462B3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7 CI43A/IN640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35720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Partición Modal: Modelo Logit Multinomi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 Explorar propiedades del modelo.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 Calcular elasticidades, hacer un análisis de resultados e interpreta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Calcular la elasticidad cruzada de la probabilidad de elegir auto chofer con respecto al tiempo generalizado del bu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Realice el mismo cálculo pero con respecto al costo del bus y con respecto al costo del metr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ara evaluar las elasticidades utilice una estimación de los valores promedio para las distintas variabl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Tenga en consideración que los modelos están calibrados para el año 2001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i es necesario haga los cálculos para los cinco estratos existent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Haga un análisis detallado de los resultados de las elasticidades y de las elasticidades cruzada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Interprete y saque conclusiones de acuerdo al análisis realizad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ara desarrollar estas actividades es fundamental hacer una buena comparación de las elasticidad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116000" y="16282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7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cálcul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 la nota del taller se considera puntaje por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 partir de los datos obtenidos de la encuesta Origen-Destino 2001 se calibraron modelos de partición modal para la ciudad de Santiag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La población fue estratificada en 5 categorías de ingreso cuya segmentación es la siguient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" name="Picture 5" descr=""/>
          <p:cNvPicPr/>
          <p:nvPr/>
        </p:nvPicPr>
        <p:blipFill>
          <a:blip r:embed="rId1"/>
          <a:stretch/>
        </p:blipFill>
        <p:spPr>
          <a:xfrm>
            <a:off x="1268280" y="3857760"/>
            <a:ext cx="76042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A continuación se detalla el modelo correspondiente al propósito trabajo y período punta mañana y también se muestra la partición modal observada de la encuest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La notación utilizada 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M: punta mañan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FP: fuera de punt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Las variables son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1928880" y="2214720"/>
            <a:ext cx="61675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1714680" y="1214280"/>
            <a:ext cx="55004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2 Marcador de contenido"/>
          <p:cNvSpPr/>
          <p:nvPr/>
        </p:nvSpPr>
        <p:spPr>
          <a:xfrm>
            <a:off x="1285920" y="4786200"/>
            <a:ext cx="73580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1143000" y="1500120"/>
            <a:ext cx="75009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2714760" y="1071720"/>
            <a:ext cx="52038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1"/>
          <a:stretch/>
        </p:blipFill>
        <p:spPr>
          <a:xfrm>
            <a:off x="2000160" y="1176480"/>
            <a:ext cx="686268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alcular la elasticidad de la probabilidad de elegir un modo con respecto a la variable costo del mismo modo y la variable tiempo generalizado del mismo modo. Esto debe realizarse para todos los modos posibl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alcular la elasticidad cruzada de la probabilidad de elegir bus con respecto al costo del metro y con respecto al tiempo generalizado del metro y del automóvil (auto chofer y auto acompañant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9-10-02T17:43:26Z</dcterms:modified>
  <cp:revision>80</cp:revision>
  <dc:subject/>
  <dc:title>Taller I CI43A</dc:title>
</cp:coreProperties>
</file>