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DBA84-7B54-48F5-BEFA-71E329EA7D7E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D200E-835F-457C-A4E4-29402B7DB94B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7A530-BE3D-40AD-B0E1-C9CF79E70191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1F93B-8ABC-42E6-B251-5761A2602560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82B64-992B-4D57-A1BC-B54B60301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80E95-269D-4586-8E0F-5C3545988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CB1E4-0EEA-43A3-B0CF-6AC51F541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91278-7B32-48F8-8FEA-7D446D83F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D5214-1007-48EE-9A1F-928342070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68959-B2AC-4B0B-A7D3-9D7B03CF4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93746-FE47-45F6-94E1-8E618A8F6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767BA-5F61-4660-B6DB-D478A4255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17004-3416-4AD3-9064-461C56542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3DD16-2DB1-425E-8979-F7FA679A3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7A3D2-5EDE-43B6-888A-B37EEEA5C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A1900-57BC-4391-AB15-E17DE851A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43510-C964-4375-9499-BF92B04DD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EEBCD-A163-49F3-B379-4B98DD2A2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9261A-103F-4C29-851A-D7CB1586D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9325C-98E9-429E-83E2-C4151B79F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6E08D-84E1-48AA-8908-822085266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A33A9D-72A3-454A-80D9-B4C10AFA0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E5606B-7F4A-4306-9A67-86451C51E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F666F0-C655-4725-8CD6-FAFABF1D5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F9B04E-938E-4E6D-8ADA-BEAF0892C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04D21C-1759-4C7C-9900-C790CC7C3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14EFE-448A-4FD9-B24A-6BB55D3BB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7B9139-55E8-43CC-AE90-38296576B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06AB75-F7B2-431D-AC11-BA2D8EF15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1D3BA6-E8BD-4C47-BFB8-7BE652C91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9F5C7B-D51B-4508-9F64-C63F5FC02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28AE02-5A72-4AF7-B427-717D8F658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5BD590-7BA1-4C5C-85DF-233CADDB0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EA129F-62C8-47E5-9E3B-1405F5825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E21FF9-429D-4F35-883E-8A9D1F4DA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229BE7-03DE-49D0-9E4C-2097F0E19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14E33A-4F8E-448D-B94E-1000D586C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9FEAF-C5B7-4429-AB82-0E6EB6C95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E87B71-B000-4104-ADBC-7711A72DB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B7DDD2-609B-4125-BA56-30B00A5AB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DD1DD4-5923-4BB6-A671-E3DBCD977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93F13E-28A0-4E7E-8BCC-A6A0A2F13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59F76C-9E67-46B6-956B-4D11D7701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AA72C8-32B7-4572-8354-2F0501B7D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1D0D42-52F8-45C3-A23E-D4253FEC0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9BCC43-1AA3-4926-B7F1-85CD84055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F1C38E-F495-4C8F-89B1-54B512BEA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3A715B-80BF-499A-8F82-EFCE2D00C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A5AA8-284D-4AC5-8658-CAE829B34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A83B3B-0301-4B52-87B8-44C0B2457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65BC4E-6FC3-4513-AB41-BD6A70B50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975DA5-4E38-4426-96C3-E5DD58755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1E514F-3C95-4A15-A032-F21042D3B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D5B523-E611-4798-8142-3F6282C0D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3F0156-CB7F-4FBF-96B7-3DC93F293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DE01EB-4924-4B3E-9464-D73A09ED1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490928-B500-4EDB-ADB3-700119854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C8D67F-FB70-402A-9209-01197B4FB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44D304-7D53-4D6C-936E-60149530B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0C8E8-2D8C-4CF1-835B-0D225A4C2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B2A9F9-009A-43E5-BE2E-14D0CB416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AC62CE-C887-4AB8-9DEA-BC83E688D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7C77CF-7E19-4E18-80BD-D4C39C000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171687-D58B-4F5E-89FB-09EA750A7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963AEE-B58E-4A53-9263-A9B5BA6B5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42FC13-B4E5-4D45-837A-FF5C159AC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237E23-5742-43BE-B501-2083F1EA6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0533E3-D035-49FC-BD97-949731F15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2D65C0-88AE-473F-9801-B54578177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99790A-124A-48B6-84D7-3CD92239C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0F101-41D7-4985-A361-6A6C846BA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704269-4DB8-4F82-893C-F76F15D29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4F808C-E5C2-4115-B980-184E3F6D4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EC1F9E-B483-4049-B310-8791AFC2D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3392C2-BF9E-4E41-8DA8-DF13BBDB1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96312C-FFB1-43A2-852E-8B2641CAD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A53645-EDDF-43DC-84ED-DDD3124E6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3F4546-1526-4D42-9E9E-A852049AF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45DB23-AA7F-438B-BB5B-B3FEFB7B6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2B44B2-22C0-4E87-8A1B-8697F70A9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760E80-EE37-4E4E-9C81-BB9F83AB2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C2C02-E816-43DB-AF40-9455D3112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CBE6FF-8562-4E00-B977-E1FD50102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A01685-F489-4DEC-86FF-49293A817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FD0E3B-B36A-4CD5-8715-5B8915055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563163-F6A2-44B3-ADEA-373BFCB83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573E97-6AFE-40E9-A625-9629FFFA0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0F7DC-43B2-4B6F-BEB5-8C0D0470E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Circular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7 Elipse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10 Anillo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10 Anillo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11 Rectángulo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4D7B5-F27B-42EE-BD14-EF40D39F416B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14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6 Circular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7 Elipse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10 Anillo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10 Anillo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11 Rectángulo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14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12 Elipse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12 Elipse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13 Elipse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CDE75-AAAE-42AF-83CC-F65E4F98BD46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12 Rectángulo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13 Rectángulo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15 Elipse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15 Elipse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16 Elipse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7A4D2-AAFA-43D2-B13F-2C1FE07D9191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3C61F-0141-4C66-8DBB-8E1ED7AD91EC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12 Rectángulo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13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469B2-1996-405B-9E36-A4FFC8EEA698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691A7-B14D-4826-8E63-C1FAD2E46816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12 Rectángulo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12 Rectángulo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13 Proceso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15 Proceso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EDBDE-0987-4820-9E0C-B54430D99274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288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572314"/>
                </a:solidFill>
                <a:latin typeface="Calibri"/>
                <a:ea typeface="Arial"/>
              </a:rPr>
              <a:t>Taller 7 CI43A/IN640</a:t>
            </a: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1357200" y="142848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spcAft>
                <a:spcPts val="601"/>
              </a:spcAft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spcAft>
                <a:spcPts val="601"/>
              </a:spcAft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Partición Modal: Modelo Logit Multinomia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spcAft>
                <a:spcPts val="601"/>
              </a:spcAft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spcAft>
                <a:spcPts val="601"/>
              </a:spcAft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spcAft>
                <a:spcPts val="601"/>
              </a:spcAft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Objetivo:  Explorar propiedades del modelo.</a:t>
            </a: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 Calcular elasticidades, hacer un análisis de resultados e interpretar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300" spc="-1" strike="noStrike">
                <a:solidFill>
                  <a:srgbClr val="572314"/>
                </a:solidFill>
                <a:latin typeface="Gill Sans MT"/>
              </a:rPr>
              <a:t>Actividad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ill Sans MT"/>
              </a:rPr>
              <a:t>Calcular la elasticidad cruzada de la probabilidad de elegir auto chofer con respecto al tiempo generalizado del bus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ill Sans MT"/>
              </a:rPr>
              <a:t>Realice el mismo cálculo pero con respecto al costo del bus y con respecto al costo del metro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300" spc="-1" strike="noStrike">
                <a:solidFill>
                  <a:srgbClr val="572314"/>
                </a:solidFill>
                <a:latin typeface="Gill Sans MT"/>
              </a:rPr>
              <a:t>Actividad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ill Sans MT"/>
              </a:rPr>
              <a:t>Para evaluar las elasticidades utilice una estimación de los valores promedio para las distintas variables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ill Sans MT"/>
              </a:rPr>
              <a:t>Tenga en consideración que los modelos están calibrados para el año 2001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ill Sans MT"/>
              </a:rPr>
              <a:t>Si es necesario haga los cálculos para los cinco estratos existentes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300" spc="-1" strike="noStrike">
                <a:solidFill>
                  <a:srgbClr val="572314"/>
                </a:solidFill>
                <a:latin typeface="Gill Sans MT"/>
              </a:rPr>
              <a:t>Actividad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ill Sans MT"/>
              </a:rPr>
              <a:t>Haga un análisis detallado de los resultados de las elasticidades y de las elasticidades cruzadas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ill Sans MT"/>
              </a:rPr>
              <a:t>Interprete y saque conclusiones de acuerdo al análisis realizado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ill Sans MT"/>
              </a:rPr>
              <a:t>Para desarrollar estas actividades es fundamental hacer una buena comparación de las elasticidades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300" spc="-1" strike="noStrike">
                <a:solidFill>
                  <a:srgbClr val="572314"/>
                </a:solidFill>
                <a:latin typeface="Gill Sans MT"/>
              </a:rPr>
              <a:t>Consideracion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1116000" y="162828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Se deben entregar los archivos con el siguiente formato: apellido1_apellido2.doc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Enviar al mail del curso: tallerci43a@gmail.com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Asunto: Taller n°7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Incluir un </a:t>
            </a:r>
            <a:r>
              <a:rPr b="1" lang="es-CL" sz="2400" spc="-1" strike="noStrike">
                <a:solidFill>
                  <a:srgbClr val="000000"/>
                </a:solidFill>
                <a:latin typeface="Gill Sans MT"/>
              </a:rPr>
              <a:t>breve informe </a:t>
            </a: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con el desarrollo del taller y un </a:t>
            </a:r>
            <a:r>
              <a:rPr b="1" lang="es-CL" sz="2400" spc="-1" strike="noStrike">
                <a:solidFill>
                  <a:srgbClr val="000000"/>
                </a:solidFill>
                <a:latin typeface="Gill Sans MT"/>
              </a:rPr>
              <a:t>archivo .xls </a:t>
            </a: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con los cálculos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En la nota del taller se considera puntaje por la presentación y orden de los archivos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300" spc="-1" strike="noStrike">
                <a:solidFill>
                  <a:srgbClr val="572314"/>
                </a:solidFill>
                <a:latin typeface="Gill Sans MT"/>
              </a:rPr>
              <a:t>Problem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A partir de los datos obtenidos de la encuesta Origen-Destino 2001 se calibraron modelos de partición modal para la ciudad de Santiago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La población fue estratificada en 5 categorías de ingreso cuya segmentación es la siguiente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29" name="Picture 5" descr=""/>
          <p:cNvPicPr/>
          <p:nvPr/>
        </p:nvPicPr>
        <p:blipFill>
          <a:blip r:embed="rId1"/>
          <a:stretch/>
        </p:blipFill>
        <p:spPr>
          <a:xfrm>
            <a:off x="1268280" y="3857760"/>
            <a:ext cx="7604280" cy="28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300" spc="-1" strike="noStrike">
                <a:solidFill>
                  <a:srgbClr val="572314"/>
                </a:solidFill>
                <a:latin typeface="Gill Sans MT"/>
              </a:rPr>
              <a:t>Problem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ill Sans MT"/>
              </a:rPr>
              <a:t>A continuación se detalla el modelo correspondiente al propósito trabajo y período punta mañana y también se muestra la partición modal observada de la encuesta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ill Sans MT"/>
              </a:rPr>
              <a:t>La notación utilizada e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PM: punta mañana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FP: fuera de punta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300" spc="-1" strike="noStrike">
                <a:solidFill>
                  <a:srgbClr val="572314"/>
                </a:solidFill>
                <a:latin typeface="Gill Sans MT"/>
              </a:rPr>
              <a:t>Problem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ill Sans MT"/>
              </a:rPr>
              <a:t>Las variables son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34" name="Picture 2" descr=""/>
          <p:cNvPicPr/>
          <p:nvPr/>
        </p:nvPicPr>
        <p:blipFill>
          <a:blip r:embed="rId1"/>
          <a:stretch/>
        </p:blipFill>
        <p:spPr>
          <a:xfrm>
            <a:off x="1928880" y="2214720"/>
            <a:ext cx="616752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300" spc="-1" strike="noStrike">
                <a:solidFill>
                  <a:srgbClr val="572314"/>
                </a:solidFill>
                <a:latin typeface="Gill Sans MT"/>
              </a:rPr>
              <a:t>Problem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36" name="Picture 2" descr=""/>
          <p:cNvPicPr/>
          <p:nvPr/>
        </p:nvPicPr>
        <p:blipFill>
          <a:blip r:embed="rId1"/>
          <a:stretch/>
        </p:blipFill>
        <p:spPr>
          <a:xfrm>
            <a:off x="1714680" y="1214280"/>
            <a:ext cx="5500440" cy="55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300" spc="-1" strike="noStrike">
                <a:solidFill>
                  <a:srgbClr val="572314"/>
                </a:solidFill>
                <a:latin typeface="Gill Sans MT"/>
              </a:rPr>
              <a:t>Problem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8" name="2 Marcador de contenido"/>
          <p:cNvSpPr/>
          <p:nvPr/>
        </p:nvSpPr>
        <p:spPr>
          <a:xfrm>
            <a:off x="1285920" y="4786200"/>
            <a:ext cx="735804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36520">
              <a:lnSpc>
                <a:spcPct val="100000"/>
              </a:lnSpc>
              <a:spcBef>
                <a:spcPts val="12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Picture 5" descr=""/>
          <p:cNvPicPr/>
          <p:nvPr/>
        </p:nvPicPr>
        <p:blipFill>
          <a:blip r:embed="rId1"/>
          <a:stretch/>
        </p:blipFill>
        <p:spPr>
          <a:xfrm>
            <a:off x="1143000" y="1500120"/>
            <a:ext cx="7500960" cy="45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300" spc="-1" strike="noStrike">
                <a:solidFill>
                  <a:srgbClr val="572314"/>
                </a:solidFill>
                <a:latin typeface="Gill Sans MT"/>
              </a:rPr>
              <a:t>Problem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41" name="Picture 2" descr=""/>
          <p:cNvPicPr/>
          <p:nvPr/>
        </p:nvPicPr>
        <p:blipFill>
          <a:blip r:embed="rId1"/>
          <a:stretch/>
        </p:blipFill>
        <p:spPr>
          <a:xfrm>
            <a:off x="2714760" y="1071720"/>
            <a:ext cx="5203800" cy="57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300" spc="-1" strike="noStrike">
                <a:solidFill>
                  <a:srgbClr val="572314"/>
                </a:solidFill>
                <a:latin typeface="Gill Sans MT"/>
              </a:rPr>
              <a:t>Problem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43" name="Picture 3" descr=""/>
          <p:cNvPicPr/>
          <p:nvPr/>
        </p:nvPicPr>
        <p:blipFill>
          <a:blip r:embed="rId1"/>
          <a:stretch/>
        </p:blipFill>
        <p:spPr>
          <a:xfrm>
            <a:off x="2000160" y="1176480"/>
            <a:ext cx="6862680" cy="56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300" spc="-1" strike="noStrike">
                <a:solidFill>
                  <a:srgbClr val="572314"/>
                </a:solidFill>
                <a:latin typeface="Gill Sans MT"/>
              </a:rPr>
              <a:t>Actividad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Calcular la elasticidad de la probabilidad de elegir un modo con respecto a la variable costo del mismo modo y la variable tiempo generalizado del mismo modo. Esto debe realizarse para todos los modos posibles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Calcular la elasticidad cruzada de la probabilidad de elegir bus con respecto al costo del metro y con respecto al tiempo generalizado del metro y del automóvil (auto chofer y auto acompañante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5T21:02:17Z</dcterms:created>
  <dc:creator>hsilva</dc:creator>
  <dc:description/>
  <dc:language>en-US</dc:language>
  <cp:lastModifiedBy>Hugo</cp:lastModifiedBy>
  <dcterms:modified xsi:type="dcterms:W3CDTF">2009-10-02T17:43:26Z</dcterms:modified>
  <cp:revision>80</cp:revision>
  <dc:subject/>
  <dc:title>Taller I CI43A</dc:title>
</cp:coreProperties>
</file>