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C4F7-4DE5-4307-9EF5-509B0F9B4E0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54BE-B07C-4B61-8A14-F964E1D53DF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A8DB-5296-4603-A495-9BE85D51C1B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1515-7173-4C91-94CE-AF6E02EE4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0EE-E4C5-4676-96F8-4C9F16E2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804-9D33-4304-8E91-B3205F33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B75-E6AB-4CFF-90C1-4FC9329B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A721-D5D8-4381-A9A5-BEEEB629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890B-6D0F-4DA4-9239-10C28208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9166-9ED6-4FAD-8BF1-44DF935B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0DC8-71D2-4900-946D-80492FB6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FA7C-E44B-4C7B-89F0-57B8109D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EDF7-B2A2-476B-BA9B-87C2500A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0885-C415-452A-BF80-644145E2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CAC-4B2B-48E6-BF05-28833DC4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9F59-0D54-4A1C-AE4D-8CBC1CAA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B2C5-FEFC-42E7-B9EE-7BFD5B9B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D541-EFA5-4CAB-B2B1-43035BEE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347A-3343-4138-BEDF-7A1BCD5A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3FE0-F21E-4025-A1B9-DC0CDEAC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90A86-2719-4596-B343-F84C1CB0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44135-E083-45DE-B8C3-C1098832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A29C2-5E1D-48ED-8112-66E1354C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5F311-4AA5-4495-9A56-128D8815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2C4FD-07CE-4FB7-89F4-270AE484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CEDC-1DB6-4ACC-A96B-05700D1C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97970-22E3-4192-A827-18B1D381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D8B40-B0BF-4A04-B9AB-CEE7BC45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F2568-564E-4DBE-9971-50EE943F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86A77-895D-41B0-BA12-E45893D4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CAD46-C5A0-4023-B5D0-715B6B83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F424A-3906-485C-BCB3-AD33AAA8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F5E8D-A7EB-4197-B673-D46C96F6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169B3-B521-4A36-A5DF-9A8F43D0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0351D-BAF9-4DA6-BBED-EB502595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8507A-D4EB-41BB-9F41-B1A24E05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4B4-4F19-4DD3-8A28-857A0015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AE5E8-152D-40CE-948E-52C60E6C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6163B-B191-48F9-8B3E-2F1A8F7D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CD360-3407-45B9-8C62-890FC300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5B317-A6C0-4A29-B52E-7BD6BB36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1E42F-3BBB-402A-86F1-EBAF656E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C12B6-6CCC-4DAF-A897-76081EF8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1FE7F-03DC-49F7-9A8F-284AB883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43DCC-827B-4948-A2F0-6A02B0BB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19112-3855-414D-9BC6-0B9F2100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DF9B8-8671-47C3-93A3-29E42356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1851-2450-4839-9734-DBC96A5A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66EEE-B73E-4D41-B416-C669E0AD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4AD7F-5242-46B6-B434-9C07E388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C2DC4-327C-406A-B7B0-DA4094BB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FE5F2-33C0-4A11-8EA5-D9BDC237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143E8-90E1-4D26-AE29-B0B17D66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FD652-EB2E-4521-9D40-8EB491A0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B2986-998F-4FF2-B73D-983672D1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9CAA7-247C-400F-BBA7-9564111B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FD28E-6DCD-4300-9603-25F16418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FC157-913D-420C-A1B5-5F641959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0157-857C-48BB-887D-29D008E9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9BA60-1583-4F2B-A4B2-7311F4D0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D091C-5EC3-422C-8703-DC6AC66D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D7B8A-63CE-48A8-ABD8-9629D488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50236-B602-41A5-A665-87D3F1C0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DAE67-38C8-4D5D-8212-5420D1C6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4EC63-BA7F-476C-8755-F3369578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B1947-2C29-42A0-B99D-EF9CAE9D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09391-2817-431F-BA2E-94F15EEE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79EC9-87E1-40FF-AC55-7552D29B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C829A-1855-4A23-BDE7-1CDA26CC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0FE-6793-4D88-B3D8-FACBB6F6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1DA53-CE2B-42BC-9475-2FE91F6D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3E9B5-BD8E-4980-9553-6B0DF5C8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09DC6-EE66-4164-995C-DEABDD14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607D4-4510-4F96-AD26-2A510DDB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BBCB4-3E81-40FC-8454-83C28AFF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24218-9744-470C-B3B2-5351C2D8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1CC4A-5032-41B2-9B9A-177D7738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7DDF1-D349-4391-8DED-BFFD4581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BC0F6-1D25-4E6E-8A4C-109F6E87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82604-0DAF-4F0F-9FE1-A86FDC92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C8CE-0566-4275-8B71-A4220FE1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7F135-21EA-48A4-ACD3-4CE3FC36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68641-511E-4BB0-95DE-E36F0226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A467B-CE67-4846-924C-EA55ACE2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83BC1-3274-4C95-8EB8-751AD8FC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745AE-CC57-458A-8764-764D1E7D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445-1A05-46BC-8A46-1666D9F2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B14A-AD3F-4C5D-83DD-14AFAB9D51D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5A3B-28A8-4B1F-9B2C-87E198EA3B2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DFD7-4489-4C81-A411-33BE51B434E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5638-A934-4F39-8ABA-661F9336D61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79D2-9683-40CB-ABBE-023C603B486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3708-008B-4CE8-BB3F-82CB041D870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6DEF-67E6-42E3-B7E9-00FF3869AFB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6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5720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artición Modal: Modelo Logit Multinomi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 Explorar propiedades del modelo.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42640" y="1285920"/>
            <a:ext cx="80010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22480" indent="-17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sidere que existen tres modos de transporte: auto, bus y metro.  Además se tienen las siguiente funciones de utilidad para cada mod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aut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1,579 - 0,0113 *TV - 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bu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-0,0482 * TCAM – 0,0274 * TESP - 0,0113 * TV - 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metr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0,2542 -0,0482 * TCAM – 0,0274 * TESP - 0,0113 * TV –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2 Marcador de contenido"/>
          <p:cNvSpPr/>
          <p:nvPr/>
        </p:nvSpPr>
        <p:spPr>
          <a:xfrm>
            <a:off x="1214280" y="507204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Utilice como valores de las variables las que observa diariamente en un viaje a la universidad en un mismo período de tiempo para cada uno de los integrante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3920" y="1285560"/>
            <a:ext cx="7929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las probabilidades para cada individuo de elegir cada una de las alternativ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Modificando las observaciones responda las siguientes pregunta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ndo se alcanzan los valores límite de la probabilidad    (0 y 1) 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l es el efecto de la componente aleatoria representada p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? Evalúe en casos pa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uy grande, muy pequeño e intermedi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2 Marcador de contenido"/>
          <p:cNvSpPr/>
          <p:nvPr/>
        </p:nvSpPr>
        <p:spPr>
          <a:xfrm>
            <a:off x="1285920" y="4786200"/>
            <a:ext cx="7358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De qué depende la razón entre las probabilidades de dos alternativas diferente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omente acerca de los valores de las constantes modales de las funciones de utilidad especificadas. ¿Qué significa que la constante de un modo sea mayor o menor que la de otro modo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alcule las proporciones entre los valore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 de los tiempos. Interprete los resulta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116000" y="1628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 la nota del taller se considera puntaje por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23T16:29:33Z</dcterms:modified>
  <cp:revision>61</cp:revision>
  <dc:subject/>
  <dc:title>Taller I CI43A</dc:title>
</cp:coreProperties>
</file>