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75A5-2113-4CBF-A786-B82A8297ABF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65F7-4901-429D-B9F7-20DD9078D19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3EBA-ACBB-46D2-B721-670416DA2C8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D665-946C-4604-A1D3-C0F60034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C80E-3B44-42F7-9DB4-509E21F4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F6E-91F6-4B4F-AB47-EF985410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FC0E-121A-4D72-B535-7B26E439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2E8E-F032-4E2B-9071-44244AA9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01FD-9C78-41F8-ACBF-D35F64D4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4F02-D498-4E3F-8659-D143A5DF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3100-F15D-44D8-8933-10712A46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B0E3-0FD7-4975-B5B3-29EF72B5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07DA-E743-413A-9314-BEB62710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2FA9-4EF8-4BEE-9776-4DCB906D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275F-FA3D-48E7-B45B-683B85EE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8953-B628-492D-A70F-0DAAF84E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200B-032F-4545-AFD3-FAC4F91F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6646-D974-4407-96A4-A4E276D0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45C2-FAEE-44AC-9C13-5BF2AFD5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20CB-8C3A-4837-9586-289C0AFF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7FAEF-4EF0-4B5E-AD51-39C422EA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22172-6E1E-412B-962D-75F9873B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5E49E-3869-4F1A-82E3-45809007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763A3-7252-4D74-A9E5-8397EBF4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EF22F-2DC5-4D0D-9F17-FD536DA0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862F-3747-4410-8D6E-8E534F01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EE207-53D9-4792-8DBB-64AFE1D6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CC78C-C613-48C2-90DE-BFB0BD73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8AFDF-E2AF-4A5C-B69D-D70F85E4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64DA0-A651-4886-8B94-6DE5788F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ABBA6-A0CB-4820-8806-380E5D7E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16BA7-ECC6-4386-B783-6D8D9507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DC4B6-9139-479F-B8F3-5F3D1026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23B97-37BB-40AA-8222-13F6A989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AD6D5-0D7E-4799-9710-32BA5B2D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4CA53-446C-431D-AE0D-7818736D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44B-6FEF-4DBA-AC9B-B1C20363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4A62D-1E55-4C0F-A7AF-57396422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0E057-CE48-4331-B8CE-28A7B627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80EBA-ADBA-4412-819B-CD1AD4E6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A2146-88B0-44BD-A5C5-2EA09C04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F5D9E-95F9-47E9-BFBD-50E28D27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F2ACE-469B-4EE6-97B0-9A8398C5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A0C47-C417-4BF4-A8DF-2832EE73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35D24-8A0D-4BAE-B4A9-D2536EF6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24E35-AB37-4CA5-8C8F-507C7C62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30D36-C395-47D7-BD2E-C3E4FBD6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2593-EDD5-422B-8318-7AA6D9A8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747A7-3662-4137-936D-D6EE02B5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3863B-922F-49BB-8CB9-B61FB5E1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C50B6-C65F-4140-9B77-0772DB66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13831-CB23-487E-B6FC-D845221C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4EE20-6C5C-4EDD-BA65-D2289A93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33B8F-11B4-41E3-8B40-E3B92FE1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AD660-7146-4362-9758-6136BF48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ED89C-2B35-4AED-B12D-F1368697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166ED-EE67-422B-9405-5DB65C82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C14F2-E2A9-426F-B274-8DCE6252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1B67-1FAA-4408-8FDD-DC933A60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FFBE6-8A9E-4FEB-A51A-448F3A39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01959-12E8-48E5-9416-F51CB1C9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CC8C9-A6C8-484E-8B24-B34E4853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9F63A-6391-4D69-966D-DBF091ED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1A8D8-472C-4FE5-ACE1-52EE8FC8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93328-7F1E-4A8C-9BD9-9102E63B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FCE22-8D2A-4B6E-8C29-11432FBD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C6374-5BE7-4117-B91F-F38ADB33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0037A-B3EF-4897-A401-321AB774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E6E5E-E318-42FF-935A-1D88512A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BBD1-DA51-4E45-8EE9-B1D07814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9713D-8BFA-4F75-BC33-AA74C6E8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B14C7-332A-4566-90A4-1666A3DE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94A4E-F7E3-460B-948B-354BC931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24450-AA59-436C-B0A4-E9A99E40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BB732-B35A-4900-89BD-977EE13E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315DF-5732-4550-A603-A951BF46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BBF9C-7678-4DB5-BEC1-4D380793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C0029-48A6-416A-9647-40AFDCFF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5B7C8-28A0-4F27-8480-7DF02E89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1B5F6-08AF-4321-8DB8-FF69AC48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6C3-5913-4FB4-A77A-C454B8D7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FFE32-25A2-472A-9E36-C5EFEE4E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D299A-3B4C-4291-9551-3AC154F6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FEB15-0098-4210-8213-3485D009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68C4D-BCA6-4D6E-B702-1AFCCE1C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BD964-5E8B-4ECE-8396-98B631E3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39D5-E418-4F11-86D5-E688C443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D425-B659-46E2-A8EB-A29A73E91C0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A4BD-2D0D-4D0D-9BBA-591DBAD8AA9B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F570-7CA9-4E6C-A2B9-2561218EB03B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667F-372B-47F2-ADA0-6A8A04A1476D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8F0D-9049-4905-92C7-4E43E12A249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BC6C-1018-412A-BD7E-8A3C7F8C461C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F329-4CA5-4A3D-8221-58FB56A7617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6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5720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artición Modal: Modelo Logit Multinomi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 Explorar propiedades del modelo.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42640" y="1285920"/>
            <a:ext cx="80010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22480" indent="-172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sidere que existen tres modos de transporte: auto, bus y metro.  Además se tienen las siguiente funciones de utilidad para cada mod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aut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1,579 - 0,0113 *TV - 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bu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-0,0482 * TCAM – 0,0274 * TESP - 0,0113 * TV - 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metr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0,2542 -0,0482 * TCAM – 0,0274 * TESP - 0,0113 * TV –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2 Marcador de contenido"/>
          <p:cNvSpPr/>
          <p:nvPr/>
        </p:nvSpPr>
        <p:spPr>
          <a:xfrm>
            <a:off x="1214280" y="507204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Utilice como valores de las variables las que observa diariamente en un viaje a la universidad en un mismo período de tiempo para cada uno de los integrante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13920" y="1285560"/>
            <a:ext cx="7929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66400" indent="-206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lcule las probabilidades para cada individuo de elegir cada una de las alternativ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Modificando las observaciones responda las siguientes pregunta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ndo se alcanzan los valores límite de la probabilidad    (0 y 1) 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l es el efecto de la componente aleatoria representada p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? Evalúe en casos pa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uy grande, muy pequeño e intermedi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2 Marcador de contenido"/>
          <p:cNvSpPr/>
          <p:nvPr/>
        </p:nvSpPr>
        <p:spPr>
          <a:xfrm>
            <a:off x="1285920" y="4786200"/>
            <a:ext cx="7358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De qué depende la razón entre las probabilidades de dos alternativas diferente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omente acerca de los valores de las constantes modales de las funciones de utilidad especificadas. ¿Qué significa que la constante de un modo sea mayor o menor que la de otro modo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alcule las proporciones entre los valore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 de los tiempos. Interprete los resultad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116000" y="1628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cálcul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 la nota del taller se considera puntaje por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23T16:29:33Z</dcterms:modified>
  <cp:revision>61</cp:revision>
  <dc:subject/>
  <dc:title>Taller I CI43A</dc:title>
</cp:coreProperties>
</file>