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D4D1-697A-4012-B5D1-745998F2125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3A77-322F-483F-A611-E6D949B0C9D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1758-9002-4FE1-8856-8888E2C8FF6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3BE-8576-4BE5-AD05-D6537D79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CB9-FE0F-4C45-BE54-BC53B168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B30-2DD5-41C9-9A65-74FC2962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E4B-F951-4079-86FE-79AD574B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106B-EB60-4B95-AE54-0F9036F1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D0AC-9AE5-463F-8C56-3E68C5B4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16C7-6B16-408F-BCC7-BE6BE6E0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B25F-2020-476C-8902-E7848BD0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067E-76D7-40EE-BA88-F18BD93A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41DA-D1AE-4ECA-B498-A1BD47EB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B93E-BD83-4048-B5E2-4DA1050F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2D1-D904-4AC6-A90A-E7E20970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CE76-6EF9-481B-9F16-349BCFE0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3103-92D7-4A2F-BD2A-320DE604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AA62-7BA7-43D8-81D3-4FE6D0C5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396D-7E08-4998-BECC-2CD2B185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B845-CA69-4F32-A623-38152E3F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8CB1C-D2A7-49DA-A51C-B512F93F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40371-CBD0-4230-BDBB-7AC28DFC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AAF8-364E-483B-B37E-B6DFB2E5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753CF-3084-4996-8DDD-A8167989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510A3-994D-4D59-9B1B-CA24B7E0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813-9083-4902-AA70-D9C9A71B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0AED9-44DA-4430-BA5F-7E498B9B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A4EB3-9B7F-40D3-AF1D-AA9DD265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1809F-9E28-4755-81A5-30B13169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59A3C-7060-420C-9D9C-0C75397F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AC4F-149F-416E-A4D4-FEEF1D40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9C772-EE46-4C6F-AC43-CF35305F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D8832-D186-4600-901C-B01989C0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9B571-E178-4E29-8C3D-8F750441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74B3F-8741-4615-AA95-A03F2EF2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333E5-8A8C-46F5-96BD-7F852ACF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CBB-0F0F-4D6D-8861-C790C9F3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7D7FB-1E59-4584-91ED-864868EA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1151D-CC97-40C2-873F-4CE32A7A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162CF-01BF-42A4-A5BD-E43676A4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B4E2A-5099-48E2-AD59-772ABEEA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EE5AA-A300-47DE-9E29-ACB513F1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9DF7D-7E6B-470B-8FA9-5299754E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F0550-8667-4BAE-9CB2-E6CB39EE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DC669-8FAE-43B8-834A-D03F079E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2F1C7-125B-44D9-B736-C2FA8863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5A9C8-620D-44A2-888B-D9B86541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CDE-2A39-4E81-A282-844AC181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CFF57-E88C-4F4F-9128-E5B99645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B28CC-016C-4ECE-AEE7-F3062448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3C64C-B6A7-4448-AA68-9055DBF3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5BCF0-7810-400E-8E34-CB7A88F3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7F758-DFD0-49CC-B3FB-C7F46295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F2C7D-BF35-4833-AFA0-85318230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EF773-C5B6-4CC3-925D-B7422DBA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F8890-257E-4BF7-BBC7-41C1341E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8D600-2860-4F2E-B33B-DCEF109D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7AEE5-9E4C-4977-B305-13F0AF1E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EED-D41D-48F2-BB14-9E51E713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DE0F9-003E-4344-95B7-C6415010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17D76-15FF-41A6-B0D0-20E8A358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D96E2-C0F2-4BCB-906C-B6D1472D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23288-ED87-441A-8A0B-8FE2F53B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4E17E-F05B-45AF-AC15-135FD79E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E5A5B-9767-4F62-9E6C-F2B0FEB8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896C7-7620-4075-B9DC-E4B906A6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FED41-9984-429B-8A77-5515BB95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B9B07-333E-49B5-9BF4-9A3C06E3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FAC30-24F9-4A18-B219-81899BBE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637-1933-4C3E-BADB-7F1AFA23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82CF3-1E9F-4C8C-8B11-4FB0F3FA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E938F-E211-4C62-8682-5CBB8931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F40DF-F9BF-4190-B09F-FB1917FD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30C65-42F2-41F3-8C83-92B79D14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2FA9E-2ADD-4EFF-998E-B25A1067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1C9E9-07FF-44EB-BD78-8BE3C843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D39E7-5ED4-4F3C-8E60-90AB665E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E0D8E-9376-4B10-A3E0-93C3B7E6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3FAB4-38C0-42D0-A85D-8EDE9E21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6B772-C40C-4EBD-B79B-A7A89D7D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617-324F-4AD1-AF0A-9C27A09F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1490E-2932-4F68-8596-66722E54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3987C-F061-4010-86EC-D9F5866D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F7D43-C5D0-44F9-ABD5-45648706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55400-CE5D-4C2C-8AE4-6E5EFF1E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4BE20-D5CD-46CC-A4A5-2A44B2B4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AB7-C7D3-4F1C-9A7D-6B4B3DFB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2B64-B772-46CF-8EF5-B203E82A0A4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ADFE-41A4-47F3-8814-7974CD96214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05B5-9BDF-48C1-BB95-E636C697C11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0A81-B5B1-48E1-B3E0-11AB127B594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0411-1EE8-401A-9ACF-127F9D8BCB1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51A4-F060-4093-8931-58E549E51AF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4577-7F79-4FB8-823F-9C7E659EE45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6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2640" y="1285920"/>
            <a:ext cx="8001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sidere que existen tres modos de transporte: auto, bus y metro.  Además se tienen las siguiente funciones de utilidad para cada mod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aut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1,579 - 0,0113 *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bu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-0,0482 * TCAM – 0,0274 * TESP - 0,0113 * 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0,2542 -0,0482 * TCAM – 0,0274 * TESP - 0,0113 * TV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2 Marcador de contenido"/>
          <p:cNvSpPr/>
          <p:nvPr/>
        </p:nvSpPr>
        <p:spPr>
          <a:xfrm>
            <a:off x="1214280" y="507204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ce como valores de las variables las que observa diariamente en un viaje a la universidad en un mismo período de tiempo para cada uno de los integrante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3920" y="1285560"/>
            <a:ext cx="7929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las probabilidades para cada individuo de elegir cada una de las alternativ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Modificando las observaciones responda las siguientes pregunta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do se alcanzan los valores límite de la probabilidad    (0 y 1) 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l es el efecto de la componente aleatoria representada p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? Evalúe en caso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uy grande, muy pequeño e intermedi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De qué depende la razón entre las probabilidades de dos alternativas diferente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omente acerca de los valores de las constantes modales de las funciones de utilidad especificadas. ¿Qué significa que la constante de un modo sea mayor o menor que la de otro mod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alcule las proporciones entre los valor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 de los tiempos. Interprete los result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23T16:29:33Z</dcterms:modified>
  <cp:revision>61</cp:revision>
  <dc:subject/>
  <dc:title>Taller I CI43A</dc:title>
</cp:coreProperties>
</file>