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5157-1912-4D32-86EB-B7F5630D6C2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8BB6-71C0-4E96-93CB-B39B39CD5DF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44B3-E52D-414E-B8FE-5FB1C01CD70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D91-A2EF-410A-A4FB-C79BEDA7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037-74D1-423D-980F-A725D993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870-3F17-42E3-8ACF-4D9EFCCF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BD8-71C6-4A86-8971-AC81AF1F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85B0-71FD-41B3-9BF9-A3C9DA5F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3272-1EBF-495E-BEF5-D4EE94FA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0D57-09E2-4C9E-8882-1BCA6B22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AE4E-4F85-43F2-AAEA-36058887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4EA5-80FD-41C5-91D2-E171BECF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EB1D-B631-44EC-A5F9-062873B6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32BB-E4F3-4CE8-ADF6-5C90210A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D23-E0F3-4E44-90E1-399DF9F1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E78C-6642-43B4-814E-7224ACD7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210F-3B68-463C-A818-565D34D5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24BA-C56D-4093-A7B7-4C0AECEF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6BB9-E7B9-48C6-A0C4-EABEE30F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E935-1EC8-47C1-A84E-E04FB84D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D6970-30D1-494D-B825-B8C7C9D1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C281B-606B-4DBA-981D-F1BADC9F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7401-FF6C-4FE2-85F5-A90F49B9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16133-7240-4689-9D72-D2FF3007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55035-166B-4E1A-9299-71029153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02E-BA14-434E-BDFF-65379C0F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F1218-28FA-4044-955F-FABA4964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AD012-12B0-4A9C-BFBF-650033D3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D3D64-BD6C-4A9B-B501-96DCCA1D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6C355-51FF-4CFC-A23C-65418A5B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AA445-83EE-420F-BDD6-89668932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96F27-9F60-4404-8DCA-99498F80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2B77-0EC6-4347-853E-4D33760A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D26A7-0404-4319-8396-F75271B1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09928-CAE4-40A3-9942-79795F9E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37061-CB83-4B8E-9465-BB28A4B6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AFD-EE7D-495A-91BE-FE4CC232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36182-7F74-4F1E-A82B-52DFEF31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E15CD-4636-415A-9DB3-962F0130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47DD6-CFC8-4CF1-AD48-AC10F65A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FE528-6030-45BD-8AF7-C4E2AC9A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C9DC2-93C4-4013-90FA-A0D89435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42420-85FE-4D5B-B15D-6B7E2BBA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F7A90-1CF0-4303-BF27-3A0131B8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36C8D-2FF2-498F-BF8D-D6B6BEF6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E7E57-DDAB-400E-8D6D-60EC307A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B5003-B771-4153-B4A4-4FD15AA6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22C-0560-41FB-9936-9C3E8A14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725E7-35E2-41DB-B83A-D4F9884D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D8AF8-D5FC-4A06-8B31-2D631940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1A494-DA9D-46DD-A0F3-A2DE720A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F5AEF-C584-481D-B273-ABEAE2A3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7CADC-59CA-4465-89FD-59BB2210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AB2D2-D3E7-4141-BD6E-9C188F41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0E40D-4A97-4D2A-B313-A85A3860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F0757-CDCD-4CE6-95F0-7F3A75FC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368B4-6B48-481C-912C-83436FC4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C1DA7-B6CF-4962-BE49-83E3945C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E47D-F660-47E8-BAAD-3B0C9591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0583C-6C42-42D9-9322-0890631B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6DDEA-CDF7-4477-AE60-2DA2F0EF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F0942-4066-42F2-91B3-A51BCE66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037DD-0D79-4E4D-BF6F-05DA3D73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2826C-66FD-4981-9F41-E69FBAF6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978AA-AE8A-435E-A316-5164B5EE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E119C-235B-417F-893E-13EDAB66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9B124-C0AA-4029-8615-AE165D4F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617C0-FA2A-440C-9FF8-8AF67FD3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25FAE-86B9-423C-9B69-743CB9C0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FBF-BCD2-4880-A6C4-B5ADA736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58BBC-D0B4-40DB-B92A-EF510128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894BF-A206-4839-A231-4D6C4A38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5CC96-1454-4921-B781-DF2F5D22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BCEC4-77AA-4E51-919F-03A8CA45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D6B94-0506-4FC7-B357-B81576C2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49499-E71A-4241-B51E-79D7989A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59814-39BC-4D72-8113-AC6B0809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E2714-94F5-404E-8703-DC028640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B05CA-8C3C-454C-B712-D5FAEF51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28C8C-49A2-4F69-B044-1B3CE2F2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6AE-D85B-4BCC-9AAC-9B42D4CA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C08E9-0195-42ED-B26D-93DDB913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3C8EB-F4D6-4E3A-859B-F82FCF23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DAF48-C5A6-48E1-AC29-802103B0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A7BCA-9EDA-4AEB-9910-ECDFE434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5DCCB-5CC2-4022-BF39-ACAA0C01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047-B730-49FF-8513-B1D57EDD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98EF-FAD5-4219-8920-4437E9A2A14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2988-1A41-4D6B-8290-B49E613AD91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DA08-3EAA-4911-9D92-7C6468C9134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3F73-54C9-4A6E-A28F-71C2E48D4A2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030E-AE22-45C1-B9DE-BEFFA1DEC7F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A8E2-FCFE-4811-B50F-E701902B12D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3BB4-13B5-4741-8719-BEC954B92E5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6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2640" y="1285920"/>
            <a:ext cx="8001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sidere que existen tres modos de transporte: auto, bus y metro.  Además se tienen las siguiente funciones de utilidad para cada mod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aut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1,579 - 0,0113 *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bu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-0,0482 * TCAM – 0,0274 * TESP - 0,0113 * 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0,2542 -0,0482 * TCAM – 0,0274 * TESP - 0,0113 * TV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2 Marcador de contenido"/>
          <p:cNvSpPr/>
          <p:nvPr/>
        </p:nvSpPr>
        <p:spPr>
          <a:xfrm>
            <a:off x="1214280" y="507204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ce como valores de las variables las que observa diariamente en un viaje a la universidad en un mismo período de tiempo para cada uno de los integrante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3920" y="1285560"/>
            <a:ext cx="7929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las probabilidades para cada individuo de elegir cada una de las alternativ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Modificando las observaciones responda las siguientes pregunta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do se alcanzan los valores límite de la probabilidad    (0 y 1) 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l es el efecto de la componente aleatoria representada p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? Evalúe en caso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uy grande, muy pequeño e intermedi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De qué depende la razón entre las probabilidades de dos alternativas diferente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omente acerca de los valores de las constantes modales de las funciones de utilidad especificadas. ¿Qué significa que la constante de un modo sea mayor o menor que la de otro mod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alcule las proporciones entre los valor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 de los tiempos. Interprete los result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23T16:29:33Z</dcterms:modified>
  <cp:revision>61</cp:revision>
  <dc:subject/>
  <dc:title>Taller I CI43A</dc:title>
</cp:coreProperties>
</file>