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E853-5199-4CE6-A4DE-6F49D0EB30A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5A11-82E0-4317-8C6C-4974A0B49E5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0D3D-C05F-47F9-A70D-310F38B9A6A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FA6-3EFF-4251-AFB4-398A85CE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327-24F7-4FD3-878F-FF63B762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1FD-F810-41B3-B241-9A121D44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CA6-8679-4E76-81A9-74685838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A3E6-6A16-43CA-B11E-3EE44B43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A368-E8DD-4739-A54F-2C27350C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0555-AC3F-4DDF-AFB7-ABD27169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E0ED-4E9B-4E6F-AD88-FD8D8590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BA7E-DBF9-406C-B09A-BA852590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14DC-7015-411F-AC0F-BAF943A7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6F3F-1FA8-4D7F-8853-9E71387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2D5-447E-4E79-810D-C11DE5BF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5F41-6C02-453A-8A18-61359923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CB7E-5E1C-4BC6-8819-139C075C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0078-CFF3-4AB0-B76A-511FC3B6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6494-34BE-4EC6-8F5D-0AC01FCC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7C83-64CC-4CD1-9F9A-7F02E38F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8CE5-BC5F-40D7-9B72-92D3CD4B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8DBD-D971-489D-85A3-0874A00D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9631-0686-4B3C-AB29-5040CE29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35FB-1106-492E-A920-7FA2A4B9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DC23-F54F-48A7-A763-E6E13FB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F02-ADB9-4F5D-A52D-F9380936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2324-E510-443D-903A-A362D48B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51F2-C542-43ED-8452-1411E1F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9DEF-ADF3-4BA1-A347-330437A1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3C13-3F51-4252-8CD1-093D6DDE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5DDF-1206-4F53-94F0-BA5F7661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7512-88FB-4302-8C3F-1DE3BCC1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7B90-4D40-4247-A9EC-E6D99277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6E4E-F609-4E71-97BA-5FC1F95B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B13D-3F89-4733-8CA9-D62876C9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EFC30-C920-490E-AD16-FC2691CF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D67-9EF9-4D42-8A1F-114E8944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CB148-C490-4140-9D7F-2AB9A1A9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80F8-5E3A-4280-8F4F-3253860B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11C1-D389-42B9-A2A7-06616C15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96C0-AC93-49FA-9CB0-CF639EA8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8F2D-8968-41C2-BCA9-F1EFE1F6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062B-F851-498A-B099-7EA15852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A9DB5-BDDF-4FBA-8243-0B635E7F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1206E-34B7-4C14-8600-91DC85FF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182C-B32E-4EC0-A9D4-5CA2C72D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8903C-11C6-43F4-888B-3594B172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6B4-5063-4F44-8C6F-9FE67F3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1251C-2B0A-457B-BD56-060271F3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12DC5-CB72-46F3-9754-7F665196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5DE3-B776-4B14-8FB2-C91606F7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C49E-4565-487A-A3AE-F4072891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0941-0481-479A-A248-B42D127C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DF1FC-D12B-4F1F-90CB-CCC830D6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628F-0B38-4DD6-8F92-6E8CEF1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B63B5-CE0C-4A6E-9815-376E115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1A19C-D590-4694-A6DE-67395464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22050-912C-49A6-83C1-0C0DC2F9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D1F-CF40-4277-AC88-39AC488C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AF3B3-28AA-4C87-8329-3DAD90BF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35519-F425-4FFD-A7A6-953ABB5A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0DF1-A914-4BD9-84D4-C9215D2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85D4D-D57C-42B1-A2DF-B8B786EA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6EA8-0690-4122-9CD6-44D4C6FB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5F68-8756-40EE-8F3C-00627C7D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0BFF8-293E-4DF7-BA7E-2054FF7B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CACB7-FB74-43B3-BA22-7ED0A34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3184B-7297-47C2-A48B-CA892000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75E12-B618-4D6D-B91C-5E86A3DF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A9D-5588-45A6-B024-DD129D02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A2127-E3C9-448E-8DDD-05ED27B8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5DE9F-DB96-4F16-AB5E-58B85183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38E6-3B1C-4573-8721-A8AA324F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58FBF-128E-42D1-87DC-CD7445CB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66DC2-0AA1-47B8-AD99-C5FCA9CB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9DFC6-5024-44F6-9561-B6BAE547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606F5-9355-482C-B5CD-62C27CF0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AD7F5-3735-434C-A159-F95D6E7E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F50EC-B7A5-47FE-8E56-F2AD432E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59A5C-1034-477E-9530-A96DABB4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4A9-8F5A-4474-BFEC-6F9588D1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1E711-BB1B-46BE-8A6F-8BF17B10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48C76-4024-4CD4-9EEB-4CEEA490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EED32-84AA-4E72-815C-6BCACA9C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BBE7A-3216-4246-9B58-21F6C394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2E2CD-FBF8-454A-AC50-B20418B7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8CD-9252-4BCC-8834-EABB809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C768-DBA6-45A9-B0B6-4354736CDB2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EAAC-17E9-438B-A107-8FFE65D5ECE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DB0F-5AA3-4E39-A9DC-0E219A61E9E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59FC-2B10-4C48-8DB7-EF906BB041D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8081-D170-4ECD-82D1-9F3DEE2440B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553A-D91C-4F92-87D5-136627ED056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D83-3C72-45FD-8A6C-319C5FFE986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as constantes modales de las funciones de utilidad especificadas. ¿Qué significa que la constante de un modo sea mayor o menor que la de otro mod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23T16:29:33Z</dcterms:modified>
  <cp:revision>61</cp:revision>
  <dc:subject/>
  <dc:title>Taller I CI43A</dc:title>
</cp:coreProperties>
</file>