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74A-92A7-4662-B8A3-2BB6DC54692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E589-3091-44F2-A52B-F7DDD2552E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7889-D32F-4F43-AC59-F578BFEAE51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E64-BC27-4660-8492-12C70F9D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6CE-1CE5-4B56-A4D1-0F061275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5C4-9F65-4EDF-917A-6D2F5AA3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DF6-ABC7-44B5-A666-4A3724C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2A91-2CB4-4346-9200-C6234AC3F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ECBC-1865-4AE1-ABAA-6DED6D36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7AB-CE4A-4964-9F77-3449816A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7A99-7EA9-49F6-A783-EE50F8FD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2FD-7D50-4CD5-AD59-DF16088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24A-7F57-4828-9000-2F12E7A6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F0BE-BD65-4B1A-8B6E-CF0DAF1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006-A2AE-4CB8-B029-D86FCAAA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F84-6BF1-4AB6-9E2C-AC1A253B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0600-ECC8-431B-949A-A03E80B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5285-019C-46C7-AFEA-EC961DD3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230A-E73D-4E44-94B4-F411CB40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D6E5-7F75-433E-8D82-4946130F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8F82C-7817-4C2B-A27E-17D24020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403F8-F1EF-49FD-B107-D4D5B37F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9E6A7-5022-40AA-8018-F237563F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618F-3E86-4CDF-9A44-9721291D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AC10B-40D8-452B-88EB-38A33B6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DBC-C265-4ED6-BEA2-E090B22F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FB018-E2D0-4B9E-828C-F2913B1E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F254-1E67-4F12-BB95-59E0FE4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63E1D-1B56-4A94-A525-3C2D853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50B8-9A02-49E0-97A6-AAA0B17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041DC-1ACD-4AAD-9FE6-A2F6AD23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026EB-D473-4F6B-93B7-B56C5379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53EA-33EF-4EAC-92A9-64E04236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CD44-2498-4EC6-827B-AB17F9DE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15992-8A96-405F-A98B-78D84785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FA86C-9274-4347-815B-32C1B4DB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8EEB-C99F-4867-8453-873E6E08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798B-82AD-4F2A-BBD6-254C602A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6602-4515-4C10-B1CD-A7A3934A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269BA-3A16-4F20-97AC-DA951DC5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52A9E-6092-4AD1-97E9-6D5FE2C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5A67B-C0A7-4896-B207-DBD17302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116D-E8F4-4005-93FB-54CFB42B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592A4-5FBC-4FDD-927D-51C554B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40D2-CB24-4F79-AD7A-D8F6EF5E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2B6A4-88B6-4835-A0B5-7977BDAC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56E3-EA43-4887-868F-D4C7D331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D90-E8E1-4021-820A-3559C67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D6E1-4E02-4216-A818-7B97D450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8260D-4277-4985-89F8-CF80D8A5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4D413-7671-46B6-BF1C-E3E73E9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34BAF-8684-4785-93AE-5DE6C838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E585-53B4-418D-99DB-2876EB67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59F1-0A6C-492A-B3F7-075ABB6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E865D-8032-4FF4-9BE0-895BFAD6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4773-4137-4CAB-B50C-C4A66564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FB936-ADF5-468F-B9CD-4C983EE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E79B-CA3B-4776-AF04-B3EEAE07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649-163C-4297-ABE2-720B028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D404A-B104-458D-B813-E9CA0852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C2EF2-5157-4118-919E-30DA8547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8C1E2-9538-4B4D-B488-0F8AA89C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AED97-FA54-4587-8C7D-6EEABDE8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59F06-E711-47E9-9DDD-F9B7F123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2142-FF0B-4FF6-A360-C0A55B28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D36E6-EB9D-4148-9911-982BDBF0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11346-044C-4921-924D-9195736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D9958-1455-4F87-B835-FF050A4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ABFDE-BE73-4B49-82B8-786F24D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07E-18CE-4A5D-AF09-4F02F76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7DDB-D5FA-408E-92A2-FCC2F098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86F76-64AB-4B38-8FFF-295A05C7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529A-8073-48E9-ACC2-2B3D3654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12B46-CD58-490A-8231-A4D8CB0E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08315-0A54-42B3-9A7C-FD9449FD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C844-DC0A-4319-A48E-54CABE77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A2228-EC68-438E-8D8D-5CA30A97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1A798-20C8-4DEC-9DBF-36018852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E853A-102D-41B7-B3B5-3D892F8D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2028F-29BB-46E9-8680-F4D6969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838-843C-4DB9-B3BE-C4C22A7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BF2E-B4DC-477D-9ED2-8D4BF1B4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04539-27D9-4CA6-BE34-227A1941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B6D00-BBA2-4D61-8F28-9F62EEE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3771C-B8E7-4797-9224-7EBF899A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6C88B-8E2F-4B11-8449-A35AB45C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E52-36B8-4C35-BBEB-7EEDC0A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DCEC-9BFF-4AA3-A28F-F6C385336D1B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E333-C7EC-4AFE-B7FC-8E0E9952EFB7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DBF3-A255-4476-81C7-A263B6C8C92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0D41-F2A5-4A17-8A41-ECE20F6CD9A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45B-A0B1-4EEF-ABB8-71A5F39E690C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ACEA-FC3E-4BFD-986A-0A71D03714E2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3ED-2896-4215-8BDA-7F4ED0339579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572314"/>
                </a:solidFill>
                <a:latin typeface="Calibri"/>
                <a:ea typeface="Arial"/>
              </a:rPr>
              <a:t>Taller 6 CI43A/IN640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artición Modal: Modelo Logit Multinomi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Objetivo:  Explorar propiedades del modelo.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42640" y="1285920"/>
            <a:ext cx="80010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sidere que existen tres modos de transporte: auto, bus y metro.  Además se tienen las siguiente funciones de utilidad para cada mod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aut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1,579 - 0,0113 *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bus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-0,0482 * TCAM – 0,0274 * TESP - 0,0113 * TV - 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=0,2542 -0,0482 * TCAM – 0,0274 * TESP - 0,0113 * TV –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0,0016 * Cost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2480" indent="-17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2 Marcador de contenido"/>
          <p:cNvSpPr/>
          <p:nvPr/>
        </p:nvSpPr>
        <p:spPr>
          <a:xfrm>
            <a:off x="1214280" y="5072040"/>
            <a:ext cx="79297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Utilice como valores de las variables las que observa diariamente en un viaje a la universidad en un mismo período de tiempo para cada uno de los integrante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3920" y="128556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alcule las probabilidades para cada individuo de elegir cada una de las alternativ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Modificando las observaciones responda las siguientes pregunta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ndo se alcanzan los valores límite de la probabilidad    (0 y 1) 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uál es el efecto de la componente aleatoria representada p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? Evalúe en casos par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uy grande, muy pequeño e intermedio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466920" indent="-17244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-206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2 Marcador de contenido"/>
          <p:cNvSpPr/>
          <p:nvPr/>
        </p:nvSpPr>
        <p:spPr>
          <a:xfrm>
            <a:off x="1285920" y="4786200"/>
            <a:ext cx="73580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100000"/>
              </a:lnSpc>
              <a:spcBef>
                <a:spcPts val="12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De qué depende la razón entre las probabilidades de dos alternativas diferente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omente acerca de los valores de las constantes modales de las funciones de utilidad especificadas. ¿Qué significa que la constante de un modo sea mayor o menor que la de otro modo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Calcule las proporciones entre los valore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 de los tiempos. Interprete los resultad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16000" y="1628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n entregar los archivos con el siguiente formato: apellido1_apellido2.do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Asunto: Taller n°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ncluir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breve informe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el desarrollo del taller y un </a:t>
            </a:r>
            <a:r>
              <a:rPr b="1" lang="es-CL" sz="2400" spc="-1" strike="noStrike">
                <a:solidFill>
                  <a:srgbClr val="000000"/>
                </a:solidFill>
                <a:latin typeface="Gill Sans MT"/>
              </a:rPr>
              <a:t>archivo .xls 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con los cálcul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En la nota del taller se considera puntaje por la presentación y orden de los archiv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9-09-23T16:29:33Z</dcterms:modified>
  <cp:revision>61</cp:revision>
  <dc:subject/>
  <dc:title>Taller I CI43A</dc:title>
</cp:coreProperties>
</file>