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445-BCB4-435C-BD3E-4BE1388F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DF3-CA7A-4AA5-84FA-3BB8F48E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B52B-93DF-419F-8313-C82A8C30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A1C-E6DC-4B24-8AC5-09E62EEC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1B5-7F35-41C8-8AB3-43DDA95D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542-F9AA-4568-ABCE-9A98EB3B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8F4-414E-483D-84BE-BE21F0FF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529D-661F-4865-B8F3-F55612B9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144-3637-4457-882B-16236430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7A6-7942-4486-84A8-5D4B39A6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E395-0596-4B4A-8378-D38381B7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71F-7F1E-434F-91A9-ED2DF634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FD97-60BB-43E8-89C6-3C53515EC7B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5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6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7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8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9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30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1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32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33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4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5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6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1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4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5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7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8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0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1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2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5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Text Box 12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Line 5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7"/>
          <p:cNvSpPr/>
          <p:nvPr/>
        </p:nvSpPr>
        <p:spPr>
          <a:xfrm>
            <a:off x="3505320" y="2514600"/>
            <a:ext cx="4343400" cy="322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4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7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0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Text Box 5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Text Box 9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7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Text Box 10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Text Box 11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Impacto de la partición modal en el desarrollo de la ciu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9640" y="2276640"/>
            <a:ext cx="8425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qué tipo de ciudad quere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para qué queremos la ciud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hacia qué tipo de ciudad nos estamos movie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se puede hacer algo disti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729560" cy="234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4751280" cy="2496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2627280" y="285264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Informe Ejecutivo EOD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305193596_5e0105ba07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58327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rId2" action="ppaction://hlinksldjump"/>
          </p:cNvPr>
          <p:cNvSpPr/>
          <p:nvPr/>
        </p:nvSpPr>
        <p:spPr>
          <a:xfrm>
            <a:off x="8317080" y="638172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1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9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1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AutoShape 12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3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1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Text Box 12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8" name="Text Box 9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2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 Box 13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2" name="AutoShape 11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 Marcela Munizaga</cp:lastModifiedBy>
  <dcterms:modified xsi:type="dcterms:W3CDTF">2009-09-11T15:12:03Z</dcterms:modified>
  <cp:revision>74</cp:revision>
  <dc:subject/>
  <dc:title>Sin título de diapositiva</dc:title>
</cp:coreProperties>
</file>