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3E9-4FA3-4A0C-A260-2EA850C8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BDF-B08A-428F-8C54-5BE448BA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D2A-D075-4676-A742-F577597D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4F1-2555-48B8-AE5D-4AF241F6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51A-25F8-4BD4-BB61-7EF2439F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404-7522-47DC-B20C-43C7A05B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3A8-1E96-4384-A54D-58644229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578-729E-4480-8468-9DABF07E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274-9F1C-405F-AEBD-9193726E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4C2-75D8-4A08-B0B4-82357D14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816-CEA5-4DFD-81B8-469D3137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9C9-00BE-4981-A76E-A5CD84E4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B78A-7CD3-4197-BB2E-C73D9462C09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12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Line 5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3505320" y="251460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Text Box 9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7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Text Box 10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Impacto de la partición modal en el desarrollo de la ciu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2276640"/>
            <a:ext cx="84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qué tipo de ciudad que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para qué queremos la ciu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hacia qué tipo de ciudad nos estamos movi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se puede hacer algo disti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29560" cy="23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751280" cy="249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627280" y="2852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forme Ejecutivo EOD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305193596_5e0105ba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1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13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AutoShape 11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 Marcela Munizaga</cp:lastModifiedBy>
  <dcterms:modified xsi:type="dcterms:W3CDTF">2009-09-11T15:12:03Z</dcterms:modified>
  <cp:revision>74</cp:revision>
  <dc:subject/>
  <dc:title>Sin título de diapositiva</dc:title>
</cp:coreProperties>
</file>