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028D-E6BD-459B-898D-8E0218D1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A40F-1766-43F1-A3D6-03D8E54A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190A-A720-4BDD-B1AB-49960812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31F4-058A-4044-B768-796E46AD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0AD9-1DE2-426B-87A5-CB5F5EA5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EF75-1516-41E4-83ED-7A03D5BF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35D9-28D9-41B3-8976-38D017DE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64B8-9AE6-4054-AC5B-D91F02D0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30E5-BAF5-481A-910D-492E9D3A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DD70-6F12-47A2-A092-97518DA5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BD81-BDBE-4AF3-B7DA-5DF582C0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A49B-880A-44B6-8707-502DA100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1EB6-140A-42E6-9B67-E7CF420E044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4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5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6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7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8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9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30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31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32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33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4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5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6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51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54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5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6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7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8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0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1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2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Text Box 5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8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0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1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Text Box 12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Line 5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7"/>
          <p:cNvSpPr/>
          <p:nvPr/>
        </p:nvSpPr>
        <p:spPr>
          <a:xfrm>
            <a:off x="3505320" y="2514600"/>
            <a:ext cx="4343400" cy="3225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6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8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21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4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7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0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Text Box 5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6" name="Text Box 7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Text Box 9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Object 3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Text Box 7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Text Box 9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7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8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8" name="Text Box 10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8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Text Box 11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Impacto de la partición modal en el desarrollo de la ciu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9640" y="2276640"/>
            <a:ext cx="8425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qué tipo de ciudad querem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para qué queremos la ciud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hacia qué tipo de ciudad nos estamos movien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se puede hacer algo distin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729560" cy="234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4751280" cy="2496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2627280" y="285264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Informe Ejecutivo EOD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305193596_5e0105ba07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58327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>
            <a:hlinkClick r:id="rId2" action="ppaction://hlinksldjump"/>
          </p:cNvPr>
          <p:cNvSpPr/>
          <p:nvPr/>
        </p:nvSpPr>
        <p:spPr>
          <a:xfrm>
            <a:off x="8317080" y="638172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21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9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0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11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AutoShape 12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3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066680" y="29973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1"/>
              <p:cNvSpPr txBox="1"/>
              <p:nvPr/>
            </p:nvSpPr>
            <p:spPr>
              <a:xfrm>
                <a:off x="3657600" y="299736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3" name="Text Box 12"/>
          <p:cNvSpPr/>
          <p:nvPr/>
        </p:nvSpPr>
        <p:spPr>
          <a:xfrm>
            <a:off x="1219320" y="3645000"/>
            <a:ext cx="739116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uáles serán los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8" name="Text Box 9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1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2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Text Box 13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886200" y="1447920"/>
            <a:ext cx="48006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importan las diferencias entre alternativas.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Text Box 9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0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2" name="AutoShape 11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 Marcela Munizaga</cp:lastModifiedBy>
  <dcterms:modified xsi:type="dcterms:W3CDTF">2009-09-11T15:12:03Z</dcterms:modified>
  <cp:revision>74</cp:revision>
  <dc:subject/>
  <dc:title>Sin título de diapositiva</dc:title>
</cp:coreProperties>
</file>