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503D-A2C7-4EB8-B3E2-8D7FB24BC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66F1-823A-4452-B62E-9DDC744E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C168-155C-4CA3-8921-3129F36FA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6E55-3E1E-4F3F-9F68-19EED3CE5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647A-48A6-47F0-8F9B-5EB206D8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1E12-CFEF-4FFC-82DB-E792C0CF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25B0-4904-4620-8AEF-109F5DAC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1CCC-DA5F-4BA3-AAE1-44F482D2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6182-51C7-49F3-B69C-8FE10588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1393-74C8-404C-97A0-BF8AAC1A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C4A9-4441-4BEB-B9CF-60D8261E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4BC7-8C0F-45D5-9D8C-FA343207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6392-05F1-4046-9F95-737EA4D42BA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ación de la Partición 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1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2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4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5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6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27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8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9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30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31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32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33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34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35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36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37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51"/>
          <p:cNvSpPr/>
          <p:nvPr/>
        </p:nvSpPr>
        <p:spPr>
          <a:xfrm flipH="1">
            <a:off x="1676520" y="33526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54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5"/>
          <p:cNvSpPr/>
          <p:nvPr/>
        </p:nvSpPr>
        <p:spPr>
          <a:xfrm>
            <a:off x="419112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56"/>
          <p:cNvSpPr/>
          <p:nvPr/>
        </p:nvSpPr>
        <p:spPr>
          <a:xfrm>
            <a:off x="4038480" y="17524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57"/>
          <p:cNvSpPr/>
          <p:nvPr/>
        </p:nvSpPr>
        <p:spPr>
          <a:xfrm>
            <a:off x="44197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8"/>
          <p:cNvSpPr/>
          <p:nvPr/>
        </p:nvSpPr>
        <p:spPr>
          <a:xfrm>
            <a:off x="3962520" y="2971800"/>
            <a:ext cx="419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(para un cierto periodo -propósito-tipo de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9"/>
          <p:cNvSpPr/>
          <p:nvPr/>
        </p:nvSpPr>
        <p:spPr>
          <a:xfrm>
            <a:off x="43434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0"/>
          <p:cNvSpPr/>
          <p:nvPr/>
        </p:nvSpPr>
        <p:spPr>
          <a:xfrm>
            <a:off x="4114800" y="4191120"/>
            <a:ext cx="990720" cy="60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61"/>
          <p:cNvSpPr/>
          <p:nvPr/>
        </p:nvSpPr>
        <p:spPr>
          <a:xfrm>
            <a:off x="45720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2"/>
          <p:cNvSpPr/>
          <p:nvPr/>
        </p:nvSpPr>
        <p:spPr>
          <a:xfrm>
            <a:off x="411480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orción de usuarios que utiliza cada m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914400" y="1143000"/>
            <a:ext cx="8001000" cy="56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observamos los atributos (X) y las elecciones (i) de muchos individ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busc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' tal que las predicciones sean buenas, al menos para la muestra de calib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sabemos si son buen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Max P(Felipe elija bus, Juan elija metro, Camila elija bu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=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Metro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Maximizar la probabilidad de que lo predicho sea igual a lo obser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-&gt; MÁXIMA VEROSIMI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914400" y="1143000"/>
            <a:ext cx="800100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todas las alternativas tienen la misma uti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ando se alcanzan los valores límite 0 y 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de la componente aleatoria representada po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ependencia de alternativas ir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14400" y="1143000"/>
            <a:ext cx="8001000" cy="41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tantes modales (específ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3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4"/>
          <p:cNvSpPr/>
          <p:nvPr/>
        </p:nvSpPr>
        <p:spPr>
          <a:xfrm flipH="1">
            <a:off x="1905120" y="4191120"/>
            <a:ext cx="38088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914400" y="5181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terpretación de los parámetr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14400" y="1143000"/>
            <a:ext cx="80010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pecificación de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D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S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CAM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croeconomía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1447920" y="2971800"/>
                <a:ext cx="15494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S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mp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Text Box 5"/>
          <p:cNvSpPr/>
          <p:nvPr/>
        </p:nvSpPr>
        <p:spPr>
          <a:xfrm>
            <a:off x="3657600" y="297180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uánto estoy dispuesto a pagar por ahorrarme un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cuti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9144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iab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124080" y="4419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i, Q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914400" y="49528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ariables socioeconómica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otras variables que describen al individu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greso, género, edad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14400" y="11430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asticidades      ¿sig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990720" y="2819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asticidad cruz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990720" y="4495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6"/>
              <p:cNvSpPr txBox="1"/>
              <p:nvPr/>
            </p:nvSpPr>
            <p:spPr>
              <a:xfrm>
                <a:off x="990720" y="1676520"/>
                <a:ext cx="26668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7"/>
              <p:cNvSpPr txBox="1"/>
              <p:nvPr/>
            </p:nvSpPr>
            <p:spPr>
              <a:xfrm>
                <a:off x="5867280" y="11430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8"/>
              <p:cNvSpPr txBox="1"/>
              <p:nvPr/>
            </p:nvSpPr>
            <p:spPr>
              <a:xfrm>
                <a:off x="1143000" y="3276720"/>
                <a:ext cx="289548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9"/>
              <p:cNvSpPr txBox="1"/>
              <p:nvPr/>
            </p:nvSpPr>
            <p:spPr>
              <a:xfrm>
                <a:off x="1066680" y="5105520"/>
                <a:ext cx="1828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10"/>
              <p:cNvSpPr txBox="1"/>
              <p:nvPr/>
            </p:nvSpPr>
            <p:spPr>
              <a:xfrm>
                <a:off x="2971800" y="5105520"/>
                <a:ext cx="13716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11"/>
              <p:cNvSpPr txBox="1"/>
              <p:nvPr/>
            </p:nvSpPr>
            <p:spPr>
              <a:xfrm>
                <a:off x="4343400" y="5029200"/>
                <a:ext cx="2895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ΔP</m:t>
                    </m:r>
                    <m:r>
                      <m:t xml:space="preserve">≈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Text Box 12"/>
          <p:cNvSpPr/>
          <p:nvPr/>
        </p:nvSpPr>
        <p:spPr>
          <a:xfrm>
            <a:off x="1143000" y="61722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uena aproximación 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5029200" y="6019920"/>
            <a:ext cx="3886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 es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i es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1440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probabilidad de elección  es individual ¿cómo agregar para realizar predicciones para una pob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685800" y="2057400"/>
                <a:ext cx="175248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Line 5"/>
          <p:cNvSpPr/>
          <p:nvPr/>
        </p:nvSpPr>
        <p:spPr>
          <a:xfrm flipH="1" flipV="1">
            <a:off x="3886200" y="2209320"/>
            <a:ext cx="1440" cy="358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3886200" y="57913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7"/>
          <p:cNvSpPr/>
          <p:nvPr/>
        </p:nvSpPr>
        <p:spPr>
          <a:xfrm>
            <a:off x="3505320" y="2514600"/>
            <a:ext cx="4343400" cy="32259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33526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82296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0"/>
          <p:cNvSpPr/>
          <p:nvPr/>
        </p:nvSpPr>
        <p:spPr>
          <a:xfrm>
            <a:off x="4495680" y="5715000"/>
            <a:ext cx="0" cy="76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434340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2"/>
          <p:cNvSpPr/>
          <p:nvPr/>
        </p:nvSpPr>
        <p:spPr>
          <a:xfrm>
            <a:off x="5791320" y="4267080"/>
            <a:ext cx="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556272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4"/>
          <p:cNvSpPr/>
          <p:nvPr/>
        </p:nvSpPr>
        <p:spPr>
          <a:xfrm flipH="1">
            <a:off x="3885840" y="5715000"/>
            <a:ext cx="60948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2895480" y="541008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6"/>
          <p:cNvSpPr/>
          <p:nvPr/>
        </p:nvSpPr>
        <p:spPr>
          <a:xfrm flipH="1">
            <a:off x="3886200" y="4267080"/>
            <a:ext cx="190512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2971800" y="40384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8"/>
          <p:cNvSpPr/>
          <p:nvPr/>
        </p:nvSpPr>
        <p:spPr>
          <a:xfrm flipV="1">
            <a:off x="5181480" y="5791320"/>
            <a:ext cx="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4572000" y="624852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20"/>
          <p:cNvSpPr/>
          <p:nvPr/>
        </p:nvSpPr>
        <p:spPr>
          <a:xfrm flipV="1">
            <a:off x="5181480" y="540972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21"/>
          <p:cNvSpPr/>
          <p:nvPr/>
        </p:nvSpPr>
        <p:spPr>
          <a:xfrm flipH="1">
            <a:off x="3886200" y="5410080"/>
            <a:ext cx="1295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22"/>
          <p:cNvSpPr/>
          <p:nvPr/>
        </p:nvSpPr>
        <p:spPr>
          <a:xfrm>
            <a:off x="2209680" y="54100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152280" y="5257800"/>
            <a:ext cx="205740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{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/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24"/>
          <p:cNvSpPr/>
          <p:nvPr/>
        </p:nvSpPr>
        <p:spPr>
          <a:xfrm flipH="1">
            <a:off x="2209320" y="49528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762120" y="4648320"/>
            <a:ext cx="144756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6"/>
          <p:cNvSpPr/>
          <p:nvPr/>
        </p:nvSpPr>
        <p:spPr>
          <a:xfrm>
            <a:off x="2590920" y="3733920"/>
            <a:ext cx="0" cy="12189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7"/>
          <p:cNvSpPr/>
          <p:nvPr/>
        </p:nvSpPr>
        <p:spPr>
          <a:xfrm flipV="1">
            <a:off x="2590920" y="5410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152280" y="35812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sgo de agre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838080" y="3733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foque ino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0"/>
              <p:cNvSpPr txBox="1"/>
              <p:nvPr/>
            </p:nvSpPr>
            <p:spPr>
              <a:xfrm>
                <a:off x="4495680" y="3733920"/>
                <a:ext cx="19814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Text Box 5"/>
          <p:cNvSpPr/>
          <p:nvPr/>
        </p:nvSpPr>
        <p:spPr>
          <a:xfrm>
            <a:off x="914400" y="4724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umeración mu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"/>
              <p:cNvSpPr txBox="1"/>
              <p:nvPr/>
            </p:nvSpPr>
            <p:spPr>
              <a:xfrm>
                <a:off x="4572000" y="4495680"/>
                <a:ext cx="21337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6" name="Text Box 7"/>
          <p:cNvSpPr/>
          <p:nvPr/>
        </p:nvSpPr>
        <p:spPr>
          <a:xfrm>
            <a:off x="914400" y="5638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2"/>
              <p:cNvSpPr txBox="1"/>
              <p:nvPr/>
            </p:nvSpPr>
            <p:spPr>
              <a:xfrm>
                <a:off x="4038480" y="5562720"/>
                <a:ext cx="24386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Q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Text Box 9"/>
          <p:cNvSpPr/>
          <p:nvPr/>
        </p:nvSpPr>
        <p:spPr>
          <a:xfrm>
            <a:off x="457200" y="11430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tición de mercado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609480" y="2743200"/>
            <a:ext cx="7696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blema: necesitamos calcular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a toda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Object 3"/>
          <p:cNvGraphicFramePr/>
          <p:nvPr/>
        </p:nvGraphicFramePr>
        <p:xfrm>
          <a:off x="609480" y="1523880"/>
          <a:ext cx="13106520" cy="106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131065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762120" y="1295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rma Incremental del modelo Lo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990720" y="2133720"/>
                <a:ext cx="167616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5"/>
              <p:cNvSpPr txBox="1"/>
              <p:nvPr/>
            </p:nvSpPr>
            <p:spPr>
              <a:xfrm>
                <a:off x="3124080" y="2057400"/>
                <a:ext cx="18288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f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6"/>
              <p:cNvSpPr txBox="1"/>
              <p:nvPr/>
            </p:nvSpPr>
            <p:spPr>
              <a:xfrm>
                <a:off x="5410080" y="2057400"/>
                <a:ext cx="22860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Text Box 7"/>
          <p:cNvSpPr/>
          <p:nvPr/>
        </p:nvSpPr>
        <p:spPr>
          <a:xfrm>
            <a:off x="80010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8"/>
              <p:cNvSpPr txBox="1"/>
              <p:nvPr/>
            </p:nvSpPr>
            <p:spPr>
              <a:xfrm>
                <a:off x="1066680" y="3809880"/>
                <a:ext cx="228600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9" name="Text Box 9"/>
          <p:cNvSpPr/>
          <p:nvPr/>
        </p:nvSpPr>
        <p:spPr>
          <a:xfrm>
            <a:off x="4419720" y="3962520"/>
            <a:ext cx="4114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necesitamos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ambios propuestos y sensibilidad a esos cambios para pivotear en torno a la situación ac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91440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imación del modelo Logi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38080" y="3733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99072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990720" y="2819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=&gt;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7"/>
              <p:cNvSpPr txBox="1"/>
              <p:nvPr/>
            </p:nvSpPr>
            <p:spPr>
              <a:xfrm>
                <a:off x="2286000" y="1676520"/>
                <a:ext cx="44956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t xml:space="preserve">q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lige</m:t>
                              </m:r>
                              <m:r>
                                <m:t xml:space="preserve"> 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8"/>
              <p:cNvSpPr txBox="1"/>
              <p:nvPr/>
            </p:nvSpPr>
            <p:spPr>
              <a:xfrm>
                <a:off x="2743200" y="2679840"/>
                <a:ext cx="25146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9"/>
              <p:cNvSpPr txBox="1"/>
              <p:nvPr/>
            </p:nvSpPr>
            <p:spPr>
              <a:xfrm>
                <a:off x="1712880" y="4286160"/>
                <a:ext cx="525960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8" name="Text Box 10"/>
          <p:cNvSpPr/>
          <p:nvPr/>
        </p:nvSpPr>
        <p:spPr>
          <a:xfrm>
            <a:off x="1143000" y="56386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l modelo reproduce las particiones de mercado observ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04920" y="11430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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g (pro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838080" y="4343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0): log verosimilitud del modelo equiprob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*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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log verosimilitud del modelo estim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438280" y="1143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áximo teórico = 0 , nunca se alc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380880" y="2209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adígraf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838080" y="54100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C): log verosimilitud del modelo sólo constantes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(reproduce las particiones de mercado observ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7"/>
              <p:cNvSpPr txBox="1"/>
              <p:nvPr/>
            </p:nvSpPr>
            <p:spPr>
              <a:xfrm>
                <a:off x="2743200" y="1981080"/>
                <a:ext cx="12193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8"/>
              <p:cNvSpPr txBox="1"/>
              <p:nvPr/>
            </p:nvSpPr>
            <p:spPr>
              <a:xfrm>
                <a:off x="914400" y="3352680"/>
                <a:ext cx="2057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9"/>
              <p:cNvSpPr txBox="1"/>
              <p:nvPr/>
            </p:nvSpPr>
            <p:spPr>
              <a:xfrm>
                <a:off x="4191120" y="3352680"/>
                <a:ext cx="20574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0"/>
              <p:cNvSpPr txBox="1"/>
              <p:nvPr/>
            </p:nvSpPr>
            <p:spPr>
              <a:xfrm>
                <a:off x="6172200" y="990720"/>
                <a:ext cx="259092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8" name="Text Box 11"/>
          <p:cNvSpPr/>
          <p:nvPr/>
        </p:nvSpPr>
        <p:spPr>
          <a:xfrm>
            <a:off x="15228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Impacto de la partición modal en el desarrollo de la ciu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39640" y="2276640"/>
            <a:ext cx="84250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¿qué tipo de ciudad querem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¿para qué queremos la ciuda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¿hacia qué tipo de ciudad nos estamos movien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¿se puede hacer algo distin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729560" cy="2340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3276720" y="3141720"/>
            <a:ext cx="4751280" cy="24969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2627280" y="2852640"/>
            <a:ext cx="53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Informe Ejecutivo EOD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305193596_5e0105ba07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583272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7">
            <a:hlinkClick r:id="rId2" action="ppaction://hlinksldjump"/>
          </p:cNvPr>
          <p:cNvSpPr/>
          <p:nvPr/>
        </p:nvSpPr>
        <p:spPr>
          <a:xfrm>
            <a:off x="8317080" y="638172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406800" y="1211400"/>
            <a:ext cx="780984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ación desagregada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tender al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oría d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 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eoría de elecciones discretas: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21"/>
              <p:cNvSpPr txBox="1"/>
              <p:nvPr/>
            </p:nvSpPr>
            <p:spPr>
              <a:xfrm>
                <a:off x="685800" y="3886200"/>
                <a:ext cx="8458200" cy="25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e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e>
                        <m:e/>
                      </m:mr>
                      <m:mr>
                        <m:e/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I</m:t>
                              </m:r>
                            </m:e>
                          </m:nary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/>
                        <m:e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r>
                            <m:t xml:space="preserve">A</m:t>
                          </m:r>
                        </m:e>
                      </m:mr>
                    </m:m>
                    <m:m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A</m:t>
                          </m:r>
                          <m:r>
                            <m:t xml:space="preserve">: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junt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lternativa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isponibles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imización en dos etapas: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410080" y="3809880"/>
            <a:ext cx="35053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Función de utilidad indirecta con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V(I-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,P,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9"/>
              <p:cNvSpPr txBox="1"/>
              <p:nvPr/>
            </p:nvSpPr>
            <p:spPr>
              <a:xfrm>
                <a:off x="609480" y="1828800"/>
                <a:ext cx="38102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  <m:e/>
                            </m:mr>
                            <m:mr>
                              <m:e/>
                              <m:e>
                                <m:r>
                                  <m:t xml:space="preserve">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≤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nary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10"/>
              <p:cNvSpPr txBox="1"/>
              <p:nvPr/>
            </p:nvSpPr>
            <p:spPr>
              <a:xfrm>
                <a:off x="5257800" y="2362320"/>
                <a:ext cx="26668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11"/>
              <p:cNvSpPr txBox="1"/>
              <p:nvPr/>
            </p:nvSpPr>
            <p:spPr>
              <a:xfrm>
                <a:off x="5715000" y="3048120"/>
                <a:ext cx="1981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*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" name="AutoShape 12"/>
          <p:cNvSpPr/>
          <p:nvPr/>
        </p:nvSpPr>
        <p:spPr>
          <a:xfrm>
            <a:off x="4495680" y="190512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13"/>
              <p:cNvSpPr txBox="1"/>
              <p:nvPr/>
            </p:nvSpPr>
            <p:spPr>
              <a:xfrm>
                <a:off x="774720" y="5181480"/>
                <a:ext cx="38606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i</m:t>
                                    </m:r>
                                  </m:lim>
                                </m:limLow>
                              </m:e>
                              <m:e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914400" y="1143000"/>
            <a:ext cx="3733920" cy="20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modelamos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724280" y="18288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: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i: 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1066680" y="299736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1"/>
              <p:cNvSpPr txBox="1"/>
              <p:nvPr/>
            </p:nvSpPr>
            <p:spPr>
              <a:xfrm>
                <a:off x="3657600" y="299736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3" name="Text Box 12"/>
          <p:cNvSpPr/>
          <p:nvPr/>
        </p:nvSpPr>
        <p:spPr>
          <a:xfrm>
            <a:off x="1219320" y="3645000"/>
            <a:ext cx="7391160" cy="27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¿cuáles serán los 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(i/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 = Pr(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para todo j en 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Pr(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depende de la distribución de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914400" y="1143000"/>
            <a:ext cx="3124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N(0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09480" y="4038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8"/>
              <p:cNvSpPr txBox="1"/>
              <p:nvPr/>
            </p:nvSpPr>
            <p:spPr>
              <a:xfrm>
                <a:off x="4038480" y="1295280"/>
                <a:ext cx="4572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q</m:t>
                            </m:r>
                          </m:sub>
                        </m:sSub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q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dε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8" name="Text Box 9"/>
          <p:cNvSpPr/>
          <p:nvPr/>
        </p:nvSpPr>
        <p:spPr>
          <a:xfrm>
            <a:off x="990720" y="2286000"/>
            <a:ext cx="7848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Gumbel(Weibull, Valor Extremo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0"/>
              <p:cNvSpPr txBox="1"/>
              <p:nvPr/>
            </p:nvSpPr>
            <p:spPr>
              <a:xfrm>
                <a:off x="1828800" y="3124080"/>
                <a:ext cx="58356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acc>
                          <m:accPr>
                            <m:chr m:val="⃛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⃛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sup>
                        </m:sSup>
                      </m:sup>
                    </m:sSup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1"/>
              <p:cNvSpPr txBox="1"/>
              <p:nvPr/>
            </p:nvSpPr>
            <p:spPr>
              <a:xfrm>
                <a:off x="1905120" y="47242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2"/>
              <p:cNvSpPr txBox="1"/>
              <p:nvPr/>
            </p:nvSpPr>
            <p:spPr>
              <a:xfrm>
                <a:off x="4343400" y="48006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Text Box 13"/>
          <p:cNvSpPr/>
          <p:nvPr/>
        </p:nvSpPr>
        <p:spPr>
          <a:xfrm>
            <a:off x="1371600" y="6095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modelo Logit Mult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886200" y="1447920"/>
            <a:ext cx="480060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pende de los atributos de i y del r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importan las diferencias entre alternativas.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200400" y="4876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514600" y="36576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actor de escala que no se puede estimar (parámetro no identifi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6"/>
              <p:cNvSpPr txBox="1"/>
              <p:nvPr/>
            </p:nvSpPr>
            <p:spPr>
              <a:xfrm>
                <a:off x="1143000" y="3657600"/>
                <a:ext cx="1219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7"/>
              <p:cNvSpPr txBox="1"/>
              <p:nvPr/>
            </p:nvSpPr>
            <p:spPr>
              <a:xfrm>
                <a:off x="914400" y="10666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8"/>
              <p:cNvSpPr txBox="1"/>
              <p:nvPr/>
            </p:nvSpPr>
            <p:spPr>
              <a:xfrm>
                <a:off x="1752480" y="22860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Text Box 9"/>
          <p:cNvSpPr/>
          <p:nvPr/>
        </p:nvSpPr>
        <p:spPr>
          <a:xfrm>
            <a:off x="990720" y="5791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0"/>
              <p:cNvSpPr txBox="1"/>
              <p:nvPr/>
            </p:nvSpPr>
            <p:spPr>
              <a:xfrm>
                <a:off x="1066680" y="487692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2" name="AutoShape 11"/>
          <p:cNvSpPr/>
          <p:nvPr/>
        </p:nvSpPr>
        <p:spPr>
          <a:xfrm rot="16090200">
            <a:off x="3924360" y="5218920"/>
            <a:ext cx="75960" cy="30492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3733920" y="5334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5029200" y="487692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 Marcela Munizaga</cp:lastModifiedBy>
  <dcterms:modified xsi:type="dcterms:W3CDTF">2009-09-11T15:12:03Z</dcterms:modified>
  <cp:revision>74</cp:revision>
  <dc:subject/>
  <dc:title>Sin título de diapositiva</dc:title>
</cp:coreProperties>
</file>