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E19-82C3-46FA-A7B0-E7839EF22D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371-0542-43C4-A23D-FCF3D87221F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E6E-ED62-42D1-8DF1-D0159275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FE6-BA89-44E4-B1D3-C2C494F0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15C-F44F-47C9-98E3-D32881F5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904-EE69-49F1-90C9-256BB61A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4081-F5EA-4A71-9719-F81CE100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76F-A40F-48FD-AEDA-328EA5F4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883-F5B4-4C0D-94EF-9D96AA1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1E0-3EBF-4C3E-B496-C3D0FFF9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6687-7B1F-4D94-9E98-4A9F9906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BFE2-9B11-4DB4-BA43-6384F6E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0A86-CAEA-4B4D-9945-B2C2346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9C1-FFC1-48CC-857A-A4AB97C1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DB10-3B1B-4F21-996A-43C4CC1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540E-18F2-4C15-8462-644451D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9636-9D59-4160-9AC1-EEC8FC6E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565-F226-4AD4-B561-5F258E6A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814-3811-47BE-9367-CFFCB339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F9DD-F7F3-474F-9B58-5453E1C6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467B-EB30-47AF-AC12-9C74DA54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2322-739D-47A0-8327-9488DF2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324A-F323-4717-8ADE-539C3E6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5113-E5FF-47F9-B1E8-A694BA8D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851-DAD1-4A11-BA9E-9D8CDED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7DA3-ED1D-4293-80E1-91B8B16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5FD9-E627-4CF8-A614-4A943D5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34C4-68D5-4188-9A40-BFFB38A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3010-676B-4370-BBD4-638E70B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FF36-1DD5-4A5B-86FE-04715DE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3659-192B-4C3F-9EA3-2195C46E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238F-688E-41CF-A1E2-6B39A1F9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E5CB-8D4A-40F3-BF92-C2E3968E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66CE-DC62-4D8C-B9E3-770E1B9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D831-F65F-42DF-98A7-DEDB8B4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AAD-B7BB-4409-A011-92AAB1C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6B14-4CAE-45AB-8CB3-FFCAD441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AACB-6E5E-49AF-A9C5-8BBBE1D0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5227-B93D-4E7D-86A0-47D2818B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5827-5E03-47BA-84BE-FD520BD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4A60-2579-4315-BBBE-9647C3F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F4BC-53BD-4719-B2E8-9C52355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B248-D05E-4EED-8CE3-43B68993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AB24-57DC-4544-8CD9-9C07F371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0BB0-C4A0-47B5-8B88-D7E63332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86D6C-34D3-4115-A35B-4B6A4257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4BD-DA24-44D4-9ABA-6D051D83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247B-1A32-4163-AAF9-0F93D74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7397-E4A5-462D-BCF5-680C046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3456-05BA-4C71-B056-13199DB3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0A01-2404-4238-A42F-935A27F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C113-60C7-4548-87B3-58531AE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8ABB-E4E1-4AC7-94C4-58A8768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A223-6EEB-4D4A-B53E-EE25438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7263-EE42-4DD6-B3C9-E6C7829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0EA8-CDC1-442D-8AE4-2ECC4EDE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A404-99DC-4A59-B55B-8A6E0C86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4DD-EE57-4819-B4E2-CD3B6B5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8841-6DD2-48F8-8194-09B1853E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CE10-435E-40FA-A7AF-9A80485E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047E-32B3-4E48-B477-44852A3D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7BD8-B1C8-4DFD-8721-E12EC890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277F-D079-4557-A89E-E4D7F31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F175-8857-4C3F-97B6-8D34221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BA1F9-6442-4094-ADBB-4972029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411C-F636-41BB-AA07-C6F1DE2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3B254-6577-44A0-B8A9-9E1AFE9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9672-1B22-423D-B008-65C0056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FCB-3FD0-4D2C-ABA3-1C25ABCE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0146-10AA-4AA6-83C1-80A24DC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5BBF-C768-4073-ABC6-51E721B2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FE591-F2B2-4E34-93CA-7AF22CDA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4B9A-4832-4508-956C-E8598541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45D1-BAA3-45D5-980F-A17B1B0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9552-A9AB-4AE1-AF0A-927B728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82B1F-0470-43F0-88BA-F3B378B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22F1F-937A-4553-95DB-99DB9C0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F526-5554-4044-AF60-B4FAB5F9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CEDBE-A49B-4ADD-9AAD-B8EBF01F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D5F-3B43-4486-B534-A258F52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96C4-E656-4033-BF62-21C3085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8ECF-3DD1-4175-BAB6-621988DF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86E7-B341-436F-A648-340D972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9FB51-CA5B-4BED-AC5A-812BF3E9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84FA-91A9-4E31-AC09-8313410E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79C-9938-4FF4-9DB7-BF20E3A4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1C4-6BAD-49CD-9227-F92A69CC246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0B3A-F0E5-44B2-B411-6952E7962C5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F22-6909-4704-BCD1-DAEE55FFBA0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CA70-7FAD-44A1-B769-143F911042A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367-A6E2-4541-8ACC-20237AFDA5D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498-6674-4B11-AA22-1E3F8C5DD66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18F-8784-4D55-9DD2-AFA11742098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572314"/>
                </a:solidFill>
                <a:latin typeface="Calibri"/>
                <a:ea typeface="Arial"/>
              </a:rPr>
              <a:t>Taller 3 Análisis de sistemas de Transport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ción y Atracción de Viaj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zar y aplicar modelos de generación y atracción de viaj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:  calibrados a partir de la información obtenida de la EOD2001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actividades enunciadas en estas diapositivas deben ser realizadas para los modelos de generación y para los modelos de atracción que se muestran más adelan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1.- Comente acerca de lo que representa el intercepto (constante) en el model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2.- Analice los modelos que se present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Son razonables las variables incluida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¿Incluiría alguna otr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Refiérase a los signos y magnitudes de los coeficientes  de cada uno de los atribut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3.- Elija justificadamente uno de los dos mode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4.- Defina una zona que incluya la manzana de la Facultad de Ciencias Físicas y Matemáticas de la Universidad de Chile.  Sea claro en describir el perímetr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5.- Aplique el modelo a dicha zona. Para las variables explicativas (x) realice estimaciones basadas en su conocimiento de la zo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6.- Analice los resultados obteni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ariab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4680" y="2143080"/>
          <a:ext cx="6500520" cy="4143600"/>
        </p:xfrm>
        <a:graphic>
          <a:graphicData uri="http://schemas.openxmlformats.org/drawingml/2006/table">
            <a:tbl>
              <a:tblPr/>
              <a:tblGrid>
                <a:gridCol w="1062000"/>
                <a:gridCol w="5438520"/>
              </a:tblGrid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ig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Residenc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industri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Comercio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ervici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Salud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D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ducación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A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Almacenamiento y Bodega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Estacionamient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O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Construida Destinada a Otros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uperficie Total Construida (m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Hoga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B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Bá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riculas de Enseñanza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otal de Matricul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Otros (distinto de estudio y trabajo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Fuera de punta (10:00-12:0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retorno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Genera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1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071800" y="2071800"/>
          <a:ext cx="6000480" cy="1214280"/>
        </p:xfrm>
        <a:graphic>
          <a:graphicData uri="http://schemas.openxmlformats.org/drawingml/2006/table">
            <a:tbl>
              <a:tblPr/>
              <a:tblGrid>
                <a:gridCol w="2286000"/>
                <a:gridCol w="1036440"/>
                <a:gridCol w="841320"/>
                <a:gridCol w="995400"/>
                <a:gridCol w="841320"/>
              </a:tblGrid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,6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70,2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2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43200" y="3571920"/>
          <a:ext cx="2689200" cy="350640"/>
        </p:xfrm>
        <a:graphic>
          <a:graphicData uri="http://schemas.openxmlformats.org/drawingml/2006/table">
            <a:tbl>
              <a:tblPr/>
              <a:tblGrid>
                <a:gridCol w="1749600"/>
                <a:gridCol w="93960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14720" y="4929120"/>
          <a:ext cx="5857560" cy="1143000"/>
        </p:xfrm>
        <a:graphic>
          <a:graphicData uri="http://schemas.openxmlformats.org/drawingml/2006/table">
            <a:tbl>
              <a:tblPr/>
              <a:tblGrid>
                <a:gridCol w="2230200"/>
                <a:gridCol w="1013040"/>
                <a:gridCol w="822240"/>
                <a:gridCol w="971640"/>
                <a:gridCol w="82044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SCON_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3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857760" y="6357960"/>
          <a:ext cx="2595600" cy="350640"/>
        </p:xfrm>
        <a:graphic>
          <a:graphicData uri="http://schemas.openxmlformats.org/drawingml/2006/table">
            <a:tbl>
              <a:tblPr/>
              <a:tblGrid>
                <a:gridCol w="16556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pósito: Estudio-2 (Media y Superi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eríodo: Punta (07:15-09: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Basados en el hogar ida y no basados en el hog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tracción de Viaj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2.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143080" y="2071800"/>
          <a:ext cx="5643720" cy="1357200"/>
        </p:xfrm>
        <a:graphic>
          <a:graphicData uri="http://schemas.openxmlformats.org/drawingml/2006/table">
            <a:tbl>
              <a:tblPr/>
              <a:tblGrid>
                <a:gridCol w="1779480"/>
                <a:gridCol w="1078200"/>
                <a:gridCol w="876240"/>
                <a:gridCol w="1035000"/>
                <a:gridCol w="874800"/>
              </a:tblGrid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Interc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679,90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451,3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-1,5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7,8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30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4,6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429000" y="3714840"/>
          <a:ext cx="2335320" cy="350640"/>
        </p:xfrm>
        <a:graphic>
          <a:graphicData uri="http://schemas.openxmlformats.org/drawingml/2006/table">
            <a:tbl>
              <a:tblPr/>
              <a:tblGrid>
                <a:gridCol w="139536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286000" y="4929120"/>
          <a:ext cx="5357880" cy="928800"/>
        </p:xfrm>
        <a:graphic>
          <a:graphicData uri="http://schemas.openxmlformats.org/drawingml/2006/table">
            <a:tbl>
              <a:tblPr/>
              <a:tblGrid>
                <a:gridCol w="1689120"/>
                <a:gridCol w="1023840"/>
                <a:gridCol w="831960"/>
                <a:gridCol w="982800"/>
                <a:gridCol w="830160"/>
              </a:tblGrid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V. Independ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Coefi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Error tí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Probabi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HOG_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8,4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4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9,1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MAT_S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50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15,3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500280" y="6143760"/>
          <a:ext cx="2489400" cy="350640"/>
        </p:xfrm>
        <a:graphic>
          <a:graphicData uri="http://schemas.openxmlformats.org/drawingml/2006/table">
            <a:tbl>
              <a:tblPr/>
              <a:tblGrid>
                <a:gridCol w="1549440"/>
                <a:gridCol w="939960"/>
              </a:tblGrid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R2 Aju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FuturaT"/>
                          <a:ea typeface="Times New Roman"/>
                        </a:rPr>
                        <a:t>0,9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 según correspon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 </cp:lastModifiedBy>
  <dcterms:modified xsi:type="dcterms:W3CDTF">2009-08-19T16:26:23Z</dcterms:modified>
  <cp:revision>46</cp:revision>
  <dc:subject/>
  <dc:title>Taller I CI43A</dc:title>
</cp:coreProperties>
</file>