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004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5FED-8014-445B-A292-26E2CA1BC3A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601B-50F4-4DC8-82BF-D98D2FED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5AB7-F2D7-4FF3-87C3-81FE6410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F78-7790-4963-AAC5-EFAD8651E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22A-87A1-46AD-BF21-48D8DB657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8DEE-28C8-4FBD-89D7-CD7F34EC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6FFF-9CFB-40DB-A84A-01485FC9F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A83B-8E13-4417-A233-60C2A21F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04B-4D0C-46BA-9FB3-45AEB256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CAC4-0CA3-4D42-98FE-40B46819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F8EB-77C7-4C29-B1AB-B8ED298C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6E2A-9040-4D2C-9CCB-C73CEEED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7A84-E1B8-42F0-8D7C-03C9E083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255E-52A9-4FBD-AC26-DC135660A3A3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MussaD\Programa\Mussa.exe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quilibrio del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214720" y="954360"/>
            <a:ext cx="494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calización de equilibrio individual condicional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,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2496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2496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8626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rc 7"/>
          <p:cNvSpPr/>
          <p:nvPr/>
        </p:nvSpPr>
        <p:spPr>
          <a:xfrm rot="60000">
            <a:off x="1638000" y="3009600"/>
            <a:ext cx="5329080" cy="240804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7099560" y="525276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2514600" y="43434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23634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1"/>
          <p:cNvSpPr/>
          <p:nvPr/>
        </p:nvSpPr>
        <p:spPr>
          <a:xfrm flipH="1">
            <a:off x="2514600" y="320040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2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959400" y="4012200"/>
            <a:ext cx="5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rc 14"/>
          <p:cNvSpPr/>
          <p:nvPr/>
        </p:nvSpPr>
        <p:spPr>
          <a:xfrm rot="60000">
            <a:off x="1790640" y="2742840"/>
            <a:ext cx="5329440" cy="24084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5"/>
          <p:cNvGrpSpPr/>
          <p:nvPr/>
        </p:nvGrpSpPr>
        <p:grpSpPr>
          <a:xfrm>
            <a:off x="1066680" y="2362320"/>
            <a:ext cx="6204960" cy="3978720"/>
            <a:chOff x="1066680" y="2362320"/>
            <a:chExt cx="6204960" cy="3978720"/>
          </a:xfrm>
        </p:grpSpPr>
        <p:sp>
          <p:nvSpPr>
            <p:cNvPr id="157" name="Line 16"/>
            <p:cNvSpPr/>
            <p:nvPr/>
          </p:nvSpPr>
          <p:spPr>
            <a:xfrm>
              <a:off x="1430280" y="2673360"/>
              <a:ext cx="0" cy="32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1436760" y="5954760"/>
              <a:ext cx="582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6188400" y="45709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9"/>
            <p:cNvSpPr/>
            <p:nvPr/>
          </p:nvSpPr>
          <p:spPr>
            <a:xfrm>
              <a:off x="1066680" y="23623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987960" y="588636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21"/>
            <p:cNvSpPr/>
            <p:nvPr/>
          </p:nvSpPr>
          <p:spPr>
            <a:xfrm>
              <a:off x="2133720" y="2895480"/>
              <a:ext cx="4267080" cy="2133720"/>
            </a:xfrm>
            <a:prstGeom prst="pie">
              <a:avLst/>
            </a:pr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Text Box 22"/>
          <p:cNvSpPr/>
          <p:nvPr/>
        </p:nvSpPr>
        <p:spPr>
          <a:xfrm>
            <a:off x="7252200" y="494784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23"/>
          <p:cNvGrpSpPr/>
          <p:nvPr/>
        </p:nvGrpSpPr>
        <p:grpSpPr>
          <a:xfrm>
            <a:off x="1503360" y="3306240"/>
            <a:ext cx="6339600" cy="2687040"/>
            <a:chOff x="1503360" y="3306240"/>
            <a:chExt cx="6339600" cy="2687040"/>
          </a:xfrm>
        </p:grpSpPr>
        <p:sp>
          <p:nvSpPr>
            <p:cNvPr id="165" name="Arc 24"/>
            <p:cNvSpPr/>
            <p:nvPr/>
          </p:nvSpPr>
          <p:spPr>
            <a:xfrm rot="60000">
              <a:off x="1523880" y="3352320"/>
              <a:ext cx="5329440" cy="2408400"/>
            </a:xfrm>
            <a:prstGeom prst="pie">
              <a:avLst/>
            </a:pr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25"/>
            <p:cNvSpPr/>
            <p:nvPr/>
          </p:nvSpPr>
          <p:spPr>
            <a:xfrm>
              <a:off x="7128720" y="5587560"/>
              <a:ext cx="71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26"/>
          <p:cNvSpPr/>
          <p:nvPr/>
        </p:nvSpPr>
        <p:spPr>
          <a:xfrm>
            <a:off x="2509200" y="2818440"/>
            <a:ext cx="3681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calización óptima: máxima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7197480" y="4164840"/>
            <a:ext cx="13150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>
            <a:hlinkClick r:id="rId1"/>
          </p:cNvPr>
          <p:cNvSpPr/>
          <p:nvPr/>
        </p:nvSpPr>
        <p:spPr>
          <a:xfrm>
            <a:off x="3059280" y="3621240"/>
            <a:ext cx="3743280" cy="1320480"/>
          </a:xfrm>
          <a:custGeom>
            <a:avLst/>
            <a:gdLst>
              <a:gd name="textAreaLeft" fmla="*/ 85320 w 3743280"/>
              <a:gd name="textAreaRight" fmla="*/ 3657960 w 3743280"/>
              <a:gd name="textAreaTop" fmla="*/ 85320 h 1320480"/>
              <a:gd name="textAreaBottom" fmla="*/ 1235160 h 1320480"/>
            </a:gdLst>
            <a:ahLst/>
            <a:rect l="textAreaLeft" t="textAreaTop" r="textAreaRight" b="textAreaBottom"/>
            <a:pathLst>
              <a:path w="61221" h="21600">
                <a:moveTo>
                  <a:pt x="0" y="0"/>
                </a:moveTo>
                <a:lnTo>
                  <a:pt x="61221" y="0"/>
                </a:lnTo>
                <a:lnTo>
                  <a:pt x="61221" y="21600"/>
                </a:lnTo>
                <a:lnTo>
                  <a:pt x="0" y="21600"/>
                </a:lnTo>
                <a:close/>
              </a:path>
              <a:path fill="lightenLess" w="61221" h="21600">
                <a:moveTo>
                  <a:pt x="0" y="0"/>
                </a:moveTo>
                <a:lnTo>
                  <a:pt x="61221" y="0"/>
                </a:lnTo>
                <a:lnTo>
                  <a:pt x="59821" y="1400"/>
                </a:lnTo>
                <a:lnTo>
                  <a:pt x="1400" y="1400"/>
                </a:lnTo>
                <a:close/>
              </a:path>
              <a:path fill="darken" w="61221" h="21600">
                <a:moveTo>
                  <a:pt x="61221" y="0"/>
                </a:moveTo>
                <a:lnTo>
                  <a:pt x="61221" y="21600"/>
                </a:lnTo>
                <a:lnTo>
                  <a:pt x="59821" y="20200"/>
                </a:lnTo>
                <a:lnTo>
                  <a:pt x="59821" y="1400"/>
                </a:lnTo>
                <a:close/>
              </a:path>
              <a:path fill="darkenLess" w="61221" h="21600">
                <a:moveTo>
                  <a:pt x="61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21" y="20200"/>
                </a:lnTo>
                <a:close/>
              </a:path>
              <a:path fill="lighten" w="61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21" h="21600">
                <a:moveTo>
                  <a:pt x="23604" y="3794"/>
                </a:moveTo>
                <a:lnTo>
                  <a:pt x="37617" y="10800"/>
                </a:lnTo>
                <a:lnTo>
                  <a:pt x="236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619360" y="225252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2"/>
          <p:cNvSpPr/>
          <p:nvPr/>
        </p:nvSpPr>
        <p:spPr>
          <a:xfrm>
            <a:off x="0" y="2514600"/>
            <a:ext cx="4327560" cy="2448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7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3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5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6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17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Text Box 5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26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27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28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29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31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33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035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036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1037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1038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1039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40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Text Box 5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Text Box 8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5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6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5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3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024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27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028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29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30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031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032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33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3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3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03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3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3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4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4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4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4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4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4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1046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047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Object 3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Object 3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4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Object 2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3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Object 2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Object 2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0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4" name="AutoShape 4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Text Box 7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7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8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9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0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1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2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7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8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29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0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1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6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8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conomí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iudad idealizada: plana, suelo idéntico en todos los rad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ajes al trabajo en el centr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de transporte crecientes con la distancia al c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617120" y="544500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99"/>
                </a:solidFill>
                <a:latin typeface="Times New Roman"/>
              </a:rPr>
              <a:t>¿Cuál es la distribución  del uso del sue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844560" y="1803240"/>
          <a:ext cx="38512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803240"/>
                    <a:ext cx="3851280" cy="1003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3" name="Object 4"/>
          <p:cNvGraphicFramePr/>
          <p:nvPr/>
        </p:nvGraphicFramePr>
        <p:xfrm>
          <a:off x="1333440" y="3357720"/>
          <a:ext cx="5488200" cy="17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3440" y="3357720"/>
                    <a:ext cx="54882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5"/>
          <p:cNvSpPr/>
          <p:nvPr/>
        </p:nvSpPr>
        <p:spPr>
          <a:xfrm>
            <a:off x="6346080" y="340236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de bi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827280" y="5418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Times New Roman"/>
              </a:rPr>
              <a:t>Utilidad indirecta condicional en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373080" y="20080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: distancia a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enes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k: costo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116240" y="1758960"/>
            <a:ext cx="38880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9240" y="844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Ejemplo: utilidad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2478240" y="5129280"/>
          <a:ext cx="5127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5129280"/>
                    <a:ext cx="5127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5"/>
          <p:cNvSpPr/>
          <p:nvPr/>
        </p:nvSpPr>
        <p:spPr>
          <a:xfrm>
            <a:off x="1100160" y="423900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indirec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 en lo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4403880" y="1911240"/>
          <a:ext cx="320976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3880" y="1911240"/>
                    <a:ext cx="32097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7"/>
          <p:cNvSpPr/>
          <p:nvPr/>
        </p:nvSpPr>
        <p:spPr>
          <a:xfrm>
            <a:off x="1042920" y="1782720"/>
            <a:ext cx="40575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tricción ingr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8"/>
          <p:cNvGraphicFramePr/>
          <p:nvPr/>
        </p:nvGraphicFramePr>
        <p:xfrm>
          <a:off x="4606920" y="2316240"/>
          <a:ext cx="25560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6920" y="2316240"/>
                    <a:ext cx="2556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9"/>
          <p:cNvGraphicFramePr/>
          <p:nvPr/>
        </p:nvGraphicFramePr>
        <p:xfrm>
          <a:off x="4678200" y="3230640"/>
          <a:ext cx="353232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78200" y="3230640"/>
                    <a:ext cx="35323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"/>
          <p:cNvSpPr/>
          <p:nvPr/>
        </p:nvSpPr>
        <p:spPr>
          <a:xfrm>
            <a:off x="1121760" y="32058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bienes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so-utilidad: </a:t>
            </a:r>
            <a:r>
              <a:rPr b="0" i="1" lang="es-E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s-E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1763640" y="2664000"/>
            <a:ext cx="5970600" cy="3455640"/>
            <a:chOff x="1763640" y="2664000"/>
            <a:chExt cx="5970600" cy="3455640"/>
          </a:xfrm>
        </p:grpSpPr>
        <p:sp>
          <p:nvSpPr>
            <p:cNvPr id="123" name="Freeform 4"/>
            <p:cNvSpPr/>
            <p:nvPr/>
          </p:nvSpPr>
          <p:spPr>
            <a:xfrm>
              <a:off x="1763640" y="2879640"/>
              <a:ext cx="5329440" cy="3240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5"/>
            <p:cNvSpPr/>
            <p:nvPr/>
          </p:nvSpPr>
          <p:spPr>
            <a:xfrm>
              <a:off x="7184880" y="2664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k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6"/>
          <p:cNvGrpSpPr/>
          <p:nvPr/>
        </p:nvGrpSpPr>
        <p:grpSpPr>
          <a:xfrm>
            <a:off x="1692360" y="2879640"/>
            <a:ext cx="6089760" cy="2888280"/>
            <a:chOff x="1692360" y="2879640"/>
            <a:chExt cx="6089760" cy="2888280"/>
          </a:xfrm>
        </p:grpSpPr>
        <p:sp>
          <p:nvSpPr>
            <p:cNvPr id="126" name="Freeform 7"/>
            <p:cNvSpPr/>
            <p:nvPr/>
          </p:nvSpPr>
          <p:spPr>
            <a:xfrm>
              <a:off x="1692360" y="2879640"/>
              <a:ext cx="5510160" cy="2635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7149960" y="5327280"/>
              <a:ext cx="63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8" name="Object 9"/>
          <p:cNvGraphicFramePr/>
          <p:nvPr/>
        </p:nvGraphicFramePr>
        <p:xfrm>
          <a:off x="1620720" y="1206360"/>
          <a:ext cx="446400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206360"/>
                    <a:ext cx="44640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0" name="Group 10"/>
          <p:cNvGrpSpPr/>
          <p:nvPr/>
        </p:nvGrpSpPr>
        <p:grpSpPr>
          <a:xfrm>
            <a:off x="1692360" y="4029120"/>
            <a:ext cx="6479640" cy="440640"/>
            <a:chOff x="1692360" y="4029120"/>
            <a:chExt cx="6479640" cy="440640"/>
          </a:xfrm>
        </p:grpSpPr>
        <p:sp>
          <p:nvSpPr>
            <p:cNvPr id="131" name="Line 11"/>
            <p:cNvSpPr/>
            <p:nvPr/>
          </p:nvSpPr>
          <p:spPr>
            <a:xfrm>
              <a:off x="1692360" y="4379400"/>
              <a:ext cx="5699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7342560" y="4029120"/>
              <a:ext cx="82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3" name="Object 13"/>
          <p:cNvGraphicFramePr/>
          <p:nvPr/>
        </p:nvGraphicFramePr>
        <p:xfrm>
          <a:off x="1738440" y="1773360"/>
          <a:ext cx="451476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8440" y="1773360"/>
                    <a:ext cx="45147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14"/>
          <p:cNvSpPr/>
          <p:nvPr/>
        </p:nvSpPr>
        <p:spPr>
          <a:xfrm>
            <a:off x="6832800" y="112536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uánto pag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5"/>
          <p:cNvGrpSpPr/>
          <p:nvPr/>
        </p:nvGrpSpPr>
        <p:grpSpPr>
          <a:xfrm>
            <a:off x="1104480" y="2490840"/>
            <a:ext cx="7067880" cy="4109400"/>
            <a:chOff x="1104480" y="2490840"/>
            <a:chExt cx="7067880" cy="4109400"/>
          </a:xfrm>
        </p:grpSpPr>
        <p:sp>
          <p:nvSpPr>
            <p:cNvPr id="137" name="Line 16"/>
            <p:cNvSpPr/>
            <p:nvPr/>
          </p:nvSpPr>
          <p:spPr>
            <a:xfrm>
              <a:off x="1692360" y="2519280"/>
              <a:ext cx="0" cy="3600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>
              <a:off x="1692360" y="6119640"/>
              <a:ext cx="6480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8"/>
            <p:cNvSpPr/>
            <p:nvPr/>
          </p:nvSpPr>
          <p:spPr>
            <a:xfrm>
              <a:off x="7895880" y="6140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19"/>
            <p:cNvSpPr/>
            <p:nvPr/>
          </p:nvSpPr>
          <p:spPr>
            <a:xfrm>
              <a:off x="1104480" y="249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1" name="Object 20"/>
          <p:cNvGraphicFramePr/>
          <p:nvPr/>
        </p:nvGraphicFramePr>
        <p:xfrm>
          <a:off x="3224160" y="2685960"/>
          <a:ext cx="2440080" cy="7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4160" y="2685960"/>
                    <a:ext cx="24400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 </cp:lastModifiedBy>
  <dcterms:modified xsi:type="dcterms:W3CDTF">2009-08-07T13:42:46Z</dcterms:modified>
  <cp:revision>65</cp:revision>
  <dc:subject/>
  <dc:title>Sin título de diapositiva</dc:title>
</cp:coreProperties>
</file>