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AD94-1769-4309-A2CD-71A93E587A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A80-864F-4946-9EDE-F6DAAB82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FEA-CE9B-41C9-87B7-1238EF5F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741-745C-4EC7-AA4D-FB8286EA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5D8-18B6-4183-83CE-E5FFD65A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D3C-46B8-43D2-AFEB-B13CE7F8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770-C56B-43A7-9185-CFF9D5F4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C4C-C799-4B2A-8471-A39CFEB4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406-F3D9-46AE-869D-7C6D3289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D6F-EEE5-4DA7-ACF2-EB20CC4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34A-6792-4C13-8F28-8C88DAD3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9DD-F49F-4C8D-918D-E743FD60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413-F5E4-4589-90A4-55C4938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21A3-8AB6-4826-AFF9-0389ECB33E6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4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4:57:22Z</dcterms:modified>
  <cp:revision>70</cp:revision>
  <dc:subject/>
  <dc:title>Sin título de diapositiva</dc:title>
</cp:coreProperties>
</file>