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BE12-8177-4BA9-8EF0-C078163EC0F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E188-440D-4888-B552-DEC913AA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3A30-579D-40F0-AEF6-774CD17D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DD2-320D-475E-A4F2-9AC9C1A2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9F12-E027-40D9-B703-53575B54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F5AD-A5D6-4EDB-80BE-70CDBD10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FA80-30C3-4B51-9934-139757AF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B50D-5CE5-4834-AFE2-79AB72AF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77B0-D7C6-46FA-A580-ACB28307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ADAA-015A-4903-9BF6-6A042C64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B419-BE18-495E-8368-8EEC9AD6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F07B-6813-4E6E-9881-6A640220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7B63-2444-4488-BECF-846BE8E7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E661-3453-4546-B5B8-B11D025554A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ub-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ar o enviar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odelos de equilibri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7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8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1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3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4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650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00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95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4500"/>
                            </p:stCondLst>
                            <p:childTnLst>
                              <p:par>
                                <p:cTn id="6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920" y="10666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ci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3520" y="1770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iajar o 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57200" y="27050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hacia do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57200" y="3581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57200" y="45086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or 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571920" y="1809720"/>
            <a:ext cx="22096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495600" y="2781360"/>
            <a:ext cx="2514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419640" y="3657600"/>
            <a:ext cx="27432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648240" y="4581360"/>
            <a:ext cx="2286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057400" y="5445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o clásic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692360" y="64612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Son separables estas deci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181560" y="9558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¿local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H="1">
            <a:off x="5892480" y="1171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3589200" y="946080"/>
            <a:ext cx="22100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1979640" y="595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o de cinc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El producto en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4"/>
              <p:cNvSpPr txBox="1"/>
              <p:nvPr/>
            </p:nvSpPr>
            <p:spPr>
              <a:xfrm>
                <a:off x="2971800" y="1828800"/>
                <a:ext cx="2419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Rectangle 16"/>
          <p:cNvSpPr/>
          <p:nvPr/>
        </p:nvSpPr>
        <p:spPr>
          <a:xfrm>
            <a:off x="685800" y="29718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k: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t: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i: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j: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puede mirar cada viaje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es necesario juntar viajes “par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Period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unta mañana, punta tarde, meses del año, fines de semana, feriad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udiantes, trabajadores, tercera edad, género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20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propósito de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egún EOD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l trabajo         3.789.844         23,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Al estudio         2.927.932         18,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compras       2.743.003         16,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mic Sans MS"/>
              </a:rPr>
              <a:t>Buscar/dejar     1.351.610            8,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r a alguien      1.074.993           6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ramites               858.583          5,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creación           760.869          4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tro                     754.974          4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Acompañar             664.865          4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 trabajo             485.340          3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De salud                  426.578          2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espa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Zo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riterios: tamaño y número de zonas, compatibilidad con otras zonificaciones, homogene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052640" y="1009800"/>
            <a:ext cx="7038720" cy="4838400"/>
          </a:xfrm>
          <a:prstGeom prst="rect">
            <a:avLst/>
          </a:prstGeom>
          <a:ln w="0">
            <a:noFill/>
          </a:ln>
        </p:spPr>
      </p:pic>
      <p:sp>
        <p:nvSpPr>
          <p:cNvPr id="81" name="2 CuadroTexto"/>
          <p:cNvSpPr/>
          <p:nvPr/>
        </p:nvSpPr>
        <p:spPr>
          <a:xfrm>
            <a:off x="1214280" y="5000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79 zona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3 CuadroTexto"/>
          <p:cNvSpPr/>
          <p:nvPr/>
        </p:nvSpPr>
        <p:spPr>
          <a:xfrm>
            <a:off x="4786200" y="5000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21 zona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4 CuadroTexto"/>
          <p:cNvSpPr/>
          <p:nvPr/>
        </p:nvSpPr>
        <p:spPr>
          <a:xfrm>
            <a:off x="1500120" y="5753160"/>
            <a:ext cx="57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DICTUC (2003) Informe final EOD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5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6" name="Line 6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9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Text Box 12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9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Text Box 10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4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" name="Text Box 15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2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23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5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6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 </cp:lastModifiedBy>
  <dcterms:modified xsi:type="dcterms:W3CDTF">2009-08-07T14:57:22Z</dcterms:modified>
  <cp:revision>70</cp:revision>
  <dc:subject/>
  <dc:title>Sin título de diapositiva</dc:title>
</cp:coreProperties>
</file>