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D650-8770-4725-86CC-596BED871D5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4C80-A269-4995-A2DA-7E0E43F0EF3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985-A3A2-41BD-AC84-69DDC250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4FF-91CA-4B34-BED9-EF47E3F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2DD-E11D-4302-9B80-DBCFA6C5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962-A84D-480D-9E4C-7D7DBE9C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68FE-1554-45F2-8F43-62BF161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8CC-4817-4AFF-86DB-1956F95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E835-BA10-4AAC-8CAD-3799B74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6A68-7CDC-4A24-BB7F-783BB636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5EA-DB6B-470F-9E3F-EA4DFAD5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B04-6E05-4FD2-9713-8DB4545E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C46B-B802-4FC3-AE97-E36F3BE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929-EE37-453C-90FF-46B973FD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B69A-8B71-425A-8396-5948F6F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B852-C401-46C0-BD3F-CDACF2C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15A0-5004-40F7-BEB3-BD5B07B5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C231-D90B-486D-A548-FEAE2D8A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347F-D59F-409D-9E99-2F3BD397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B6FF-3365-485D-A889-5490A678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67B5-E327-4B53-B87B-53EE013C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E50A-99EB-491E-B7C1-3B5C1CD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A3A5-DBF8-4600-B61F-0E89D68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5DB1-05C6-4262-AB2C-66A04C6B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D63-FED8-4571-95C4-2D1284A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EE54-9CF9-4D5C-80B6-3EE18289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A3E7-C9C0-4C58-B83C-67F47821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86F4-B15A-4AD0-B52C-B412289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5259-FA76-421A-A9B9-BAA1588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D302-9AB3-41CD-8648-8A2D8D8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49EC-36D2-4A8C-9801-956AB5AD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17C2-8164-49CC-B7A0-492DF1FB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9A63-A8FA-4AF5-BCC7-09512269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89D3-47DC-4AD1-90FB-BC8C7DA6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ABA0-E097-40BB-B627-AA9E2BF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5C5-E94B-42B8-8136-CA98032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9666-FD40-47A7-95EA-E2F0F2BA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216B-2489-4163-BEC7-8E0D71E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14CF-8047-42B2-81CF-824DCB18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9C2B-3EC2-4415-A210-0A06113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3C5E-F69A-45ED-96BC-1E17864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79DE-7701-4998-8680-B34B564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DA25-9ADD-4AAF-9CC4-D231D3A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EC4C-C8AA-4640-8163-4EA6C144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016B-8DE3-44CB-A136-ED03C548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7221-91BB-4D02-8BF3-0A925F91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2C4-1B20-4D4F-B6F0-89BF5CF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EE29-F234-49D8-BAD6-822411B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247BA-E54E-4D41-B616-7E05E9F1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E57F-A52E-4720-9921-0EE9FE8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5841-21BE-4F95-B5E9-DCDFD71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8A66-E414-4DBE-B0ED-3792F7D7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DD0A-5B5C-4BD7-8D22-3DB883CF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E28C-7B17-4123-9D0A-AB88C42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C184-7559-47AA-A883-4830FCA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9F55-4B65-4D63-9B29-85842F1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7194-A0D6-4A1E-AF9B-42F684C8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D92-D52F-4EE2-8F12-F9E9D0B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B75E-4395-48A1-8183-99D5B65E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48A6-0270-4373-AC20-C26D2A07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4C855-DD0C-4310-BE4B-FA5787CC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612C-9748-49B3-ABD9-1D6C49B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9CEE7-5831-486F-AAC3-0D6A1651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2871-77B4-4EC4-9861-63765990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CD6E-0CD4-439F-9395-95A1A75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1E5C3-0A16-4A20-86F8-254F80CE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E4E34-99F6-45D0-B4E7-5385534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BFAD-0B1D-443F-B1C2-C36BB46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67D-9F98-44E9-96D1-94C5221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4757-89E3-47F3-9166-DD7AA7CA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A823-4799-4EA6-AFED-5B0FB063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58F4-0412-4837-94E2-52A0FBA7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F70D-4AE1-4820-847E-35C5B383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FE6C-A7D7-41D1-BEE6-71C7EB50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0FD6-1718-41C0-8CC4-58356426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5059-34D6-4AE5-A6DB-381EAF4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6F491-4B66-45FF-BDAE-E0F3D99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92E7-6285-4728-A816-D16CB247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8A6D0-C455-4A64-A649-5A30A82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947-2BED-4C96-B276-0128EB5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7A40-2CFC-4D41-9B8A-2DE968B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8342-0EDC-4BA2-B8A6-C707E60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38E7-77B4-4F43-8180-694ABAAE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AE4B-B0DD-4D62-983D-088B4CCF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F3A0-D989-4C66-802F-F68A8DB3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8EB-DC53-4157-A3F9-685E4AF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053-254E-4360-B224-953F6288556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C5EC-DEA7-4F74-BA3B-01E7621CBE3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E6D-B0A3-4118-8E46-AEC4E28ECF9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1A29-DD60-4B93-B4CE-1133975B7E7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30A-009A-4073-BCFF-1D0489755F8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50E2-368F-4EA0-8C4F-48D7CFE7176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CD64-92F0-4D66-B17D-37701569CDD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8-05T01:48:40Z</dcterms:modified>
  <cp:revision>15</cp:revision>
  <dc:subject/>
  <dc:title>Taller I CI43A </dc:title>
</cp:coreProperties>
</file>