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01FE-1534-44E9-A8E0-B6EAFC11AED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13B9-D415-4DA6-AF5E-DC4CBAE64ED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980A-2933-4DB9-A2E0-13EF09E8F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C548-D13E-4718-950E-993EB59C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4A02-75CF-4D3C-97AA-5EBC269E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8F92-72C0-4FA6-9991-6EDB9610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4713-6451-457C-9675-93139C03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D4B3-67AB-417A-8F83-8BC43E67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FCDA-6082-45D1-BA9F-27F60275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B0B5-FBF5-4957-B9EA-9B96F8F0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9D83-7C1A-440F-B50D-41600347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E0A4-D748-4CA4-8031-ED0DCA92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2684-B290-44F4-8527-17A737C6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57E6-1FC5-44C9-84AC-469A85CB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6E0E-A59A-4D97-B986-705B9C3B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25E9-C951-463F-A770-2BB834DD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7E68-8CB7-442D-915F-27B1AB3A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42E9-33EE-4D93-8DFD-FB497FEC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A9BA-7B7E-4277-9F2A-04E389EED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46D20-D814-4ED9-9F6B-168A96D1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97AFD-E486-465E-B30D-2A2724E2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3EC01-FFF8-4953-886F-08AC90DA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1F2A7-0A81-4493-9F14-CB8A8633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3B9FB-539E-4B73-AF38-3ACCA7AF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A9F4-495D-4B51-B1A8-D06D84DC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1A22A-2216-4D05-AA29-CCA225F9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50074-EE2E-42F5-8590-3691FBEF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6D182-4D7E-4E87-A50D-4B83DED6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42E93-767F-40A3-9303-FC61CEA6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FB57A-D2A5-45B9-B2DD-C320B959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E603D-FCF0-444E-814D-0192A59FF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96377-B609-40A8-AC06-33BD60460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BF2A8-F53A-4404-AB37-D5BAFA24D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18852-F3AC-43E5-BA6A-387635BF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24E39-9A33-407E-B151-4856C5A0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15C9-6158-452B-ADD4-0B85389F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AE4C7-B7C8-4B69-937D-594CC8C3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97D2C-6368-4A03-BB7A-DAEDF4D1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6F3B3-B39E-48A9-8E37-19B45AEB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A4E91-0581-4A6E-B092-B69F5DB4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945FD-ACEC-47EF-AA98-925C91FC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AE939-2F92-4CF1-898B-E205F62B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F7C38-99E9-49A0-B923-91BC4CBB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029CC-C9A5-4180-8AAC-6A2BCC51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85E0C-C685-4E92-B325-BF9850FB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F7301-EA9E-4C95-9425-EB4434DB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629F-B739-447E-81DA-B41CD881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C3612-C76C-4404-BF12-D5311429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1CEA3-4275-469F-96E7-681C1BC6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3E34E-1F88-493A-8AB6-DEB2EB77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277FD-355A-40F6-84DD-F65B6BE3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B7D58-A7AB-4DB3-83BE-75D06AFE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9454D-E7C4-4FE4-9E95-A549015F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4FF10-8864-4DDC-9A51-64E6C563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523D2-CD2C-48F4-AFBB-CB29E982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C865A-E7CC-40CC-9934-FC79770F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6C083-160D-4E58-B2B1-EDC5A61C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3124-77F9-41D1-A426-1D60090E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218AE-8F03-4E10-8556-E3C58FDB1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7FC6E-9664-4732-8D20-6B0D358F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9DF4F-F6DE-41B3-B4B8-CA5F907A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F3226-5B0F-4723-AE67-7F212B31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7D032-3B94-4C39-B8A3-BFDD3C28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2C52C-14C0-48C7-9F5C-8666F90F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4A9E1-A6EF-4C10-BA35-BEDEF185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9369E-06AA-4FA9-B70B-65F542AC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AD285-2FA4-4E1A-8B6F-22995F6C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B4E91-7D28-4822-A2A1-C5C69A2A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F32A-B040-44BB-8070-3DA923FF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34238-427F-4D7B-A82B-3AFA72A0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515D4-FF01-4B04-92C3-EBC9C4228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61786-5842-43E0-8AEC-A43AFA854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F6EAB-6AFF-4BA4-8104-C583C9ED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5D877-4895-497F-B512-7F3C7B48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EF80B-499D-49DF-A6FE-BBA73380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CC395-5B49-4E5E-BDB5-34755FAC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F89B1-B3EC-4EAE-AD92-655B6C44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A1448-D4CE-4848-BCE0-4633DAEA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C476F-005A-4D8C-BFA7-1CB3AB23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DE0B-AF74-48E7-B110-87FDF96F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C2A1B-6DAB-47B9-A73E-D24B933E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9A88D-3CB9-4254-AFDA-FCBE7A04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936E0-CFF1-4BCE-8345-2397CB9C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8B0BB-208F-4B84-9229-2368EEBC9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31D05-0FC4-4CB3-8F6A-4ABAF8A9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015A-F716-45E2-AEA5-42EE82B8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604D-EEC0-4C0C-89B1-CE22A541F59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B321-716B-44A8-A719-8D7415672DF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65BC-BFD4-4228-BBE0-7BCD30B5836A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1A52-EDC6-4F52-A733-EAE35F4F578F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8B78-E1AC-45CB-A6C1-D46AE53DA668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2F2C-EFA3-4EEA-9027-6A664184F48A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F1CB-F647-4393-8F99-058F23EB038F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572314"/>
                </a:solidFill>
                <a:latin typeface="Calibri"/>
                <a:ea typeface="Arial"/>
              </a:rPr>
              <a:t>Taller I CI43A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ercados Puntua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Problema 1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644480" y="1213920"/>
            <a:ext cx="749952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xisten dos islas en cuyas costas abunda el abalone, un molusco difícil de extraer y procesar, pero que finalmente es un alimento muy apreciado.  En ambas islas se produce y se consume este molusco, y las funciones de oferta y demanda por este en cada una de las islas s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Isla 1</a:t>
            </a:r>
            <a:r>
              <a:rPr b="0" lang="es-MX" sz="1600" spc="-1" strike="noStrike">
                <a:solidFill>
                  <a:srgbClr val="8dc765"/>
                </a:solidFill>
                <a:latin typeface="Gill Sans MT"/>
              </a:rPr>
              <a:t>: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Ofert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3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- 90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Demand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D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= 500 -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Isla 2</a:t>
            </a:r>
            <a:r>
              <a:rPr b="0" lang="es-MX" sz="1600" spc="-1" strike="noStrike">
                <a:solidFill>
                  <a:srgbClr val="8dc765"/>
                </a:solidFill>
                <a:latin typeface="Gill Sans MT"/>
              </a:rPr>
              <a:t>: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Ofert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/2 - 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Demand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100 -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Resolver y graficar el equilibrio en ambos mercad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Graficar las curvas de exceso de demanda y exceso de oferta según correspond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Encontrar la ecuación de demanda de transporte y graficar su curv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33480" indent="-4762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f271c"/>
                </a:solidFill>
                <a:latin typeface="Gill Sans MT"/>
              </a:rPr>
              <a:t>¿</a:t>
            </a:r>
            <a:r>
              <a:rPr b="0" lang="es-CL" sz="20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Cuál es la máxima cantidad a transportar si el transporte fuese gratuito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933480" indent="-4762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f271c"/>
                </a:solidFill>
                <a:latin typeface="Gill Sans MT"/>
              </a:rPr>
              <a:t>¿</a:t>
            </a:r>
            <a:r>
              <a:rPr b="0" lang="es-CL" sz="20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Cuál es la máxima tarifa a cobrar para que exista transporte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4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Dibujar la curva de oferta de transporte t=30+Q/8 y encontrar el punto de equilibrio de este mercad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Gill Sans MT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5 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Utilizando el resultado de la pregunta 4, indique cuáles serían los precios y las cantidades demandadas y consumidas en las isla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Gill Sans MT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6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Analice quienes ganan y quienes pierden en el nuevo escenario.</a:t>
            </a:r>
            <a:r>
              <a:rPr b="0" lang="es-CL" sz="2400" spc="-1" strike="noStrike">
                <a:solidFill>
                  <a:srgbClr val="8dc765"/>
                </a:solidFill>
                <a:latin typeface="Gill Sans MT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 deben entregar los archivos con el siguiente formato: apellido1_apellido2.do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sunto: Taller n°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cluir archivo .doc con el desarrollo del taller y el archivo .xls con los cálcul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9-08-05T01:48:40Z</dcterms:modified>
  <cp:revision>15</cp:revision>
  <dc:subject/>
  <dc:title>Taller I CI43A </dc:title>
</cp:coreProperties>
</file>