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C17D-98DC-479A-A85A-24CA114B02F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5CAC-517D-4B27-835D-36CF8458DC6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FD20-066E-4083-8973-9C96AED8D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F712-0559-4716-8BE8-7B40A50C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C075-4A1D-4CC6-B990-E3338FB38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DF99-BCB5-4537-9EEB-0D8942FDD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C4A7-4C32-4BDE-AC47-A2B16C718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8CE5-EFDD-4628-B26E-03266573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25BC-C50F-428A-916D-DBA9CA1F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7B6B-2F9E-44B5-B56B-89A6ACE3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71AD-2140-4125-97E3-805F819F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A3C3-2F19-413D-B7F2-9A03246A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612C-1E40-4759-8715-D91208C2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8738-CC67-49AF-8A09-40249B99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E62E-604D-4625-B8C8-35C9A6A4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4E97-E451-4B83-A1A5-7DCD1905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4D45-7E13-420B-BB51-648D8D73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B86C-BFAF-4F87-B08B-590096784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8A8C-E958-47FF-BC02-A8D08566B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D79B1-72BB-4F97-8CF5-8990BC248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872F0-0EAE-4F60-8026-7FABC8AC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1AE51-8025-4731-9C78-8DD87908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6D09D-3008-4663-92B5-B9B64897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EEC25-AC7D-42A2-A900-DC54B199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FE36-D8D8-4478-8B40-34EF86BE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1EA92-BC91-4DEE-AFBF-A5A94424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03F4E-AD07-43F4-A2E3-51FE5CE0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1EA44-E9A8-4222-9188-04C82A87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8A43B-073F-4441-8CBF-817220F0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99299-BA02-4BB0-8796-1F78DF36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47E3E-055C-48B5-A700-471DF53EE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46241-0D7D-413D-8613-C2D532934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01B29-0E9E-48E6-BCF1-D94B29D0D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C2513-D0B5-4885-8317-1E58083A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09585-71D6-410C-A081-BD07ED2D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8D09-DF87-4405-828C-C8B73DBD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AC464-0A7E-42DF-BE1E-F91A381B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E1ADB-029C-4886-A189-675C9A85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C2328-BF55-428B-A66D-27B17270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BA83A-527C-4765-B077-D2DD64FD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7D955-7275-4BC8-896F-798B7750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CC8EA-6572-4C52-A396-5F869E84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47ED9-0FE3-4EE6-BF80-C5574EE2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455F2-4ED7-416E-8009-94C32972B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0D29C-D281-44F4-A1E6-99425ACCE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51910-0D87-43FB-A0FA-F62E81557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81E7-D0C3-4EC7-8DB1-18D75D99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9ADD6-8696-4D39-88B0-38696E35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B7188-DC29-44DC-978D-73017CDA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5F343-8EE3-433C-B974-C97CDC27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B295D-1C5D-47DC-8194-0F202E64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181EC-3291-4661-8BBC-97DB2B80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B64AA-0DFA-43ED-9A62-018626B7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7270A-6A0F-4AA3-873F-FB851862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51C85-32CE-4E1D-A79A-C9C5DF7E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C38E4-64BC-4A6C-BE40-5DF811F1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7C4A8-819D-49F1-A691-6B03F9458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2562-A281-4475-8829-78F5F170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4BB40-9DF4-4741-A033-1FFBA0450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A6598-AF88-47DF-8A08-526F0B8F5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674D3-E563-44B6-96A0-A30D1CC8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8A0A3-AA5A-4C6B-AD91-7C58511B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B6BCE-DD70-46E5-B691-DDA10C98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CEAAF-0B06-46BA-8E40-7E9EB655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C5832-1A56-45C7-BF41-9534E21E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2849B-96DB-47FA-8344-FDA95D37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105EE-F30E-47AA-86D1-946063B9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A1DD8-D07C-4BDD-91AC-B89067F8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5D11-FB2A-4FFA-AA5D-06D8F63C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383C5-92E2-4ADE-87CB-B97C3EF3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48C8C-7539-48C3-93FC-9240BC447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8148E-FE02-412C-9115-5EDFD2811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B5B5D-C356-4F90-A2EB-238434527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E24C4-B597-42AA-A664-27BE880D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634A3-1881-4755-964F-C6EA6A49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53BE1-AD91-4329-B5AF-2A01A6AF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8B69A-DC8B-4E84-B0B1-D924EE39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C4C81-078F-489F-82FE-56693F2E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65F8C-53A6-481D-8A1C-2056C1FD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826E-5488-4860-8CA5-CE23022D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A63B0-A5C1-473B-B924-F2B00991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A65A8-47C7-4602-9D81-886486E3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EC373-4FBD-451A-9BE0-3C5BD731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B3CAF-F6CF-4D9C-A66D-48E9B114E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7A00C-87EA-4B3C-B44D-A4809A2C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E6EE-7765-4B21-BBBB-995F6371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0008-4ADA-493C-A285-33C2FD9DB1C1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E296-2771-4C55-9510-5782015A0662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046F-9C61-40E9-ACE5-BE85DBDCAC79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A80D-81B2-4523-9A92-88C9DB6BA004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230D-F9F3-4030-94F4-22B8E33EEDA6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E923-9D01-4D71-A4B9-B756A999CBB0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8615-D149-40B4-B45E-83168267930F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572314"/>
                </a:solidFill>
                <a:latin typeface="Calibri"/>
                <a:ea typeface="Arial"/>
              </a:rPr>
              <a:t>Taller I CI43A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ercados Puntua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Problema 1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644480" y="1213920"/>
            <a:ext cx="749952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xisten dos islas en cuyas costas abunda el abalone, un molusco difícil de extraer y procesar, pero que finalmente es un alimento muy apreciado.  En ambas islas se produce y se consume este molusco, y las funciones de oferta y demanda por este en cada una de las islas s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	</a:t>
            </a: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Isla 1</a:t>
            </a:r>
            <a:r>
              <a:rPr b="0" lang="es-MX" sz="1600" spc="-1" strike="noStrike">
                <a:solidFill>
                  <a:srgbClr val="8dc765"/>
                </a:solidFill>
                <a:latin typeface="Gill Sans MT"/>
              </a:rPr>
              <a:t>: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Ofert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O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= 3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- 90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Demand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D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= 500 -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	</a:t>
            </a: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Isla 2</a:t>
            </a:r>
            <a:r>
              <a:rPr b="0" lang="es-MX" sz="1600" spc="-1" strike="noStrike">
                <a:solidFill>
                  <a:srgbClr val="8dc765"/>
                </a:solidFill>
                <a:latin typeface="Gill Sans MT"/>
              </a:rPr>
              <a:t>: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Ofert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O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=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/2 - 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Demand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= 100 -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Resolver y graficar el equilibrio en ambos mercad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Graficar las curvas de exceso de demanda y exceso de oferta según correspond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Encontrar la ecuación de demanda de transporte y graficar su curv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33480" indent="-47628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f271c"/>
                </a:solidFill>
                <a:latin typeface="Gill Sans MT"/>
              </a:rPr>
              <a:t>¿</a:t>
            </a:r>
            <a:r>
              <a:rPr b="0" lang="es-CL" sz="20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Cuál es la máxima cantidad a transportar si el transporte fuese gratuito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933480" indent="-47628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f271c"/>
                </a:solidFill>
                <a:latin typeface="Gill Sans MT"/>
              </a:rPr>
              <a:t>¿</a:t>
            </a:r>
            <a:r>
              <a:rPr b="0" lang="es-CL" sz="20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Cuál es la máxima tarifa a cobrar para que exista transporte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4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Dibujar la curva de oferta de transporte t=30+Q/8 y encontrar el punto de equilibrio de este mercad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Gill Sans MT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5 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Utilizando el resultado de la pregunta 4, indique cuáles serían los precios y las cantidades demandadas y consumidas en las isla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Gill Sans MT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6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Analice quienes ganan y quienes pierden en el nuevo escenario.</a:t>
            </a:r>
            <a:r>
              <a:rPr b="0" lang="es-CL" sz="2400" spc="-1" strike="noStrike">
                <a:solidFill>
                  <a:srgbClr val="8dc765"/>
                </a:solidFill>
                <a:latin typeface="Gill Sans MT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 deben entregar los archivos con el siguiente formato: apellido1_apellido2.do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sunto: Taller n°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Incluir archivo .doc con el desarrollo del taller y el archivo .xls con los cálcul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l punto base se asigna de acuerdo a la presentación y orden de los archiv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9-08-05T01:48:40Z</dcterms:modified>
  <cp:revision>15</cp:revision>
  <dc:subject/>
  <dc:title>Taller I CI43A </dc:title>
</cp:coreProperties>
</file>