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9F8-83EC-4345-8B61-28D374DC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142-A612-491E-8F92-6F50156B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5ED-70A9-46BA-BA7A-31433E25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525-D967-4574-A5C5-B610F9B8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2DB-B0CE-4484-9585-F34F8A9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851-F5F9-4FE4-BF8A-D7A36A92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E5C-11D1-4A5C-ADD5-5DD245B6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3AD-C20A-4FD8-AF55-5BD695D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458-25C4-4D31-91DE-AA024F09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98B-6820-44F5-ADE8-87121B3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AEB-F12D-4857-93EB-69DBBB47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CA2-F420-4577-9127-7B14878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5819-C9A4-4BFD-A838-52C701DB67F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9-07-27T13:57:51Z</dcterms:modified>
  <cp:revision>37</cp:revision>
  <dc:subject/>
  <dc:title>Definiciones y conceptos básicos</dc:title>
</cp:coreProperties>
</file>