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E13-1270-4505-81A7-DFC5BEA4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8C6-5847-4721-8227-4851D1C7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953-0992-4775-9E46-5370E368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A9A-9E2C-44C1-9CD3-86804481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32E-B22C-499B-8CA2-AECEE0B0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1B1-7DDC-4CE3-B4DD-370F9976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CFF-B0E2-48C2-B9E3-9BBD8B16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96F-23DD-45CE-8A73-421C854E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D96-95E5-41BE-A374-777070C3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F95-7CFD-4633-849B-1D7DCEFC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D10-D59D-49C1-AE66-EAD7139E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535-5D12-4A41-AC50-049770DA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DB11-A109-4284-9D4E-17407C91753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9-07-27T13:57:51Z</dcterms:modified>
  <cp:revision>37</cp:revision>
  <dc:subject/>
  <dc:title>Definiciones y conceptos básicos</dc:title>
</cp:coreProperties>
</file>