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Jungle%20Restore%20Up.wav" ContentType="audio/x-wav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3D168A-4519-45E7-AB82-96DF12D774B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B84F81-8D63-4BF9-A71C-0F2D3FDDA5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7FEE3B-ACD0-4EDA-B083-D0D18E7723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3982BE-62E3-4FE7-8A4A-3C26037BCC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0AE677-E3CD-4219-B6C7-48E61A183B3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B78484-7D87-4340-9B2D-F3C97017ACF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F6D954-3E3D-4C1C-8386-887B73B61C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B3E77-AD2B-4512-843B-F2744237446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0D5AA0-CDF4-4403-8777-A731F3C8745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313A7E-967E-40AC-B201-4066EB1A439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7E16AA-55B2-471D-AD9F-3CE78F87CFA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7A655E-1AC4-4198-8F7E-1942E68FA7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C32-57AB-46DD-9082-A5C3F2D5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193-1D39-4649-8B4F-442D0130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410-7327-46BA-840C-26FB220C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D90-2455-490C-8664-2F46749B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87B-B5DC-4A76-A10D-0088F54B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23E-D32F-4C57-94A7-CE85CA5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B30-074D-4E4E-92E2-E6ED4A6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CA3-9444-43B9-82B0-6456F984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E8F-70A1-4311-B14B-E420254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479-D4B4-49D5-BF57-C9F77BB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F64-7A99-4D3B-9407-3FAE4D4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631-3E0B-43DE-8FC1-DBC44D0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0B5-6087-4EA7-995E-88257DD39D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35812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WEL_009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69" name="Freeform 5"/>
            <p:cNvSpPr/>
            <p:nvPr/>
          </p:nvSpPr>
          <p:spPr>
            <a:xfrm>
              <a:off x="631800" y="1531800"/>
              <a:ext cx="1801800" cy="171144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642960" y="2478240"/>
              <a:ext cx="1428840" cy="5587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>
              <a:off x="1274760" y="1892160"/>
              <a:ext cx="299880" cy="10033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8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06:24Z</dcterms:created>
  <dc:creator>PUBLISIGA</dc:creator>
  <dc:description/>
  <dc:language>en-US</dc:language>
  <cp:lastModifiedBy>James McPhee</cp:lastModifiedBy>
  <dcterms:modified xsi:type="dcterms:W3CDTF">2008-11-17T13:01:36Z</dcterms:modified>
  <cp:revision>24</cp:revision>
  <dc:subject/>
  <dc:title>titulo</dc:title>
</cp:coreProperties>
</file>