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Jungle%20Restore%20Up.wav" ContentType="audio/x-wav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5A416F-E42A-4CB2-B2D6-64D8595A3F48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22A956-D4C6-4EF3-A894-75409376BD2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2472C5-957D-4D38-B16D-1081462B5E8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F208BC-CC01-4E0E-9F40-EC10B82F4CB5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5DC2CB-FF86-4B19-8313-DA1AE72EC22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1FF0ED-C03C-4835-BD6E-0E18B4DA10B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C6622E-6D87-4A17-9BC1-2C68B0A719C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227A41-F83A-43FE-B223-82497BA60DD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94F507-2306-41BA-92F4-75C42C10611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275502-45CE-417A-BA5F-E51EB0A32E0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57EA95-F1B4-4937-A60A-591F58A36B42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906B70-CF32-4CD5-90EB-32D0280ACB9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F2F-063E-4389-A7DD-C01DD753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52B-7AB8-44E9-A54B-B1E7E657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49E-A7AA-49E9-BEC9-F304DCD2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E4B-30DF-434E-A9CC-0F719098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546-E7AF-4B3D-96A8-A283369B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D29-7B33-4A2A-954D-DF46DA7B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4AC-EE5E-4DD3-B312-8D8D0946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BA1-220F-46E5-8493-FE207F79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623-3E94-47F2-B292-AC11E6E9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ABB-7E18-4EDD-9F39-A15B0DF5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453-D133-4E79-A9F4-925A1C9A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90D-2BDD-4C12-90F6-08AFC7B4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25E5-ADEC-4A2E-9770-487BAE8C60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Jungle%20Restore%20Up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00200" y="457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= 0,39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28600" y="13716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debe corregir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Zona Homogénea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95280" y="35812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Copperplate Gothic Bold"/>
              </a:rPr>
              <a:t>V-K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=7,4 m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80880" y="29718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=1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362320" y="42670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Copperplate Gothic Bold"/>
              </a:rPr>
              <a:t>FR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=8,9 m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85800" y="51055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Copperplate Gothic Bold"/>
              </a:rPr>
              <a:t>HU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= 45,3   m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486400" y="6172200"/>
            <a:ext cx="3352680" cy="5101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QMI 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Copperplate Gothic Bold"/>
              </a:rPr>
              <a:t>A-R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= 7,8 m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172200" y="48006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.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5562720" y="5562720"/>
            <a:ext cx="3200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d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10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4,1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181480" y="457200"/>
          <a:ext cx="37432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57200"/>
                    <a:ext cx="3743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075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_WEL_009"/>
          <p:cNvPicPr/>
          <p:nvPr/>
        </p:nvPicPr>
        <p:blipFill>
          <a:blip r:embed="rId1"/>
          <a:stretch/>
        </p:blipFill>
        <p:spPr>
          <a:xfrm>
            <a:off x="1295280" y="7430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ccff"/>
                </a:solidFill>
                <a:latin typeface="Arial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479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ESTUDIO DE CREC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ANALISIS DE FRECUENCIAS REG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Restore%20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610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696000" cy="2086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6905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05360" cy="395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82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0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371600" y="762120"/>
            <a:ext cx="73915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HOMOGENEA Dp (PLUVIAL-GUMBEL-EXORRE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FRECUENCIA REGIONAL QMD MAX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T)/Q(10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OLV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ñ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SUP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0.5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0.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2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28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4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6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7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619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286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jemplo de A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0" y="380880"/>
            <a:ext cx="41911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uenca en R. Metr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=9 Km;  Lg=4 Km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ota Salida=800 ms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 =0,47    PMA=5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24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10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9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631800" y="1531800"/>
            <a:ext cx="1801800" cy="1711440"/>
            <a:chOff x="631800" y="1531800"/>
            <a:chExt cx="1801800" cy="1711440"/>
          </a:xfrm>
        </p:grpSpPr>
        <p:sp>
          <p:nvSpPr>
            <p:cNvPr id="69" name="Freeform 5"/>
            <p:cNvSpPr/>
            <p:nvPr/>
          </p:nvSpPr>
          <p:spPr>
            <a:xfrm>
              <a:off x="631800" y="1531800"/>
              <a:ext cx="1801800" cy="1711440"/>
            </a:xfrm>
            <a:prstGeom prst="pi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6"/>
            <p:cNvSpPr/>
            <p:nvPr/>
          </p:nvSpPr>
          <p:spPr>
            <a:xfrm>
              <a:off x="642960" y="2478240"/>
              <a:ext cx="1428840" cy="55872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"/>
            <p:cNvSpPr/>
            <p:nvPr/>
          </p:nvSpPr>
          <p:spPr>
            <a:xfrm>
              <a:off x="1274760" y="1892160"/>
              <a:ext cx="299880" cy="100332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8"/>
          <p:cNvSpPr/>
          <p:nvPr/>
        </p:nvSpPr>
        <p:spPr>
          <a:xfrm>
            <a:off x="2362320" y="3429000"/>
            <a:ext cx="601956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 Aportante Pluvial según Línea de nie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titud 33,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N en 2000ms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=19 K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 y H =12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33520" y="5943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0,78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352680" y="5486400"/>
            <a:ext cx="441972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1,72 hrs  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91,52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s/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0,313 hrs 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8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06:24Z</dcterms:created>
  <dc:creator>PUBLISIGA</dc:creator>
  <dc:description/>
  <dc:language>en-US</dc:language>
  <cp:lastModifiedBy>James McPhee</cp:lastModifiedBy>
  <dcterms:modified xsi:type="dcterms:W3CDTF">2008-11-17T13:01:36Z</dcterms:modified>
  <cp:revision>24</cp:revision>
  <dc:subject/>
  <dc:title>titulo</dc:title>
</cp:coreProperties>
</file>