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wmf" ContentType="image/x-wmf"/>
  <Override PartName="/ppt/media/image5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Jungle%20Restore%20Up.wav" ContentType="audio/x-wav"/>
  <Override PartName="/ppt/media/image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935C17-BF1D-41BA-80CE-06E4B808F1A7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D07BE0-A5A8-46FB-BFD6-BC72D267971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BFE1D3-3448-4137-879B-76EE12E6AAE9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00443B-D2E1-46C8-B1AC-3B89894AF9E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9DC938-D357-4754-B8AE-03AC4F99B30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547F82-FE00-4D58-84B1-05FE2B8ECD7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0C826E-3242-46B7-8C9F-1A755F65503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E894E28-FEFB-4479-BB0D-74EC244A8153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AA036D-9EDA-46BD-ABB3-AD72B3CA51C6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F7F0B5-582B-4F2C-8D99-347B2131ED1B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804B58-E54B-4B34-A30E-FA7936D54F8A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32FE9A-5464-4E51-BDCC-38C56CC821D1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BE6-6E67-460C-8838-B34D1E64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8AFC-654F-4FB3-9CD2-0BC68B69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3111-7681-4A8E-B8E8-8F28C36E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560F-F0B7-483B-9AFB-275F3012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723B-3C17-467D-917B-D42CDEA3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C363-829C-4B9A-821E-7679FB29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5BEC-2ACE-4786-AFA5-FC33190A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8522-A7AA-43E2-B74F-7E3F1BEC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111-1ABC-4A7E-A3AB-F70F375D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A56-2030-45DB-8E19-F7521FD1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E84-D058-4CB6-AFE5-AE3A9FA2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565-54D5-45E5-A8C1-997060E4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C7DE-13FE-4209-AA1B-98EFC6486BD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cfm_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0" y="0"/>
          <a:ext cx="297180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9718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Jungle%20Restore%20Up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fcfm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1557000"/>
            <a:ext cx="5977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 41C HIDR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24000" y="33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00"/>
                </a:solidFill>
                <a:latin typeface="Tahoma"/>
              </a:rPr>
              <a:t>CAPÍTULO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826920" y="48690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ESTUDIO DE CRECIDA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600200" y="45720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R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= 0,39 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28600" y="1371600"/>
            <a:ext cx="51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debe corregir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2133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Zona Homogénea 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295280" y="358128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Copperplate Gothic Bold"/>
              </a:rPr>
              <a:t>V-K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=7,4 m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80880" y="2971800"/>
            <a:ext cx="266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=10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362320" y="42670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Copperplate Gothic Bold"/>
              </a:rPr>
              <a:t>FR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=8,9 m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85800" y="51055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Copperplate Gothic Bold"/>
              </a:rPr>
              <a:t>HU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= 45,3   m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5486400" y="6172200"/>
            <a:ext cx="3352680" cy="5101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QMI 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Copperplate Gothic Bold"/>
              </a:rPr>
              <a:t>A-R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= 7,8 m</a:t>
            </a:r>
            <a:r>
              <a:rPr b="1" lang="es-ES_tradnl" sz="2400" spc="-1" strike="noStrike" baseline="30000">
                <a:solidFill>
                  <a:srgbClr val="ff0000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0000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6172200" y="4800600"/>
            <a:ext cx="2971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A. Reg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5562720" y="5562720"/>
            <a:ext cx="3200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d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10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4,1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181480" y="457200"/>
          <a:ext cx="3743280" cy="279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57200"/>
                    <a:ext cx="37432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075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_WEL_009"/>
          <p:cNvPicPr/>
          <p:nvPr/>
        </p:nvPicPr>
        <p:blipFill>
          <a:blip r:embed="rId1"/>
          <a:stretch/>
        </p:blipFill>
        <p:spPr>
          <a:xfrm>
            <a:off x="1295280" y="74304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ccff"/>
                </a:solidFill>
                <a:latin typeface="Arial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44792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ESTUDIO DE CRECI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ANALISIS DE FRECUENCIAS REG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Restore%20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610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696000" cy="2086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69055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705360" cy="395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7820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107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371600" y="762120"/>
            <a:ext cx="739152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A HOMOGENEA Dp (PLUVIAL-GUMBEL-EXORREI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VA DE FRECUENCIA REGIONAL QMD MAX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"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T)/Q(10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OLV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ño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SUP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0.5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0.8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2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28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4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6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1.7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5619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228600" y="380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jemplo de A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4572000" y="380880"/>
            <a:ext cx="419112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uenca en R. Metr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L=9 Km;  Lg=4 Km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ota Salida=800 ms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 =0,47    PMA=50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24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10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9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631800" y="1531800"/>
            <a:ext cx="1801800" cy="1711440"/>
            <a:chOff x="631800" y="1531800"/>
            <a:chExt cx="1801800" cy="1711440"/>
          </a:xfrm>
        </p:grpSpPr>
        <p:sp>
          <p:nvSpPr>
            <p:cNvPr id="69" name="Freeform 5"/>
            <p:cNvSpPr/>
            <p:nvPr/>
          </p:nvSpPr>
          <p:spPr>
            <a:xfrm>
              <a:off x="631800" y="1531800"/>
              <a:ext cx="1801800" cy="1711440"/>
            </a:xfrm>
            <a:prstGeom prst="pi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6"/>
            <p:cNvSpPr/>
            <p:nvPr/>
          </p:nvSpPr>
          <p:spPr>
            <a:xfrm>
              <a:off x="642960" y="2478240"/>
              <a:ext cx="1428840" cy="558720"/>
            </a:xfrm>
            <a:prstGeom prst="pie">
              <a:avLst/>
            </a:pr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"/>
            <p:cNvSpPr/>
            <p:nvPr/>
          </p:nvSpPr>
          <p:spPr>
            <a:xfrm>
              <a:off x="1274760" y="1892160"/>
              <a:ext cx="299880" cy="1003320"/>
            </a:xfrm>
            <a:prstGeom prst="pie">
              <a:avLst/>
            </a:prstGeom>
            <a:noFill/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8"/>
          <p:cNvSpPr/>
          <p:nvPr/>
        </p:nvSpPr>
        <p:spPr>
          <a:xfrm>
            <a:off x="2362320" y="3429000"/>
            <a:ext cx="601956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 Aportante Pluvial según Línea de nie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atitud 33,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N en 2000ms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=19 K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 y H =120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33520" y="59436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c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0,78 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352680" y="5486400"/>
            <a:ext cx="4419720" cy="12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1,72 hrs  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91,52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s/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0,313 hrs 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8 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06:24Z</dcterms:created>
  <dc:creator>PUBLISIGA</dc:creator>
  <dc:description/>
  <dc:language>en-US</dc:language>
  <cp:lastModifiedBy>James McPhee</cp:lastModifiedBy>
  <dcterms:modified xsi:type="dcterms:W3CDTF">2008-11-17T13:01:36Z</dcterms:modified>
  <cp:revision>24</cp:revision>
  <dc:subject/>
  <dc:title>titulo</dc:title>
</cp:coreProperties>
</file>